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76EBC-1BA3-4C96-A120-3C6EBAD21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F396-672D-4956-83EB-9DDF686D7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421E5-FC13-40EF-8F41-15C4BF2C0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DA17B-98FF-485A-8C17-288FB88B5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E8B9-703B-4676-8C30-825B2B52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ADFF-74F7-4E96-9B0C-D66E6A5E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DDD5-23CC-4B47-88C6-F7B18F95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ACC5-A91B-4D79-B76C-5F72B0B1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901D-EE80-416B-8490-80BE95E5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3900-9AEB-43C4-9FBA-3460EF832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ED9D-385E-4400-9263-B0F4B324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DFA5-2B76-4815-B386-28265ECD3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5261-4887-42CB-A3D7-64F17F5381EB}"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90F6-D73C-404A-AA35-486E20B0764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http://www.ondadelsud.it/wp-content/uploads/2011/05/marco-tullio-cicerone.jpg"/>
          <p:cNvPicPr/>
          <p:nvPr/>
        </p:nvPicPr>
        <p:blipFill>
          <a:blip r:embed="rId1"/>
          <a:stretch/>
        </p:blipFill>
        <p:spPr>
          <a:xfrm>
            <a:off x="4344840" y="260280"/>
            <a:ext cx="4799160" cy="6597720"/>
          </a:xfrm>
          <a:prstGeom prst="rect">
            <a:avLst/>
          </a:prstGeom>
          <a:ln w="0">
            <a:noFill/>
          </a:ln>
        </p:spPr>
      </p:pic>
      <p:sp>
        <p:nvSpPr>
          <p:cNvPr id="42" name="PlaceHolder 1"/>
          <p:cNvSpPr>
            <a:spLocks noGrp="1"/>
          </p:cNvSpPr>
          <p:nvPr>
            <p:ph type="title"/>
          </p:nvPr>
        </p:nvSpPr>
        <p:spPr>
          <a:xfrm>
            <a:off x="-1405080" y="3644640"/>
            <a:ext cx="7772400" cy="1469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rco Tullio Cicerone</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retoriche: il “De oratore” “Brutus” e l’”Orator” </a:t>
            </a:r>
            <a:br>
              <a:rPr sz="2800"/>
            </a:br>
            <a:endParaRPr b="0" lang="en-US" sz="2800" spc="-1" strike="noStrike">
              <a:solidFill>
                <a:srgbClr val="000000"/>
              </a:solidFill>
              <a:latin typeface="Calibri"/>
            </a:endParaRPr>
          </a:p>
        </p:txBody>
      </p:sp>
      <p:sp>
        <p:nvSpPr>
          <p:cNvPr id="87" name=""/>
          <p:cNvSpPr txBox="1"/>
          <p:nvPr/>
        </p:nvSpPr>
        <p:spPr>
          <a:xfrm>
            <a:off x="468360" y="1123920"/>
            <a:ext cx="8229600" cy="5400720"/>
          </a:xfrm>
          <a:prstGeom prst="rect">
            <a:avLst/>
          </a:prstGeom>
          <a:noFill/>
          <a:ln w="28440">
            <a:solidFill>
              <a:srgbClr val="558ed5"/>
            </a:solidFill>
            <a:miter/>
          </a:ln>
        </p:spPr>
        <p:txBody>
          <a:bodyPr anchor="t">
            <a:normAutofit fontScale="96000"/>
          </a:bodyPr>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ORATORE (55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in 3 libri :  si immagina un dialogo fra amici nella villa di Tusculo di Licinio Crasso (platonico o aristotelico?) . Fra gli altri, Marco Antonio</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Crasso esprime le ragioni di Cicerone</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Si delinea il perfetto oratore</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e parti della retorica: 1) Inventio 2) Dispositio 3) Memoria 4) Elocutio  5) Actio</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BRUTUS (46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si immagina un dialogo fra Cicerone Attico Bruto</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Si delinea una storia dell’eloquenza</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ORATOR   (46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a:t>
            </a:r>
            <a:r>
              <a:rPr b="0" lang="it-IT" sz="1800" spc="-1" strike="noStrike">
                <a:solidFill>
                  <a:srgbClr val="000000"/>
                </a:solidFill>
                <a:latin typeface="Times New Roman"/>
                <a:ea typeface="Times New Roman"/>
              </a:rPr>
              <a:t>TRATTATO</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o scopo dell’oratore:</a:t>
            </a:r>
            <a:endParaRPr b="0" lang="en-US" sz="18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robare (stile umile)</a:t>
            </a:r>
            <a:endParaRPr b="0" lang="en-US" sz="14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lectare (stile medio)</a:t>
            </a:r>
            <a:endParaRPr b="0" lang="en-US" sz="14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vère flectere (stile alto)</a:t>
            </a:r>
            <a:endParaRPr b="0" lang="en-US" sz="14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 descr=""/>
          <p:cNvPicPr/>
          <p:nvPr/>
        </p:nvPicPr>
        <p:blipFill>
          <a:blip r:embed="rId1"/>
          <a:stretch/>
        </p:blipFill>
        <p:spPr>
          <a:xfrm>
            <a:off x="457200" y="1600200"/>
            <a:ext cx="822960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5068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politiche (dal 55 al 51 a.C.)</a:t>
            </a:r>
            <a:br>
              <a:rPr sz="2800"/>
            </a:br>
            <a:endParaRPr b="0" lang="en-US" sz="2800" spc="-1" strike="noStrike">
              <a:solidFill>
                <a:srgbClr val="000000"/>
              </a:solidFill>
              <a:latin typeface="Calibri"/>
            </a:endParaRPr>
          </a:p>
        </p:txBody>
      </p:sp>
      <p:sp>
        <p:nvSpPr>
          <p:cNvPr id="91"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REPUBLICA (54-51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in 6 libri . Solo nel 1820 i primi libri furono trovati in un palinsesto da A.Mai :  si immagina un dialogo fra gli amici del Circolo degli Scipioni nella villa di L.C.Scipione l'Emiliano. (G.Lelio, Furio Filo, Elio Tuberone etc) nostalgica rievocazione del Circolo degli Scipion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Le costituzioni. L’anaciclosi (Polibio </a:t>
            </a:r>
            <a:r>
              <a:rPr b="0" lang="it-IT" sz="1800" spc="-1" strike="noStrike">
                <a:solidFill>
                  <a:srgbClr val="000000"/>
                </a:solidFill>
                <a:latin typeface="Wingdings"/>
                <a:ea typeface="Wingdings"/>
              </a:rPr>
              <a:t></a:t>
            </a:r>
            <a:r>
              <a:rPr b="0" lang="it-IT" sz="1800" spc="-1" strike="noStrike">
                <a:solidFill>
                  <a:srgbClr val="000000"/>
                </a:solidFill>
                <a:latin typeface="Times New Roman"/>
                <a:ea typeface="Times New Roman"/>
              </a:rPr>
              <a:t> Aristotele).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Giustificazione dell'imperialismo romano. Contro Carneade (155 a.C. non esiste un  fondamento naturale della giustizia). Eseste una giustizia valida per tutti che ha un fondamento naturale e Roma ne è la portatric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Somnium Scipioni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LEGIBUS (52-51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fra Cicerone Attico e Quint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Esiste una giustizia naturale Leleggi romane esprimono il logo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filosofiche (dal 45 al 44 a.C.)     1/2</a:t>
            </a:r>
            <a:br>
              <a:rPr sz="2800"/>
            </a:br>
            <a:endParaRPr b="0" lang="en-US" sz="2800" spc="-1" strike="noStrike">
              <a:solidFill>
                <a:srgbClr val="000000"/>
              </a:solidFill>
              <a:latin typeface="Calibri"/>
            </a:endParaRPr>
          </a:p>
        </p:txBody>
      </p:sp>
      <p:sp>
        <p:nvSpPr>
          <p:cNvPr id="93"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nni difficili. </a:t>
            </a:r>
            <a:r>
              <a:rPr b="1" lang="it-IT" sz="1800" spc="-1" strike="noStrike">
                <a:solidFill>
                  <a:srgbClr val="000000"/>
                </a:solidFill>
                <a:latin typeface="Times New Roman"/>
                <a:ea typeface="Times New Roman"/>
              </a:rPr>
              <a:t>Cesare dittator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1) Cicerone estromesso dai giochi di poter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2) morte di Tullia</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Vuole “continuare il suo impegno di riformatore della società” (E.Narducci) attraverso la formazione  filosofica della classe dirigente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Lavora alla definizione dell’ideale di </a:t>
            </a:r>
            <a:r>
              <a:rPr b="1" i="1" lang="it-IT" sz="1800" spc="-1" strike="noStrike">
                <a:solidFill>
                  <a:srgbClr val="000000"/>
                </a:solidFill>
                <a:latin typeface="Times New Roman"/>
                <a:ea typeface="Times New Roman"/>
              </a:rPr>
              <a:t>humanita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Sistemi filosofici di riferiment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Stoicismo. </a:t>
            </a:r>
            <a:r>
              <a:rPr b="1" lang="it-IT" sz="1800" spc="-1" strike="noStrike">
                <a:solidFill>
                  <a:srgbClr val="000000"/>
                </a:solidFill>
                <a:latin typeface="Times New Roman"/>
                <a:ea typeface="Times New Roman"/>
              </a:rPr>
              <a:t>Panezio di Rod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ccademia platonica </a:t>
            </a:r>
            <a:r>
              <a:rPr b="1" lang="it-IT" sz="1800" spc="-1" strike="noStrike">
                <a:solidFill>
                  <a:srgbClr val="000000"/>
                </a:solidFill>
                <a:latin typeface="Times New Roman"/>
                <a:ea typeface="Times New Roman"/>
              </a:rPr>
              <a:t>. Antioco di Ascalonica (mediazione fra platonismo stoicismo aristotelism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Peripato aristotelico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ontro i filosofi greci che elaborano sistemi di pensieri sganciati dalla realtà che danno alla </a:t>
            </a:r>
            <a:r>
              <a:rPr b="0" i="1" lang="it-IT" sz="1800" spc="-1" strike="noStrike">
                <a:solidFill>
                  <a:srgbClr val="000000"/>
                </a:solidFill>
                <a:latin typeface="Times New Roman"/>
                <a:ea typeface="Times New Roman"/>
              </a:rPr>
              <a:t>sapientia </a:t>
            </a:r>
            <a:r>
              <a:rPr b="0" lang="it-IT" sz="1800" spc="-1" strike="noStrike">
                <a:solidFill>
                  <a:srgbClr val="000000"/>
                </a:solidFill>
                <a:latin typeface="Times New Roman"/>
                <a:ea typeface="Times New Roman"/>
              </a:rPr>
              <a:t>un</a:t>
            </a:r>
            <a:r>
              <a:rPr b="0" i="1" lang="it-IT" sz="1800" spc="-1" strike="noStrike">
                <a:solidFill>
                  <a:srgbClr val="000000"/>
                </a:solidFill>
                <a:latin typeface="Times New Roman"/>
                <a:ea typeface="Times New Roman"/>
              </a:rPr>
              <a:t> nomen invidiosum et obscurum. </a:t>
            </a:r>
            <a:r>
              <a:rPr b="0" lang="it-IT" sz="1800" spc="-1" strike="noStrike">
                <a:solidFill>
                  <a:srgbClr val="000000"/>
                </a:solidFill>
                <a:latin typeface="Times New Roman"/>
                <a:ea typeface="Times New Roman"/>
              </a:rPr>
              <a:t>La filosofia è complementare non sostitutiva del </a:t>
            </a:r>
            <a:r>
              <a:rPr b="0" i="1" lang="it-IT" sz="1800" spc="-1" strike="noStrike">
                <a:solidFill>
                  <a:srgbClr val="000000"/>
                </a:solidFill>
                <a:latin typeface="Times New Roman"/>
                <a:ea typeface="Times New Roman"/>
              </a:rPr>
              <a:t>mos maiorum</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filosofiche (dal 45 al 44 a.C.)     2/2</a:t>
            </a:r>
            <a:br>
              <a:rPr sz="2800"/>
            </a:br>
            <a:endParaRPr b="0" lang="en-US" sz="2800" spc="-1" strike="noStrike">
              <a:solidFill>
                <a:srgbClr val="000000"/>
              </a:solidFill>
              <a:latin typeface="Calibri"/>
            </a:endParaRPr>
          </a:p>
        </p:txBody>
      </p:sp>
      <p:sp>
        <p:nvSpPr>
          <p:cNvPr id="95"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FINIBUS         </a:t>
            </a:r>
            <a:r>
              <a:rPr b="1" lang="it-IT" sz="1800" spc="-1" strike="noStrike">
                <a:solidFill>
                  <a:srgbClr val="000000"/>
                </a:solidFill>
                <a:latin typeface="Times New Roman"/>
                <a:ea typeface="Times New Roman"/>
              </a:rPr>
              <a:t>3 dialoghi in 3 diverse ambientazion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cos’è il sommo bene? L’esercizio della </a:t>
            </a:r>
            <a:r>
              <a:rPr b="1" i="1" lang="it-IT" sz="1800" spc="-1" strike="noStrike">
                <a:solidFill>
                  <a:srgbClr val="000000"/>
                </a:solidFill>
                <a:latin typeface="Times New Roman"/>
                <a:ea typeface="Times New Roman"/>
              </a:rPr>
              <a:t>virtu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TUSCULANAE DISPUTATIONES  1 dialogo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Temi: dolore tristezza morte passioni virtù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CATO MAIOR DE SENECTUTE</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LAELIUS DE AMICITIA</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OFFICIIS</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Honestum e utile</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e </a:t>
            </a:r>
            <a:r>
              <a:rPr b="0" i="1" lang="it-IT" sz="2800" spc="-1" strike="noStrike">
                <a:solidFill>
                  <a:srgbClr val="000000"/>
                </a:solidFill>
                <a:latin typeface="Times New Roman"/>
                <a:ea typeface="Times New Roman"/>
              </a:rPr>
              <a:t>Epistulae</a:t>
            </a:r>
            <a:endParaRPr b="0" lang="en-US" sz="2800" spc="-1" strike="noStrike">
              <a:solidFill>
                <a:srgbClr val="000000"/>
              </a:solidFill>
              <a:latin typeface="Calibri"/>
            </a:endParaRPr>
          </a:p>
        </p:txBody>
      </p:sp>
      <p:sp>
        <p:nvSpPr>
          <p:cNvPr id="97"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D FAMILIARES</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ATTIC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QUINT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BRUT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ORATOR   (46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a:t>
            </a:r>
            <a:r>
              <a:rPr b="0" lang="it-IT" sz="1800" spc="-1" strike="noStrike">
                <a:solidFill>
                  <a:srgbClr val="000000"/>
                </a:solidFill>
                <a:latin typeface="Times New Roman"/>
                <a:ea typeface="Times New Roman"/>
              </a:rPr>
              <a:t>TRATTATO</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o scopo dell’oratore:</a:t>
            </a:r>
            <a:endParaRPr b="0" lang="en-US" sz="18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robare (stile umile)</a:t>
            </a:r>
            <a:endParaRPr b="0" lang="en-US" sz="14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lectare (stile medio)</a:t>
            </a:r>
            <a:endParaRPr b="0" lang="en-US" sz="14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vère flectere (stile alto)</a:t>
            </a: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0" name="Rettangolo 3"/>
          <p:cNvSpPr/>
          <p:nvPr/>
        </p:nvSpPr>
        <p:spPr>
          <a:xfrm>
            <a:off x="3995640" y="5589720"/>
            <a:ext cx="4392720" cy="46080"/>
          </a:xfrm>
          <a:prstGeom prst="rect">
            <a:avLst/>
          </a:prstGeom>
          <a:solidFill>
            <a:srgbClr val="4f81bd"/>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4"/>
          <p:cNvSpPr/>
          <p:nvPr/>
        </p:nvSpPr>
        <p:spPr>
          <a:xfrm>
            <a:off x="4788000" y="1484280"/>
            <a:ext cx="936360" cy="410544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5"/>
          <p:cNvSpPr/>
          <p:nvPr/>
        </p:nvSpPr>
        <p:spPr>
          <a:xfrm>
            <a:off x="6588000" y="4076640"/>
            <a:ext cx="792360" cy="151308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asellaDiTesto 6"/>
          <p:cNvSpPr/>
          <p:nvPr/>
        </p:nvSpPr>
        <p:spPr>
          <a:xfrm>
            <a:off x="6372360" y="566100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Componente razionale</a:t>
            </a:r>
            <a:endParaRPr b="0" lang="en-US" sz="1200" spc="-1" strike="noStrike">
              <a:solidFill>
                <a:srgbClr val="000000"/>
              </a:solidFill>
              <a:latin typeface="Arial"/>
            </a:endParaRPr>
          </a:p>
        </p:txBody>
      </p:sp>
      <p:sp>
        <p:nvSpPr>
          <p:cNvPr id="104" name="CasellaDiTesto 7"/>
          <p:cNvSpPr/>
          <p:nvPr/>
        </p:nvSpPr>
        <p:spPr>
          <a:xfrm>
            <a:off x="4500720" y="5661000"/>
            <a:ext cx="172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Componente emotiva</a:t>
            </a:r>
            <a:endParaRPr b="0" lang="en-US" sz="1200" spc="-1" strike="noStrike">
              <a:solidFill>
                <a:srgbClr val="000000"/>
              </a:solidFill>
              <a:latin typeface="Arial"/>
            </a:endParaRPr>
          </a:p>
        </p:txBody>
      </p:sp>
      <p:sp>
        <p:nvSpPr>
          <p:cNvPr id="105" name="CasellaDiTesto 8"/>
          <p:cNvSpPr/>
          <p:nvPr/>
        </p:nvSpPr>
        <p:spPr>
          <a:xfrm>
            <a:off x="250920" y="4149720"/>
            <a:ext cx="3816360" cy="91692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a funzione persuasiva gioca una ruolo predominante la componente emotiva</a:t>
            </a:r>
            <a:endParaRPr b="0" lang="en-US" sz="1800" spc="-1" strike="noStrike">
              <a:solidFill>
                <a:srgbClr val="000000"/>
              </a:solidFill>
              <a:latin typeface="Arial"/>
            </a:endParaRPr>
          </a:p>
        </p:txBody>
      </p:sp>
      <p:sp>
        <p:nvSpPr>
          <p:cNvPr id="106" name="Freccia in giù 9"/>
          <p:cNvSpPr/>
          <p:nvPr/>
        </p:nvSpPr>
        <p:spPr>
          <a:xfrm>
            <a:off x="1763640" y="3429000"/>
            <a:ext cx="360360" cy="576360"/>
          </a:xfrm>
          <a:prstGeom prst="down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133360"/>
            <a:ext cx="9658440" cy="38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Times New Roman"/>
                <a:ea typeface="Times New Roman"/>
              </a:rPr>
              <a:t>L'occasione che era soprattutto desiderabile, o giudici, l'occasione che più d'ogni altra</a:t>
            </a:r>
            <a:br>
              <a:rPr sz="1800"/>
            </a:br>
            <a:r>
              <a:rPr b="0" lang="it-IT" sz="1800" spc="-1" strike="noStrike">
                <a:solidFill>
                  <a:srgbClr val="000000"/>
                </a:solidFill>
                <a:latin typeface="Times New Roman"/>
                <a:ea typeface="Times New Roman"/>
              </a:rPr>
              <a:t>serviva a placare l'ostilità verso la vostra classe e il discredito dell'amministrazione</a:t>
            </a:r>
            <a:br>
              <a:rPr sz="1800"/>
            </a:br>
            <a:r>
              <a:rPr b="0" lang="it-IT" sz="1800" spc="-1" strike="noStrike">
                <a:solidFill>
                  <a:srgbClr val="000000"/>
                </a:solidFill>
                <a:latin typeface="Times New Roman"/>
                <a:ea typeface="Times New Roman"/>
              </a:rPr>
              <a:t>giudiziaria sembra data e offerta a voi, in un momento critico per lo stato, non per</a:t>
            </a:r>
            <a:br>
              <a:rPr sz="1800"/>
            </a:br>
            <a:r>
              <a:rPr b="0" lang="it-IT" sz="1800" spc="-1" strike="noStrike">
                <a:solidFill>
                  <a:srgbClr val="000000"/>
                </a:solidFill>
                <a:latin typeface="Times New Roman"/>
                <a:ea typeface="Times New Roman"/>
              </a:rPr>
              <a:t>decisione umana ma quasi per volere divino. Già da tempo infatti è invalsa questa</a:t>
            </a:r>
            <a:br>
              <a:rPr sz="1800"/>
            </a:br>
            <a:r>
              <a:rPr b="0" lang="it-IT" sz="1800" spc="-1" strike="noStrike">
                <a:solidFill>
                  <a:srgbClr val="000000"/>
                </a:solidFill>
                <a:latin typeface="Times New Roman"/>
                <a:ea typeface="Times New Roman"/>
              </a:rPr>
              <a:t>opinione, dannosa per lo stato e pericolosa per voi, che si è diffusa per i discorsi di tutti</a:t>
            </a:r>
            <a:br>
              <a:rPr sz="1800"/>
            </a:br>
            <a:r>
              <a:rPr b="0" lang="it-IT" sz="1800" spc="-1" strike="noStrike">
                <a:solidFill>
                  <a:srgbClr val="000000"/>
                </a:solidFill>
                <a:latin typeface="Times New Roman"/>
                <a:ea typeface="Times New Roman"/>
              </a:rPr>
              <a:t>non solo fra il popolo romano ma anche fra le nazioni estere: con l'attuale</a:t>
            </a:r>
            <a:br>
              <a:rPr sz="1800"/>
            </a:br>
            <a:r>
              <a:rPr b="0" lang="it-IT" sz="1800" spc="-1" strike="noStrike">
                <a:solidFill>
                  <a:srgbClr val="000000"/>
                </a:solidFill>
                <a:latin typeface="Times New Roman"/>
                <a:ea typeface="Times New Roman"/>
              </a:rPr>
              <a:t>amministrazione della giustizia un uomo danaroso, colpevole quanto si voglia, non può in</a:t>
            </a:r>
            <a:br>
              <a:rPr sz="1800"/>
            </a:br>
            <a:r>
              <a:rPr b="0" lang="it-IT" sz="1800" spc="-1" strike="noStrike">
                <a:solidFill>
                  <a:srgbClr val="000000"/>
                </a:solidFill>
                <a:latin typeface="Times New Roman"/>
                <a:ea typeface="Times New Roman"/>
              </a:rPr>
              <a:t>nessun caso essere condannato. </a:t>
            </a:r>
            <a:br>
              <a:rPr sz="1800"/>
            </a:br>
            <a:br>
              <a:rPr sz="1800"/>
            </a:br>
            <a:r>
              <a:rPr b="0" lang="it-IT" sz="1800" spc="-1" strike="noStrike">
                <a:solidFill>
                  <a:srgbClr val="000000"/>
                </a:solidFill>
                <a:latin typeface="Times New Roman"/>
                <a:ea typeface="Times New Roman"/>
              </a:rPr>
              <a:t>Ora proprio al culmine della crisi per la vostra classe e per</a:t>
            </a:r>
            <a:br>
              <a:rPr sz="1800"/>
            </a:br>
            <a:r>
              <a:rPr b="0" lang="it-IT" sz="1800" spc="-1" strike="noStrike">
                <a:solidFill>
                  <a:srgbClr val="000000"/>
                </a:solidFill>
                <a:latin typeface="Times New Roman"/>
                <a:ea typeface="Times New Roman"/>
              </a:rPr>
              <a:t>la vostra amministrazione giudiziaria, mentre sono pronti coloro che si accingono ad</a:t>
            </a:r>
            <a:br>
              <a:rPr sz="1800"/>
            </a:br>
            <a:r>
              <a:rPr b="0" lang="it-IT" sz="1800" spc="-1" strike="noStrike">
                <a:solidFill>
                  <a:srgbClr val="000000"/>
                </a:solidFill>
                <a:latin typeface="Times New Roman"/>
                <a:ea typeface="Times New Roman"/>
              </a:rPr>
              <a:t>inasprire l'ostilità verso il Senato con adunanze del popolo e proposte di legge, è stato</a:t>
            </a:r>
            <a:br>
              <a:rPr sz="1800"/>
            </a:br>
            <a:r>
              <a:rPr b="0" lang="it-IT" sz="1800" spc="-1" strike="noStrike">
                <a:solidFill>
                  <a:srgbClr val="000000"/>
                </a:solidFill>
                <a:latin typeface="Times New Roman"/>
                <a:ea typeface="Times New Roman"/>
              </a:rPr>
              <a:t>posto a processo Gaio Verre, un uomo che secondo l'opinione generale è già condannato</a:t>
            </a:r>
            <a:br>
              <a:rPr sz="1800"/>
            </a:br>
            <a:r>
              <a:rPr b="0" lang="it-IT" sz="1800" spc="-1" strike="noStrike">
                <a:solidFill>
                  <a:srgbClr val="000000"/>
                </a:solidFill>
                <a:latin typeface="Times New Roman"/>
                <a:ea typeface="Times New Roman"/>
              </a:rPr>
              <a:t>posto a processo Gaio Verre, un uomo che secondo l'opinione generale è già condannato</a:t>
            </a:r>
            <a:br>
              <a:rPr sz="1800"/>
            </a:br>
            <a:r>
              <a:rPr b="0" lang="it-IT" sz="1800" spc="-1" strike="noStrike">
                <a:solidFill>
                  <a:srgbClr val="000000"/>
                </a:solidFill>
                <a:latin typeface="Times New Roman"/>
                <a:ea typeface="Times New Roman"/>
              </a:rPr>
              <a:t>per la sua vita e le sue azioni, ma secondo la sua personale fiducia e le sue pubbliche</a:t>
            </a:r>
            <a:br>
              <a:rPr sz="1800"/>
            </a:br>
            <a:r>
              <a:rPr b="0" lang="it-IT" sz="1800" spc="-1" strike="noStrike">
                <a:solidFill>
                  <a:srgbClr val="000000"/>
                </a:solidFill>
                <a:latin typeface="Times New Roman"/>
                <a:ea typeface="Times New Roman"/>
              </a:rPr>
              <a:t>osservazioni è assolto per la grande quantità del suo denaro. Io ho assunto questa causa,</a:t>
            </a:r>
            <a:br>
              <a:rPr sz="1800"/>
            </a:br>
            <a:r>
              <a:rPr b="0" lang="it-IT" sz="1800" spc="-1" strike="noStrike">
                <a:solidFill>
                  <a:srgbClr val="000000"/>
                </a:solidFill>
                <a:latin typeface="Times New Roman"/>
                <a:ea typeface="Times New Roman"/>
              </a:rPr>
              <a:t>giudici, con pieno consenso e vivissima attesa da parte del popolo romano, non per</a:t>
            </a:r>
            <a:br>
              <a:rPr sz="1800"/>
            </a:br>
            <a:r>
              <a:rPr b="0" lang="it-IT" sz="1800" spc="-1" strike="noStrike">
                <a:solidFill>
                  <a:srgbClr val="000000"/>
                </a:solidFill>
                <a:latin typeface="Times New Roman"/>
                <a:ea typeface="Times New Roman"/>
              </a:rPr>
              <a:t>accrescere l'ostilità verso una classe sociale ma per porre rimedio al discredito generale</a:t>
            </a:r>
            <a:r>
              <a:rPr b="0" lang="it-IT" sz="1800" spc="-1" strike="noStrike">
                <a:solidFill>
                  <a:srgbClr val="000000"/>
                </a:solidFill>
                <a:latin typeface="Calibri"/>
              </a:rPr>
              <a:t>.</a:t>
            </a:r>
            <a:endParaRPr b="0" lang="en-US" sz="1800" spc="-1" strike="noStrike">
              <a:solidFill>
                <a:srgbClr val="000000"/>
              </a:solidFill>
              <a:latin typeface="Calibri"/>
            </a:endParaRPr>
          </a:p>
        </p:txBody>
      </p:sp>
      <p:sp>
        <p:nvSpPr>
          <p:cNvPr id="108" name="CasellaDiTesto 14"/>
          <p:cNvSpPr/>
          <p:nvPr/>
        </p:nvSpPr>
        <p:spPr>
          <a:xfrm>
            <a:off x="468360" y="115920"/>
            <a:ext cx="7488360" cy="12214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it-IT" sz="2800" spc="-1" strike="noStrike">
                <a:solidFill>
                  <a:srgbClr val="000000"/>
                </a:solidFill>
                <a:latin typeface="Times New Roman"/>
                <a:ea typeface="Times New Roman"/>
              </a:rPr>
              <a:t>Actio prima in Verr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ttangolo 2"/>
          <p:cNvSpPr/>
          <p:nvPr/>
        </p:nvSpPr>
        <p:spPr>
          <a:xfrm>
            <a:off x="250920" y="476280"/>
            <a:ext cx="85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nfatti ho portato in tribunale un uomo che vi desse la possibilità di ristabilire</a:t>
            </a:r>
            <a:br>
              <a:rPr sz="1800"/>
            </a:br>
            <a:r>
              <a:rPr b="0" lang="it-IT" sz="1800" spc="-1" strike="noStrike">
                <a:solidFill>
                  <a:srgbClr val="000000"/>
                </a:solidFill>
                <a:latin typeface="Times New Roman"/>
                <a:ea typeface="Times New Roman"/>
              </a:rPr>
              <a:t>nell'amministrazione giudiziaria la stima perduta, di riconquistare il favore del popolo</a:t>
            </a:r>
            <a:br>
              <a:rPr sz="1800"/>
            </a:br>
            <a:r>
              <a:rPr b="0" lang="it-IT" sz="1800" spc="-1" strike="noStrike">
                <a:solidFill>
                  <a:srgbClr val="000000"/>
                </a:solidFill>
                <a:latin typeface="Times New Roman"/>
                <a:ea typeface="Times New Roman"/>
              </a:rPr>
              <a:t>romano, di dare soddisfazione alle nazioni straniere, un uomo che è stato dilapidatore del</a:t>
            </a:r>
            <a:br>
              <a:rPr sz="1800"/>
            </a:br>
            <a:r>
              <a:rPr b="0" lang="it-IT" sz="1800" spc="-1" strike="noStrike">
                <a:solidFill>
                  <a:srgbClr val="000000"/>
                </a:solidFill>
                <a:latin typeface="Times New Roman"/>
                <a:ea typeface="Times New Roman"/>
              </a:rPr>
              <a:t>denaro pubblico, persecutore dell'Asia e della Panfila, pirata della giustizia nelle cause fra</a:t>
            </a:r>
            <a:br>
              <a:rPr sz="1800"/>
            </a:br>
            <a:r>
              <a:rPr b="0" lang="it-IT" sz="1800" spc="-1" strike="noStrike">
                <a:solidFill>
                  <a:srgbClr val="000000"/>
                </a:solidFill>
                <a:latin typeface="Times New Roman"/>
                <a:ea typeface="Times New Roman"/>
              </a:rPr>
              <a:t>cittadini, rovina e flagello della provincia di Sicilia. Se voi lo giudicherete con imparzialità e</a:t>
            </a:r>
            <a:br>
              <a:rPr sz="1800"/>
            </a:br>
            <a:r>
              <a:rPr b="0" lang="it-IT" sz="1800" spc="-1" strike="noStrike">
                <a:solidFill>
                  <a:srgbClr val="000000"/>
                </a:solidFill>
                <a:latin typeface="Times New Roman"/>
                <a:ea typeface="Times New Roman"/>
              </a:rPr>
              <a:t>scrupolo coscenzioso, resterà salda l'autorità che deve rimanere in vo; se invece le enormi</a:t>
            </a:r>
            <a:br>
              <a:rPr sz="1800"/>
            </a:br>
            <a:r>
              <a:rPr b="0" lang="it-IT" sz="1800" spc="-1" strike="noStrike">
                <a:solidFill>
                  <a:srgbClr val="000000"/>
                </a:solidFill>
                <a:latin typeface="Times New Roman"/>
                <a:ea typeface="Times New Roman"/>
              </a:rPr>
              <a:t>ricchezze di costui infrangeranno lo scrupolo coscenzioso e l'imparzialità dei processi, io</a:t>
            </a:r>
            <a:br>
              <a:rPr sz="1800"/>
            </a:br>
            <a:r>
              <a:rPr b="0" lang="it-IT" sz="1800" spc="-1" strike="noStrike">
                <a:solidFill>
                  <a:srgbClr val="000000"/>
                </a:solidFill>
                <a:latin typeface="Times New Roman"/>
                <a:ea typeface="Times New Roman"/>
              </a:rPr>
              <a:t>raggiungerò pur sempre questo scopo: risulterà che è venuto mancare un processo allo</a:t>
            </a:r>
            <a:br>
              <a:rPr sz="1800"/>
            </a:br>
            <a:r>
              <a:rPr b="0" lang="it-IT" sz="1800" spc="-1" strike="noStrike">
                <a:solidFill>
                  <a:srgbClr val="000000"/>
                </a:solidFill>
                <a:latin typeface="Times New Roman"/>
                <a:ea typeface="Times New Roman"/>
              </a:rPr>
              <a:t>stato piuttosto che un imputato ai giudici o un'accusatore all'impu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Times New Roman"/>
                <a:ea typeface="Times New Roman"/>
              </a:rPr>
              <a:t>Giudici, quello che più c'era da augurarsi, e quello che solo era necessario a porre fine</a:t>
            </a:r>
            <a:br>
              <a:rPr sz="1800"/>
            </a:br>
            <a:r>
              <a:rPr b="0" lang="it-IT" sz="1800" spc="-1" strike="noStrike">
                <a:solidFill>
                  <a:srgbClr val="000000"/>
                </a:solidFill>
                <a:latin typeface="Times New Roman"/>
                <a:ea typeface="Times New Roman"/>
              </a:rPr>
              <a:t>all'odio verso la vostra classe (dei senatori, N.d.T.) ed al discredito dell'ordine giudiziario,</a:t>
            </a:r>
            <a:br>
              <a:rPr sz="1800"/>
            </a:br>
            <a:r>
              <a:rPr b="0" lang="it-IT" sz="1800" spc="-1" strike="noStrike">
                <a:solidFill>
                  <a:srgbClr val="000000"/>
                </a:solidFill>
                <a:latin typeface="Times New Roman"/>
                <a:ea typeface="Times New Roman"/>
              </a:rPr>
              <a:t>sembra vi sia stato dato, anzi, offerto da una mano non umana, ma quasi (direi) divina, in</a:t>
            </a:r>
            <a:br>
              <a:rPr sz="1800"/>
            </a:br>
            <a:r>
              <a:rPr b="0" lang="it-IT" sz="1800" spc="-1" strike="noStrike">
                <a:solidFill>
                  <a:srgbClr val="000000"/>
                </a:solidFill>
                <a:latin typeface="Times New Roman"/>
                <a:ea typeface="Times New Roman"/>
              </a:rPr>
              <a:t>un momento delicatissimo per il nostro Stato repubblicano. Infatti l'opinione, dannosa allo Stato e pericolosa per voi, secondo la quale con l'attuale sistema giudiziario nessun uomo ricco, sebbene colpevole, possa mai essere condannato, si è ormai diffusa ed alimentata per comune diceria non solo fra noi </a:t>
            </a:r>
            <a:r>
              <a:rPr b="0" lang="it-IT" sz="1800" spc="-1" strike="noStrike">
                <a:solidFill>
                  <a:srgbClr val="000000"/>
                </a:solidFill>
                <a:latin typeface="Calibri"/>
              </a:rPr>
              <a:t>ma anche nei paesi esteri</a:t>
            </a:r>
            <a:endParaRPr b="0" lang="en-US" sz="1800" spc="-1" strike="noStrike">
              <a:solidFill>
                <a:srgbClr val="000000"/>
              </a:solidFill>
              <a:latin typeface="Arial"/>
            </a:endParaRPr>
          </a:p>
        </p:txBody>
      </p:sp>
      <p:grpSp>
        <p:nvGrpSpPr>
          <p:cNvPr id="110" name="Gruppo 13"/>
          <p:cNvGrpSpPr/>
          <p:nvPr/>
        </p:nvGrpSpPr>
        <p:grpSpPr>
          <a:xfrm>
            <a:off x="320760" y="609480"/>
            <a:ext cx="8350200" cy="4248360"/>
            <a:chOff x="320760" y="609480"/>
            <a:chExt cx="8350200" cy="4248360"/>
          </a:xfrm>
        </p:grpSpPr>
        <p:sp>
          <p:nvSpPr>
            <p:cNvPr id="111" name="8547fde8-c608-402d-89d8-ee55cf27d0a3"/>
            <p:cNvSpPr/>
            <p:nvPr/>
          </p:nvSpPr>
          <p:spPr>
            <a:xfrm>
              <a:off x="481320" y="910800"/>
              <a:ext cx="2991600" cy="94680"/>
            </a:xfrm>
            <a:custGeom>
              <a:avLst/>
              <a:gdLst>
                <a:gd name="textAreaLeft" fmla="*/ 0 w 2991600"/>
                <a:gd name="textAreaRight" fmla="*/ 2991960 w 2991600"/>
                <a:gd name="textAreaTop" fmla="*/ 0 h 94680"/>
                <a:gd name="textAreaBottom" fmla="*/ 95040 h 94680"/>
              </a:gdLst>
              <a:ahLst/>
              <a:rect l="textAreaLeft" t="textAreaTop" r="textAreaRight" b="textAreaBottom"/>
              <a:pathLst>
                <a:path w="2991445" h="94878">
                  <a:moveTo>
                    <a:pt x="0" y="88739"/>
                  </a:moveTo>
                  <a:lnTo>
                    <a:pt x="29580" y="85948"/>
                  </a:lnTo>
                  <a:lnTo>
                    <a:pt x="53020" y="83716"/>
                  </a:lnTo>
                  <a:lnTo>
                    <a:pt x="71996" y="83158"/>
                  </a:lnTo>
                  <a:lnTo>
                    <a:pt x="104366" y="88181"/>
                  </a:lnTo>
                  <a:lnTo>
                    <a:pt x="128922" y="91530"/>
                  </a:lnTo>
                  <a:lnTo>
                    <a:pt x="157386" y="93762"/>
                  </a:lnTo>
                  <a:lnTo>
                    <a:pt x="179152" y="94878"/>
                  </a:lnTo>
                  <a:lnTo>
                    <a:pt x="211522" y="92646"/>
                  </a:lnTo>
                  <a:lnTo>
                    <a:pt x="236637" y="90971"/>
                  </a:lnTo>
                  <a:lnTo>
                    <a:pt x="270681" y="87065"/>
                  </a:lnTo>
                  <a:lnTo>
                    <a:pt x="296912" y="84274"/>
                  </a:lnTo>
                  <a:lnTo>
                    <a:pt x="334863" y="79809"/>
                  </a:lnTo>
                  <a:lnTo>
                    <a:pt x="363885" y="76461"/>
                  </a:lnTo>
                  <a:lnTo>
                    <a:pt x="402952" y="71438"/>
                  </a:lnTo>
                  <a:lnTo>
                    <a:pt x="433648" y="68089"/>
                  </a:lnTo>
                  <a:lnTo>
                    <a:pt x="476622" y="63066"/>
                  </a:lnTo>
                  <a:lnTo>
                    <a:pt x="509550" y="59159"/>
                  </a:lnTo>
                  <a:lnTo>
                    <a:pt x="556431" y="54136"/>
                  </a:lnTo>
                  <a:lnTo>
                    <a:pt x="593266" y="50230"/>
                  </a:lnTo>
                  <a:lnTo>
                    <a:pt x="639031" y="47997"/>
                  </a:lnTo>
                  <a:lnTo>
                    <a:pt x="674750" y="46323"/>
                  </a:lnTo>
                  <a:lnTo>
                    <a:pt x="720514" y="42416"/>
                  </a:lnTo>
                  <a:lnTo>
                    <a:pt x="755675" y="39626"/>
                  </a:lnTo>
                  <a:lnTo>
                    <a:pt x="798091" y="35161"/>
                  </a:lnTo>
                  <a:lnTo>
                    <a:pt x="831019" y="31812"/>
                  </a:lnTo>
                  <a:lnTo>
                    <a:pt x="875110" y="30138"/>
                  </a:lnTo>
                  <a:lnTo>
                    <a:pt x="909154" y="28464"/>
                  </a:lnTo>
                  <a:lnTo>
                    <a:pt x="951012" y="27906"/>
                  </a:lnTo>
                  <a:lnTo>
                    <a:pt x="983382" y="27347"/>
                  </a:lnTo>
                  <a:lnTo>
                    <a:pt x="1027472" y="26789"/>
                  </a:lnTo>
                  <a:lnTo>
                    <a:pt x="1061517" y="26789"/>
                  </a:lnTo>
                  <a:lnTo>
                    <a:pt x="1103375" y="23441"/>
                  </a:lnTo>
                  <a:lnTo>
                    <a:pt x="1135745" y="21208"/>
                  </a:lnTo>
                  <a:lnTo>
                    <a:pt x="1176486" y="16743"/>
                  </a:lnTo>
                  <a:lnTo>
                    <a:pt x="1208298" y="13395"/>
                  </a:lnTo>
                  <a:lnTo>
                    <a:pt x="1249040" y="8930"/>
                  </a:lnTo>
                  <a:lnTo>
                    <a:pt x="1280294" y="5581"/>
                  </a:lnTo>
                  <a:lnTo>
                    <a:pt x="1320478" y="3349"/>
                  </a:lnTo>
                  <a:lnTo>
                    <a:pt x="1351732" y="2233"/>
                  </a:lnTo>
                  <a:lnTo>
                    <a:pt x="1395264" y="1116"/>
                  </a:lnTo>
                  <a:lnTo>
                    <a:pt x="1428750" y="558"/>
                  </a:lnTo>
                  <a:lnTo>
                    <a:pt x="1473399" y="0"/>
                  </a:lnTo>
                  <a:lnTo>
                    <a:pt x="1507443" y="0"/>
                  </a:lnTo>
                  <a:lnTo>
                    <a:pt x="1552091" y="0"/>
                  </a:lnTo>
                  <a:lnTo>
                    <a:pt x="1586694" y="0"/>
                  </a:lnTo>
                  <a:lnTo>
                    <a:pt x="1629110" y="2791"/>
                  </a:lnTo>
                  <a:lnTo>
                    <a:pt x="1661480" y="5023"/>
                  </a:lnTo>
                  <a:lnTo>
                    <a:pt x="1702780" y="8930"/>
                  </a:lnTo>
                  <a:lnTo>
                    <a:pt x="1734592" y="12279"/>
                  </a:lnTo>
                  <a:lnTo>
                    <a:pt x="1772543" y="13953"/>
                  </a:lnTo>
                  <a:lnTo>
                    <a:pt x="1801565" y="15069"/>
                  </a:lnTo>
                  <a:lnTo>
                    <a:pt x="1840632" y="18976"/>
                  </a:lnTo>
                  <a:lnTo>
                    <a:pt x="1870770" y="21766"/>
                  </a:lnTo>
                  <a:lnTo>
                    <a:pt x="1907605" y="26231"/>
                  </a:lnTo>
                  <a:lnTo>
                    <a:pt x="1936626" y="29580"/>
                  </a:lnTo>
                  <a:lnTo>
                    <a:pt x="1975693" y="31254"/>
                  </a:lnTo>
                  <a:lnTo>
                    <a:pt x="2005273" y="32928"/>
                  </a:lnTo>
                  <a:lnTo>
                    <a:pt x="2042108" y="33487"/>
                  </a:lnTo>
                  <a:lnTo>
                    <a:pt x="2070571" y="34603"/>
                  </a:lnTo>
                  <a:lnTo>
                    <a:pt x="2109639" y="37951"/>
                  </a:lnTo>
                  <a:lnTo>
                    <a:pt x="2139219" y="40184"/>
                  </a:lnTo>
                  <a:lnTo>
                    <a:pt x="2173263" y="38510"/>
                  </a:lnTo>
                  <a:lnTo>
                    <a:pt x="2199495" y="37393"/>
                  </a:lnTo>
                  <a:lnTo>
                    <a:pt x="2234097" y="36835"/>
                  </a:lnTo>
                  <a:lnTo>
                    <a:pt x="2260885" y="36277"/>
                  </a:lnTo>
                  <a:lnTo>
                    <a:pt x="2298837" y="35719"/>
                  </a:lnTo>
                  <a:lnTo>
                    <a:pt x="2327859" y="35719"/>
                  </a:lnTo>
                  <a:lnTo>
                    <a:pt x="2364135" y="32370"/>
                  </a:lnTo>
                  <a:lnTo>
                    <a:pt x="2392599" y="30138"/>
                  </a:lnTo>
                  <a:lnTo>
                    <a:pt x="2431109" y="31812"/>
                  </a:lnTo>
                  <a:lnTo>
                    <a:pt x="2461245" y="32928"/>
                  </a:lnTo>
                  <a:lnTo>
                    <a:pt x="2498081" y="33487"/>
                  </a:lnTo>
                  <a:lnTo>
                    <a:pt x="2525985" y="34603"/>
                  </a:lnTo>
                  <a:lnTo>
                    <a:pt x="2561705" y="37951"/>
                  </a:lnTo>
                  <a:lnTo>
                    <a:pt x="2589611" y="40184"/>
                  </a:lnTo>
                  <a:lnTo>
                    <a:pt x="2625329" y="44649"/>
                  </a:lnTo>
                  <a:lnTo>
                    <a:pt x="2652675" y="47439"/>
                  </a:lnTo>
                  <a:lnTo>
                    <a:pt x="2685047" y="49114"/>
                  </a:lnTo>
                  <a:lnTo>
                    <a:pt x="2710161" y="50788"/>
                  </a:lnTo>
                  <a:lnTo>
                    <a:pt x="2744205" y="51346"/>
                  </a:lnTo>
                  <a:lnTo>
                    <a:pt x="2770437" y="51904"/>
                  </a:lnTo>
                  <a:lnTo>
                    <a:pt x="2805039" y="49114"/>
                  </a:lnTo>
                  <a:lnTo>
                    <a:pt x="2831827" y="47439"/>
                  </a:lnTo>
                  <a:lnTo>
                    <a:pt x="2866989" y="43532"/>
                  </a:lnTo>
                  <a:lnTo>
                    <a:pt x="2893777" y="40184"/>
                  </a:lnTo>
                  <a:lnTo>
                    <a:pt x="2914985" y="37951"/>
                  </a:lnTo>
                  <a:lnTo>
                    <a:pt x="2931171" y="36835"/>
                  </a:lnTo>
                  <a:lnTo>
                    <a:pt x="2959075" y="35161"/>
                  </a:lnTo>
                  <a:lnTo>
                    <a:pt x="2973587" y="35161"/>
                  </a:lnTo>
                  <a:lnTo>
                    <a:pt x="2991445" y="35161"/>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2" name="bd6c16db-8068-4bbf-9b1c-bb693a49edd9"/>
            <p:cNvSpPr/>
            <p:nvPr/>
          </p:nvSpPr>
          <p:spPr>
            <a:xfrm>
              <a:off x="3571560" y="910080"/>
              <a:ext cx="608760" cy="80280"/>
            </a:xfrm>
            <a:custGeom>
              <a:avLst/>
              <a:gdLst>
                <a:gd name="textAreaLeft" fmla="*/ 0 w 608760"/>
                <a:gd name="textAreaRight" fmla="*/ 608760 w 608760"/>
                <a:gd name="textAreaTop" fmla="*/ 0 h 80280"/>
                <a:gd name="textAreaBottom" fmla="*/ 80640 h 80280"/>
              </a:gdLst>
              <a:ahLst/>
              <a:rect l="textAreaLeft" t="textAreaTop" r="textAreaRight" b="textAreaBottom"/>
              <a:pathLst>
                <a:path w="608893" h="80367">
                  <a:moveTo>
                    <a:pt x="0" y="80367"/>
                  </a:moveTo>
                  <a:lnTo>
                    <a:pt x="11720" y="64182"/>
                  </a:lnTo>
                  <a:lnTo>
                    <a:pt x="37393" y="49113"/>
                  </a:lnTo>
                  <a:lnTo>
                    <a:pt x="57485" y="37393"/>
                  </a:lnTo>
                  <a:lnTo>
                    <a:pt x="91529" y="27905"/>
                  </a:lnTo>
                  <a:lnTo>
                    <a:pt x="118318" y="21208"/>
                  </a:lnTo>
                  <a:lnTo>
                    <a:pt x="152921" y="17301"/>
                  </a:lnTo>
                  <a:lnTo>
                    <a:pt x="179710" y="14511"/>
                  </a:lnTo>
                  <a:lnTo>
                    <a:pt x="214871" y="15627"/>
                  </a:lnTo>
                  <a:lnTo>
                    <a:pt x="242218" y="16743"/>
                  </a:lnTo>
                  <a:lnTo>
                    <a:pt x="280169" y="20092"/>
                  </a:lnTo>
                  <a:lnTo>
                    <a:pt x="309749" y="22882"/>
                  </a:lnTo>
                  <a:lnTo>
                    <a:pt x="346025" y="27347"/>
                  </a:lnTo>
                  <a:lnTo>
                    <a:pt x="374489" y="30138"/>
                  </a:lnTo>
                  <a:lnTo>
                    <a:pt x="412998" y="31812"/>
                  </a:lnTo>
                  <a:lnTo>
                    <a:pt x="443136" y="33486"/>
                  </a:lnTo>
                  <a:lnTo>
                    <a:pt x="479971" y="34045"/>
                  </a:lnTo>
                  <a:lnTo>
                    <a:pt x="507876" y="34603"/>
                  </a:lnTo>
                  <a:lnTo>
                    <a:pt x="529642" y="34603"/>
                  </a:lnTo>
                  <a:lnTo>
                    <a:pt x="563687" y="31812"/>
                  </a:lnTo>
                  <a:lnTo>
                    <a:pt x="588243" y="29580"/>
                  </a:lnTo>
                  <a:lnTo>
                    <a:pt x="603312" y="27347"/>
                  </a:lnTo>
                  <a:lnTo>
                    <a:pt x="608893" y="24557"/>
                  </a:lnTo>
                  <a:lnTo>
                    <a:pt x="604428" y="20650"/>
                  </a:lnTo>
                  <a:lnTo>
                    <a:pt x="591034" y="15627"/>
                  </a:lnTo>
                  <a:lnTo>
                    <a:pt x="568151" y="8930"/>
                  </a:lnTo>
                  <a:lnTo>
                    <a:pt x="535781" y="0"/>
                  </a:lnTo>
                </a:path>
              </a:pathLst>
            </a:custGeom>
            <a:noFill/>
            <a:ln w="106920">
              <a:solidFill>
                <a:srgbClr val="ffff00">
                  <a:alpha val="50000"/>
                </a:srgbClr>
              </a:solidFill>
              <a:round/>
            </a:ln>
          </p:spPr>
          <p:style>
            <a:lnRef idx="0"/>
            <a:fillRef idx="0"/>
            <a:effectRef idx="0"/>
            <a:fontRef idx="minor"/>
          </p:style>
          <p:txBody>
            <a:bodyPr lIns="90000" rIns="90000" tIns="33840" bIns="33840" anchor="ctr" anchorCtr="1">
              <a:noAutofit/>
            </a:bodyPr>
            <a:p>
              <a:endParaRPr b="0" lang="en-US" sz="1800" spc="-1" strike="noStrike">
                <a:solidFill>
                  <a:srgbClr val="000000"/>
                </a:solidFill>
                <a:latin typeface="Arial"/>
              </a:endParaRPr>
            </a:p>
          </p:txBody>
        </p:sp>
        <p:sp>
          <p:nvSpPr>
            <p:cNvPr id="113" name="b4549b6b-a151-4074-b413-651b2845d1dc"/>
            <p:cNvSpPr/>
            <p:nvPr/>
          </p:nvSpPr>
          <p:spPr>
            <a:xfrm>
              <a:off x="2928600" y="609480"/>
              <a:ext cx="5090400" cy="113040"/>
            </a:xfrm>
            <a:custGeom>
              <a:avLst/>
              <a:gdLst>
                <a:gd name="textAreaLeft" fmla="*/ 0 w 5090400"/>
                <a:gd name="textAreaRight" fmla="*/ 5090760 w 5090400"/>
                <a:gd name="textAreaTop" fmla="*/ 0 h 113040"/>
                <a:gd name="textAreaBottom" fmla="*/ 113400 h 113040"/>
              </a:gdLst>
              <a:ahLst/>
              <a:rect l="textAreaLeft" t="textAreaTop" r="textAreaRight" b="textAreaBottom"/>
              <a:pathLst>
                <a:path w="5089921" h="113296">
                  <a:moveTo>
                    <a:pt x="0" y="95436"/>
                  </a:moveTo>
                  <a:lnTo>
                    <a:pt x="21766" y="90413"/>
                  </a:lnTo>
                  <a:lnTo>
                    <a:pt x="50229" y="85949"/>
                  </a:lnTo>
                  <a:lnTo>
                    <a:pt x="71995" y="83158"/>
                  </a:lnTo>
                  <a:lnTo>
                    <a:pt x="107156" y="81484"/>
                  </a:lnTo>
                  <a:lnTo>
                    <a:pt x="134503" y="79809"/>
                  </a:lnTo>
                  <a:lnTo>
                    <a:pt x="173012" y="82042"/>
                  </a:lnTo>
                  <a:lnTo>
                    <a:pt x="202592" y="83716"/>
                  </a:lnTo>
                  <a:lnTo>
                    <a:pt x="226590" y="85390"/>
                  </a:lnTo>
                  <a:lnTo>
                    <a:pt x="263983" y="88739"/>
                  </a:lnTo>
                  <a:lnTo>
                    <a:pt x="293005" y="91530"/>
                  </a:lnTo>
                  <a:lnTo>
                    <a:pt x="316445" y="93204"/>
                  </a:lnTo>
                  <a:lnTo>
                    <a:pt x="353838" y="97111"/>
                  </a:lnTo>
                  <a:lnTo>
                    <a:pt x="382860" y="99901"/>
                  </a:lnTo>
                  <a:lnTo>
                    <a:pt x="406858" y="101575"/>
                  </a:lnTo>
                  <a:lnTo>
                    <a:pt x="449833" y="102692"/>
                  </a:lnTo>
                  <a:lnTo>
                    <a:pt x="483319" y="103250"/>
                  </a:lnTo>
                  <a:lnTo>
                    <a:pt x="510108" y="103808"/>
                  </a:lnTo>
                  <a:lnTo>
                    <a:pt x="554198" y="103808"/>
                  </a:lnTo>
                  <a:lnTo>
                    <a:pt x="588801" y="103808"/>
                  </a:lnTo>
                  <a:lnTo>
                    <a:pt x="617264" y="103808"/>
                  </a:lnTo>
                  <a:lnTo>
                    <a:pt x="644053" y="102134"/>
                  </a:lnTo>
                  <a:lnTo>
                    <a:pt x="667494" y="101017"/>
                  </a:lnTo>
                  <a:lnTo>
                    <a:pt x="706561" y="98785"/>
                  </a:lnTo>
                  <a:lnTo>
                    <a:pt x="737815" y="97669"/>
                  </a:lnTo>
                  <a:lnTo>
                    <a:pt x="765162" y="97111"/>
                  </a:lnTo>
                  <a:lnTo>
                    <a:pt x="789161" y="97111"/>
                  </a:lnTo>
                  <a:lnTo>
                    <a:pt x="829344" y="95994"/>
                  </a:lnTo>
                  <a:lnTo>
                    <a:pt x="862272" y="95436"/>
                  </a:lnTo>
                  <a:lnTo>
                    <a:pt x="891294" y="93762"/>
                  </a:lnTo>
                  <a:lnTo>
                    <a:pt x="916967" y="92646"/>
                  </a:lnTo>
                  <a:lnTo>
                    <a:pt x="959383" y="90413"/>
                  </a:lnTo>
                  <a:lnTo>
                    <a:pt x="993985" y="88181"/>
                  </a:lnTo>
                  <a:lnTo>
                    <a:pt x="1023565" y="86507"/>
                  </a:lnTo>
                  <a:lnTo>
                    <a:pt x="1049238" y="84832"/>
                  </a:lnTo>
                  <a:lnTo>
                    <a:pt x="1092770" y="82042"/>
                  </a:lnTo>
                  <a:lnTo>
                    <a:pt x="1127373" y="80367"/>
                  </a:lnTo>
                  <a:lnTo>
                    <a:pt x="1156952" y="79809"/>
                  </a:lnTo>
                  <a:lnTo>
                    <a:pt x="1182625" y="79251"/>
                  </a:lnTo>
                  <a:lnTo>
                    <a:pt x="1226157" y="78693"/>
                  </a:lnTo>
                  <a:lnTo>
                    <a:pt x="1260760" y="78693"/>
                  </a:lnTo>
                  <a:lnTo>
                    <a:pt x="1290339" y="79809"/>
                  </a:lnTo>
                  <a:lnTo>
                    <a:pt x="1316570" y="81484"/>
                  </a:lnTo>
                  <a:lnTo>
                    <a:pt x="1360103" y="83158"/>
                  </a:lnTo>
                  <a:lnTo>
                    <a:pt x="1395263" y="84832"/>
                  </a:lnTo>
                  <a:lnTo>
                    <a:pt x="1426517" y="86507"/>
                  </a:lnTo>
                  <a:lnTo>
                    <a:pt x="1453864" y="88181"/>
                  </a:lnTo>
                  <a:lnTo>
                    <a:pt x="1499629" y="90971"/>
                  </a:lnTo>
                  <a:lnTo>
                    <a:pt x="1535906" y="92646"/>
                  </a:lnTo>
                  <a:lnTo>
                    <a:pt x="1567160" y="93204"/>
                  </a:lnTo>
                  <a:lnTo>
                    <a:pt x="1595065" y="93762"/>
                  </a:lnTo>
                  <a:lnTo>
                    <a:pt x="1641388" y="94320"/>
                  </a:lnTo>
                  <a:lnTo>
                    <a:pt x="1678223" y="94878"/>
                  </a:lnTo>
                  <a:lnTo>
                    <a:pt x="1710035" y="94878"/>
                  </a:lnTo>
                  <a:lnTo>
                    <a:pt x="1737382" y="94878"/>
                  </a:lnTo>
                  <a:lnTo>
                    <a:pt x="1783705" y="95436"/>
                  </a:lnTo>
                  <a:lnTo>
                    <a:pt x="1820540" y="95436"/>
                  </a:lnTo>
                  <a:lnTo>
                    <a:pt x="1850677" y="95436"/>
                  </a:lnTo>
                  <a:lnTo>
                    <a:pt x="1876908" y="95436"/>
                  </a:lnTo>
                  <a:lnTo>
                    <a:pt x="1921557" y="95994"/>
                  </a:lnTo>
                  <a:lnTo>
                    <a:pt x="1956717" y="96553"/>
                  </a:lnTo>
                  <a:lnTo>
                    <a:pt x="1986297" y="99343"/>
                  </a:lnTo>
                  <a:lnTo>
                    <a:pt x="2012528" y="102134"/>
                  </a:lnTo>
                  <a:lnTo>
                    <a:pt x="2056060" y="106040"/>
                  </a:lnTo>
                  <a:lnTo>
                    <a:pt x="2090663" y="109389"/>
                  </a:lnTo>
                  <a:lnTo>
                    <a:pt x="2118569" y="109947"/>
                  </a:lnTo>
                  <a:lnTo>
                    <a:pt x="2143683" y="110505"/>
                  </a:lnTo>
                  <a:lnTo>
                    <a:pt x="2184983" y="111621"/>
                  </a:lnTo>
                  <a:lnTo>
                    <a:pt x="2217911" y="112179"/>
                  </a:lnTo>
                  <a:lnTo>
                    <a:pt x="2245817" y="112179"/>
                  </a:lnTo>
                  <a:lnTo>
                    <a:pt x="2270373" y="112738"/>
                  </a:lnTo>
                  <a:lnTo>
                    <a:pt x="2311115" y="112738"/>
                  </a:lnTo>
                  <a:lnTo>
                    <a:pt x="2344043" y="113296"/>
                  </a:lnTo>
                  <a:lnTo>
                    <a:pt x="2373065" y="113296"/>
                  </a:lnTo>
                  <a:lnTo>
                    <a:pt x="2398737" y="113296"/>
                  </a:lnTo>
                  <a:lnTo>
                    <a:pt x="2441153" y="113296"/>
                  </a:lnTo>
                  <a:lnTo>
                    <a:pt x="2475197" y="112738"/>
                  </a:lnTo>
                  <a:lnTo>
                    <a:pt x="2501429" y="111063"/>
                  </a:lnTo>
                  <a:lnTo>
                    <a:pt x="2524869" y="109947"/>
                  </a:lnTo>
                  <a:lnTo>
                    <a:pt x="2563937" y="108273"/>
                  </a:lnTo>
                  <a:lnTo>
                    <a:pt x="2594633" y="107157"/>
                  </a:lnTo>
                  <a:lnTo>
                    <a:pt x="2620305" y="108273"/>
                  </a:lnTo>
                  <a:lnTo>
                    <a:pt x="2643187" y="109389"/>
                  </a:lnTo>
                  <a:lnTo>
                    <a:pt x="2681697" y="110505"/>
                  </a:lnTo>
                  <a:lnTo>
                    <a:pt x="2712393" y="111621"/>
                  </a:lnTo>
                  <a:lnTo>
                    <a:pt x="2739739" y="112179"/>
                  </a:lnTo>
                  <a:lnTo>
                    <a:pt x="2763739" y="112179"/>
                  </a:lnTo>
                  <a:lnTo>
                    <a:pt x="2803363" y="112738"/>
                  </a:lnTo>
                  <a:lnTo>
                    <a:pt x="2835733" y="112738"/>
                  </a:lnTo>
                  <a:lnTo>
                    <a:pt x="2864755" y="112738"/>
                  </a:lnTo>
                  <a:lnTo>
                    <a:pt x="2890429" y="112738"/>
                  </a:lnTo>
                  <a:lnTo>
                    <a:pt x="2932845" y="113296"/>
                  </a:lnTo>
                  <a:lnTo>
                    <a:pt x="2967447" y="113296"/>
                  </a:lnTo>
                  <a:lnTo>
                    <a:pt x="2997027" y="113296"/>
                  </a:lnTo>
                  <a:lnTo>
                    <a:pt x="3022699" y="113296"/>
                  </a:lnTo>
                  <a:lnTo>
                    <a:pt x="3066231" y="113296"/>
                  </a:lnTo>
                  <a:lnTo>
                    <a:pt x="3101393" y="112738"/>
                  </a:lnTo>
                  <a:lnTo>
                    <a:pt x="3132645" y="111063"/>
                  </a:lnTo>
                  <a:lnTo>
                    <a:pt x="3159435" y="109947"/>
                  </a:lnTo>
                  <a:lnTo>
                    <a:pt x="3205199" y="107715"/>
                  </a:lnTo>
                  <a:lnTo>
                    <a:pt x="3242035" y="106040"/>
                  </a:lnTo>
                  <a:lnTo>
                    <a:pt x="3273289" y="104366"/>
                  </a:lnTo>
                  <a:lnTo>
                    <a:pt x="3301193" y="102692"/>
                  </a:lnTo>
                  <a:lnTo>
                    <a:pt x="3346959" y="99901"/>
                  </a:lnTo>
                  <a:lnTo>
                    <a:pt x="3383793" y="97669"/>
                  </a:lnTo>
                  <a:lnTo>
                    <a:pt x="3413931" y="95436"/>
                  </a:lnTo>
                  <a:lnTo>
                    <a:pt x="3440163" y="93762"/>
                  </a:lnTo>
                  <a:lnTo>
                    <a:pt x="3484253" y="90971"/>
                  </a:lnTo>
                  <a:lnTo>
                    <a:pt x="3519413" y="88739"/>
                  </a:lnTo>
                  <a:lnTo>
                    <a:pt x="3548993" y="86507"/>
                  </a:lnTo>
                  <a:lnTo>
                    <a:pt x="3575223" y="84832"/>
                  </a:lnTo>
                  <a:lnTo>
                    <a:pt x="3619313" y="82042"/>
                  </a:lnTo>
                  <a:lnTo>
                    <a:pt x="3654475" y="79809"/>
                  </a:lnTo>
                  <a:lnTo>
                    <a:pt x="3685729" y="77577"/>
                  </a:lnTo>
                  <a:lnTo>
                    <a:pt x="3713075" y="75903"/>
                  </a:lnTo>
                  <a:lnTo>
                    <a:pt x="3758283" y="73112"/>
                  </a:lnTo>
                  <a:lnTo>
                    <a:pt x="3795117" y="70880"/>
                  </a:lnTo>
                  <a:lnTo>
                    <a:pt x="3825255" y="68647"/>
                  </a:lnTo>
                  <a:lnTo>
                    <a:pt x="3851485" y="66973"/>
                  </a:lnTo>
                  <a:lnTo>
                    <a:pt x="3895577" y="64182"/>
                  </a:lnTo>
                  <a:lnTo>
                    <a:pt x="3930737" y="61950"/>
                  </a:lnTo>
                  <a:lnTo>
                    <a:pt x="3961991" y="59718"/>
                  </a:lnTo>
                  <a:lnTo>
                    <a:pt x="3989337" y="58043"/>
                  </a:lnTo>
                  <a:lnTo>
                    <a:pt x="4035103" y="55253"/>
                  </a:lnTo>
                  <a:lnTo>
                    <a:pt x="4071379" y="53020"/>
                  </a:lnTo>
                  <a:lnTo>
                    <a:pt x="4101517" y="50788"/>
                  </a:lnTo>
                  <a:lnTo>
                    <a:pt x="4127749" y="49114"/>
                  </a:lnTo>
                  <a:lnTo>
                    <a:pt x="4171839" y="46323"/>
                  </a:lnTo>
                  <a:lnTo>
                    <a:pt x="4207558" y="43533"/>
                  </a:lnTo>
                  <a:lnTo>
                    <a:pt x="4238810" y="40184"/>
                  </a:lnTo>
                  <a:lnTo>
                    <a:pt x="4266158" y="36835"/>
                  </a:lnTo>
                  <a:lnTo>
                    <a:pt x="4311922" y="32370"/>
                  </a:lnTo>
                  <a:lnTo>
                    <a:pt x="4348758" y="28464"/>
                  </a:lnTo>
                  <a:lnTo>
                    <a:pt x="4380010" y="26231"/>
                  </a:lnTo>
                  <a:lnTo>
                    <a:pt x="4407918" y="23999"/>
                  </a:lnTo>
                  <a:lnTo>
                    <a:pt x="4454238" y="20650"/>
                  </a:lnTo>
                  <a:lnTo>
                    <a:pt x="4491074" y="17860"/>
                  </a:lnTo>
                  <a:lnTo>
                    <a:pt x="4522886" y="15627"/>
                  </a:lnTo>
                  <a:lnTo>
                    <a:pt x="4550234" y="13953"/>
                  </a:lnTo>
                  <a:lnTo>
                    <a:pt x="4597114" y="11162"/>
                  </a:lnTo>
                  <a:lnTo>
                    <a:pt x="4634506" y="8372"/>
                  </a:lnTo>
                  <a:lnTo>
                    <a:pt x="4666878" y="6698"/>
                  </a:lnTo>
                  <a:lnTo>
                    <a:pt x="4694226" y="5023"/>
                  </a:lnTo>
                  <a:lnTo>
                    <a:pt x="4718222" y="3349"/>
                  </a:lnTo>
                  <a:lnTo>
                    <a:pt x="4758966" y="1116"/>
                  </a:lnTo>
                  <a:lnTo>
                    <a:pt x="4791894" y="0"/>
                  </a:lnTo>
                  <a:lnTo>
                    <a:pt x="4822590" y="1116"/>
                  </a:lnTo>
                  <a:lnTo>
                    <a:pt x="4849378" y="2233"/>
                  </a:lnTo>
                  <a:lnTo>
                    <a:pt x="4894026" y="3907"/>
                  </a:lnTo>
                  <a:lnTo>
                    <a:pt x="4929186" y="5023"/>
                  </a:lnTo>
                  <a:lnTo>
                    <a:pt x="4958766" y="6698"/>
                  </a:lnTo>
                  <a:lnTo>
                    <a:pt x="4986114" y="7814"/>
                  </a:lnTo>
                  <a:lnTo>
                    <a:pt x="5015134" y="10046"/>
                  </a:lnTo>
                  <a:lnTo>
                    <a:pt x="5048062" y="12279"/>
                  </a:lnTo>
                  <a:lnTo>
                    <a:pt x="5089922" y="15069"/>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4" name="c802ca75-2c12-41cd-a6d6-b900dbdca458"/>
            <p:cNvSpPr/>
            <p:nvPr/>
          </p:nvSpPr>
          <p:spPr>
            <a:xfrm>
              <a:off x="4196520" y="919080"/>
              <a:ext cx="633960" cy="89280"/>
            </a:xfrm>
            <a:custGeom>
              <a:avLst/>
              <a:gdLst>
                <a:gd name="textAreaLeft" fmla="*/ 0 w 633960"/>
                <a:gd name="textAreaRight" fmla="*/ 634320 w 633960"/>
                <a:gd name="textAreaTop" fmla="*/ 0 h 89280"/>
                <a:gd name="textAreaBottom" fmla="*/ 89640 h 89280"/>
              </a:gdLst>
              <a:ahLst/>
              <a:rect l="textAreaLeft" t="textAreaTop" r="textAreaRight" b="textAreaBottom"/>
              <a:pathLst>
                <a:path w="634008" h="89297">
                  <a:moveTo>
                    <a:pt x="0" y="0"/>
                  </a:moveTo>
                  <a:lnTo>
                    <a:pt x="20650" y="6139"/>
                  </a:lnTo>
                  <a:lnTo>
                    <a:pt x="37393" y="10604"/>
                  </a:lnTo>
                  <a:lnTo>
                    <a:pt x="72554" y="21766"/>
                  </a:lnTo>
                  <a:lnTo>
                    <a:pt x="99343" y="30696"/>
                  </a:lnTo>
                  <a:lnTo>
                    <a:pt x="134504" y="41300"/>
                  </a:lnTo>
                  <a:lnTo>
                    <a:pt x="161851" y="49113"/>
                  </a:lnTo>
                  <a:lnTo>
                    <a:pt x="199802" y="59717"/>
                  </a:lnTo>
                  <a:lnTo>
                    <a:pt x="229381" y="67531"/>
                  </a:lnTo>
                  <a:lnTo>
                    <a:pt x="271797" y="74786"/>
                  </a:lnTo>
                  <a:lnTo>
                    <a:pt x="304726" y="79809"/>
                  </a:lnTo>
                  <a:lnTo>
                    <a:pt x="351607" y="79809"/>
                  </a:lnTo>
                  <a:lnTo>
                    <a:pt x="387883" y="80367"/>
                  </a:lnTo>
                  <a:lnTo>
                    <a:pt x="414114" y="80367"/>
                  </a:lnTo>
                  <a:lnTo>
                    <a:pt x="436997" y="80367"/>
                  </a:lnTo>
                  <a:lnTo>
                    <a:pt x="474948" y="80367"/>
                  </a:lnTo>
                  <a:lnTo>
                    <a:pt x="505086" y="80925"/>
                  </a:lnTo>
                  <a:lnTo>
                    <a:pt x="529642" y="81483"/>
                  </a:lnTo>
                  <a:lnTo>
                    <a:pt x="551966" y="82599"/>
                  </a:lnTo>
                  <a:lnTo>
                    <a:pt x="574849" y="84274"/>
                  </a:lnTo>
                  <a:lnTo>
                    <a:pt x="601080" y="86506"/>
                  </a:lnTo>
                  <a:lnTo>
                    <a:pt x="634008" y="89297"/>
                  </a:lnTo>
                </a:path>
              </a:pathLst>
            </a:custGeom>
            <a:noFill/>
            <a:ln w="106920">
              <a:solidFill>
                <a:srgbClr val="ffff00">
                  <a:alpha val="50000"/>
                </a:srgbClr>
              </a:solidFill>
              <a:round/>
            </a:ln>
          </p:spPr>
          <p:style>
            <a:lnRef idx="0"/>
            <a:fillRef idx="0"/>
            <a:effectRef idx="0"/>
            <a:fontRef idx="minor"/>
          </p:style>
          <p:txBody>
            <a:bodyPr lIns="90000" rIns="90000" tIns="42840" bIns="42840" anchor="ctr" anchorCtr="1">
              <a:noAutofit/>
            </a:bodyPr>
            <a:p>
              <a:endParaRPr b="0" lang="en-US" sz="1800" spc="-1" strike="noStrike">
                <a:solidFill>
                  <a:srgbClr val="000000"/>
                </a:solidFill>
                <a:latin typeface="Arial"/>
              </a:endParaRPr>
            </a:p>
          </p:txBody>
        </p:sp>
        <p:sp>
          <p:nvSpPr>
            <p:cNvPr id="115" name="309ada90-0576-4f66-8541-67d1363ee50e"/>
            <p:cNvSpPr/>
            <p:nvPr/>
          </p:nvSpPr>
          <p:spPr>
            <a:xfrm>
              <a:off x="2294280" y="2027880"/>
              <a:ext cx="4519080" cy="79200"/>
            </a:xfrm>
            <a:custGeom>
              <a:avLst/>
              <a:gdLst>
                <a:gd name="textAreaLeft" fmla="*/ 0 w 4519080"/>
                <a:gd name="textAreaRight" fmla="*/ 4519440 w 4519080"/>
                <a:gd name="textAreaTop" fmla="*/ 0 h 79200"/>
                <a:gd name="textAreaBottom" fmla="*/ 79560 h 79200"/>
              </a:gdLst>
              <a:ahLst/>
              <a:rect l="textAreaLeft" t="textAreaTop" r="textAreaRight" b="textAreaBottom"/>
              <a:pathLst>
                <a:path w="4518422" h="79251">
                  <a:moveTo>
                    <a:pt x="4518422" y="70322"/>
                  </a:moveTo>
                  <a:lnTo>
                    <a:pt x="4497774" y="67531"/>
                  </a:lnTo>
                  <a:lnTo>
                    <a:pt x="4481030" y="65299"/>
                  </a:lnTo>
                  <a:lnTo>
                    <a:pt x="4445870" y="60834"/>
                  </a:lnTo>
                  <a:lnTo>
                    <a:pt x="4419078" y="58043"/>
                  </a:lnTo>
                  <a:lnTo>
                    <a:pt x="4383918" y="56369"/>
                  </a:lnTo>
                  <a:lnTo>
                    <a:pt x="4356570" y="54695"/>
                  </a:lnTo>
                  <a:lnTo>
                    <a:pt x="4318622" y="50788"/>
                  </a:lnTo>
                  <a:lnTo>
                    <a:pt x="4288482" y="47997"/>
                  </a:lnTo>
                  <a:lnTo>
                    <a:pt x="4265042" y="46323"/>
                  </a:lnTo>
                  <a:lnTo>
                    <a:pt x="4227650" y="45207"/>
                  </a:lnTo>
                  <a:lnTo>
                    <a:pt x="4198626" y="44649"/>
                  </a:lnTo>
                  <a:lnTo>
                    <a:pt x="4175187" y="44091"/>
                  </a:lnTo>
                  <a:lnTo>
                    <a:pt x="4137795" y="44091"/>
                  </a:lnTo>
                  <a:lnTo>
                    <a:pt x="4108773" y="43533"/>
                  </a:lnTo>
                  <a:lnTo>
                    <a:pt x="4084775" y="43533"/>
                  </a:lnTo>
                  <a:lnTo>
                    <a:pt x="4041799" y="43533"/>
                  </a:lnTo>
                  <a:lnTo>
                    <a:pt x="4008313" y="43533"/>
                  </a:lnTo>
                  <a:lnTo>
                    <a:pt x="3980967" y="43533"/>
                  </a:lnTo>
                  <a:lnTo>
                    <a:pt x="3934085" y="43533"/>
                  </a:lnTo>
                  <a:lnTo>
                    <a:pt x="3897251" y="43533"/>
                  </a:lnTo>
                  <a:lnTo>
                    <a:pt x="3867113" y="43533"/>
                  </a:lnTo>
                  <a:lnTo>
                    <a:pt x="3838649" y="43533"/>
                  </a:lnTo>
                  <a:lnTo>
                    <a:pt x="3813535" y="43533"/>
                  </a:lnTo>
                  <a:lnTo>
                    <a:pt x="3771677" y="43533"/>
                  </a:lnTo>
                  <a:lnTo>
                    <a:pt x="3738749" y="43533"/>
                  </a:lnTo>
                  <a:lnTo>
                    <a:pt x="3710843" y="43533"/>
                  </a:lnTo>
                  <a:lnTo>
                    <a:pt x="3686287" y="43533"/>
                  </a:lnTo>
                  <a:lnTo>
                    <a:pt x="3644987" y="43533"/>
                  </a:lnTo>
                  <a:lnTo>
                    <a:pt x="3612059" y="43533"/>
                  </a:lnTo>
                  <a:lnTo>
                    <a:pt x="3581363" y="43533"/>
                  </a:lnTo>
                  <a:lnTo>
                    <a:pt x="3554573" y="43533"/>
                  </a:lnTo>
                  <a:lnTo>
                    <a:pt x="3509367" y="43533"/>
                  </a:lnTo>
                  <a:lnTo>
                    <a:pt x="3473091" y="42974"/>
                  </a:lnTo>
                  <a:lnTo>
                    <a:pt x="3441837" y="41300"/>
                  </a:lnTo>
                  <a:lnTo>
                    <a:pt x="3413931" y="40184"/>
                  </a:lnTo>
                  <a:lnTo>
                    <a:pt x="3367609" y="37951"/>
                  </a:lnTo>
                  <a:lnTo>
                    <a:pt x="3330773" y="36835"/>
                  </a:lnTo>
                  <a:lnTo>
                    <a:pt x="3298403" y="35719"/>
                  </a:lnTo>
                  <a:lnTo>
                    <a:pt x="3271057" y="35719"/>
                  </a:lnTo>
                  <a:lnTo>
                    <a:pt x="3247057" y="35161"/>
                  </a:lnTo>
                  <a:lnTo>
                    <a:pt x="3206317" y="35161"/>
                  </a:lnTo>
                  <a:lnTo>
                    <a:pt x="3172829" y="34603"/>
                  </a:lnTo>
                  <a:lnTo>
                    <a:pt x="3142693" y="34603"/>
                  </a:lnTo>
                  <a:lnTo>
                    <a:pt x="3114229" y="34603"/>
                  </a:lnTo>
                  <a:lnTo>
                    <a:pt x="3089673" y="34603"/>
                  </a:lnTo>
                  <a:lnTo>
                    <a:pt x="3047815" y="34603"/>
                  </a:lnTo>
                  <a:lnTo>
                    <a:pt x="3013211" y="34603"/>
                  </a:lnTo>
                  <a:lnTo>
                    <a:pt x="2982515" y="34603"/>
                  </a:lnTo>
                  <a:lnTo>
                    <a:pt x="2954053" y="34603"/>
                  </a:lnTo>
                  <a:lnTo>
                    <a:pt x="2928937" y="34603"/>
                  </a:lnTo>
                  <a:lnTo>
                    <a:pt x="2887079" y="34603"/>
                  </a:lnTo>
                  <a:lnTo>
                    <a:pt x="2852477" y="34603"/>
                  </a:lnTo>
                  <a:lnTo>
                    <a:pt x="2821781" y="34603"/>
                  </a:lnTo>
                  <a:lnTo>
                    <a:pt x="2793319" y="34603"/>
                  </a:lnTo>
                  <a:lnTo>
                    <a:pt x="2768203" y="34603"/>
                  </a:lnTo>
                  <a:lnTo>
                    <a:pt x="2726345" y="34603"/>
                  </a:lnTo>
                  <a:lnTo>
                    <a:pt x="2691185" y="34603"/>
                  </a:lnTo>
                  <a:lnTo>
                    <a:pt x="2659931" y="34603"/>
                  </a:lnTo>
                  <a:lnTo>
                    <a:pt x="2630351" y="34603"/>
                  </a:lnTo>
                  <a:lnTo>
                    <a:pt x="2604121" y="34603"/>
                  </a:lnTo>
                  <a:lnTo>
                    <a:pt x="2560029" y="34603"/>
                  </a:lnTo>
                  <a:lnTo>
                    <a:pt x="2523753" y="34603"/>
                  </a:lnTo>
                  <a:lnTo>
                    <a:pt x="2491383" y="34603"/>
                  </a:lnTo>
                  <a:lnTo>
                    <a:pt x="2461245" y="34603"/>
                  </a:lnTo>
                  <a:lnTo>
                    <a:pt x="2435015" y="34603"/>
                  </a:lnTo>
                  <a:lnTo>
                    <a:pt x="2390925" y="34603"/>
                  </a:lnTo>
                  <a:lnTo>
                    <a:pt x="2354089" y="34603"/>
                  </a:lnTo>
                  <a:lnTo>
                    <a:pt x="2321719" y="34603"/>
                  </a:lnTo>
                  <a:lnTo>
                    <a:pt x="2291581" y="34603"/>
                  </a:lnTo>
                  <a:lnTo>
                    <a:pt x="2265351" y="34603"/>
                  </a:lnTo>
                  <a:lnTo>
                    <a:pt x="2221259" y="34603"/>
                  </a:lnTo>
                  <a:lnTo>
                    <a:pt x="2184425" y="34603"/>
                  </a:lnTo>
                  <a:lnTo>
                    <a:pt x="2152055" y="34603"/>
                  </a:lnTo>
                  <a:lnTo>
                    <a:pt x="2121917" y="34603"/>
                  </a:lnTo>
                  <a:lnTo>
                    <a:pt x="2095686" y="34603"/>
                  </a:lnTo>
                  <a:lnTo>
                    <a:pt x="2051595" y="34603"/>
                  </a:lnTo>
                  <a:lnTo>
                    <a:pt x="2014760" y="35161"/>
                  </a:lnTo>
                  <a:lnTo>
                    <a:pt x="1982390" y="35719"/>
                  </a:lnTo>
                  <a:lnTo>
                    <a:pt x="1952253" y="36835"/>
                  </a:lnTo>
                  <a:lnTo>
                    <a:pt x="1926022" y="38510"/>
                  </a:lnTo>
                  <a:lnTo>
                    <a:pt x="1881931" y="40184"/>
                  </a:lnTo>
                  <a:lnTo>
                    <a:pt x="1845654" y="41858"/>
                  </a:lnTo>
                  <a:lnTo>
                    <a:pt x="1813842" y="42416"/>
                  </a:lnTo>
                  <a:lnTo>
                    <a:pt x="1785379" y="42416"/>
                  </a:lnTo>
                  <a:lnTo>
                    <a:pt x="1760264" y="42974"/>
                  </a:lnTo>
                  <a:lnTo>
                    <a:pt x="1717848" y="42974"/>
                  </a:lnTo>
                  <a:lnTo>
                    <a:pt x="1683246" y="42974"/>
                  </a:lnTo>
                  <a:lnTo>
                    <a:pt x="1651992" y="42416"/>
                  </a:lnTo>
                  <a:lnTo>
                    <a:pt x="1623528" y="41300"/>
                  </a:lnTo>
                  <a:lnTo>
                    <a:pt x="1598414" y="39626"/>
                  </a:lnTo>
                  <a:lnTo>
                    <a:pt x="1556556" y="37951"/>
                  </a:lnTo>
                  <a:lnTo>
                    <a:pt x="1521953" y="36277"/>
                  </a:lnTo>
                  <a:lnTo>
                    <a:pt x="1491258" y="34603"/>
                  </a:lnTo>
                  <a:lnTo>
                    <a:pt x="1462794" y="32928"/>
                  </a:lnTo>
                  <a:lnTo>
                    <a:pt x="1437679" y="31812"/>
                  </a:lnTo>
                  <a:lnTo>
                    <a:pt x="1395821" y="29580"/>
                  </a:lnTo>
                  <a:lnTo>
                    <a:pt x="1361777" y="27347"/>
                  </a:lnTo>
                  <a:lnTo>
                    <a:pt x="1331639" y="25673"/>
                  </a:lnTo>
                  <a:lnTo>
                    <a:pt x="1304850" y="23999"/>
                  </a:lnTo>
                  <a:lnTo>
                    <a:pt x="1280852" y="22883"/>
                  </a:lnTo>
                  <a:lnTo>
                    <a:pt x="1240668" y="20650"/>
                  </a:lnTo>
                  <a:lnTo>
                    <a:pt x="1208298" y="18976"/>
                  </a:lnTo>
                  <a:lnTo>
                    <a:pt x="1178718" y="17860"/>
                  </a:lnTo>
                  <a:lnTo>
                    <a:pt x="1151929" y="17860"/>
                  </a:lnTo>
                  <a:lnTo>
                    <a:pt x="1128489" y="17302"/>
                  </a:lnTo>
                  <a:lnTo>
                    <a:pt x="1088863" y="17302"/>
                  </a:lnTo>
                  <a:lnTo>
                    <a:pt x="1055935" y="16743"/>
                  </a:lnTo>
                  <a:lnTo>
                    <a:pt x="1026914" y="15627"/>
                  </a:lnTo>
                  <a:lnTo>
                    <a:pt x="1000125" y="14511"/>
                  </a:lnTo>
                  <a:lnTo>
                    <a:pt x="976684" y="12837"/>
                  </a:lnTo>
                  <a:lnTo>
                    <a:pt x="937059" y="11162"/>
                  </a:lnTo>
                  <a:lnTo>
                    <a:pt x="904689" y="9488"/>
                  </a:lnTo>
                  <a:lnTo>
                    <a:pt x="874551" y="7814"/>
                  </a:lnTo>
                  <a:lnTo>
                    <a:pt x="847762" y="6139"/>
                  </a:lnTo>
                  <a:lnTo>
                    <a:pt x="802555" y="3349"/>
                  </a:lnTo>
                  <a:lnTo>
                    <a:pt x="766837" y="1675"/>
                  </a:lnTo>
                  <a:lnTo>
                    <a:pt x="735583" y="1116"/>
                  </a:lnTo>
                  <a:lnTo>
                    <a:pt x="708236" y="558"/>
                  </a:lnTo>
                  <a:lnTo>
                    <a:pt x="661913" y="0"/>
                  </a:lnTo>
                  <a:lnTo>
                    <a:pt x="625636" y="0"/>
                  </a:lnTo>
                  <a:lnTo>
                    <a:pt x="595498" y="1116"/>
                  </a:lnTo>
                  <a:lnTo>
                    <a:pt x="569267" y="2791"/>
                  </a:lnTo>
                  <a:lnTo>
                    <a:pt x="525177" y="5023"/>
                  </a:lnTo>
                  <a:lnTo>
                    <a:pt x="490016" y="6698"/>
                  </a:lnTo>
                  <a:lnTo>
                    <a:pt x="460437" y="10046"/>
                  </a:lnTo>
                  <a:lnTo>
                    <a:pt x="434206" y="12837"/>
                  </a:lnTo>
                  <a:lnTo>
                    <a:pt x="390674" y="17860"/>
                  </a:lnTo>
                  <a:lnTo>
                    <a:pt x="356629" y="21766"/>
                  </a:lnTo>
                  <a:lnTo>
                    <a:pt x="329840" y="25673"/>
                  </a:lnTo>
                  <a:lnTo>
                    <a:pt x="306400" y="29022"/>
                  </a:lnTo>
                  <a:lnTo>
                    <a:pt x="267332" y="34603"/>
                  </a:lnTo>
                  <a:lnTo>
                    <a:pt x="236636" y="39068"/>
                  </a:lnTo>
                  <a:lnTo>
                    <a:pt x="190872" y="46323"/>
                  </a:lnTo>
                  <a:lnTo>
                    <a:pt x="155153" y="52462"/>
                  </a:lnTo>
                  <a:lnTo>
                    <a:pt x="126690" y="56927"/>
                  </a:lnTo>
                  <a:lnTo>
                    <a:pt x="103249" y="60834"/>
                  </a:lnTo>
                  <a:lnTo>
                    <a:pt x="81483" y="64741"/>
                  </a:lnTo>
                  <a:lnTo>
                    <a:pt x="59159" y="68647"/>
                  </a:lnTo>
                  <a:lnTo>
                    <a:pt x="32928" y="73112"/>
                  </a:lnTo>
                  <a:lnTo>
                    <a:pt x="0" y="79251"/>
                  </a:lnTo>
                </a:path>
              </a:pathLst>
            </a:custGeom>
            <a:noFill/>
            <a:ln w="106920">
              <a:solidFill>
                <a:srgbClr val="ffff00">
                  <a:alpha val="50000"/>
                </a:srgbClr>
              </a:solidFill>
              <a:round/>
            </a:ln>
          </p:spPr>
          <p:style>
            <a:lnRef idx="0"/>
            <a:fillRef idx="0"/>
            <a:effectRef idx="0"/>
            <a:fontRef idx="minor"/>
          </p:style>
          <p:txBody>
            <a:bodyPr lIns="90000" rIns="90000" tIns="32760" bIns="32760" anchor="ctr" anchorCtr="1">
              <a:noAutofit/>
            </a:bodyPr>
            <a:p>
              <a:endParaRPr b="0" lang="en-US" sz="1800" spc="-1" strike="noStrike">
                <a:solidFill>
                  <a:srgbClr val="000000"/>
                </a:solidFill>
                <a:latin typeface="Arial"/>
              </a:endParaRPr>
            </a:p>
          </p:txBody>
        </p:sp>
        <p:sp>
          <p:nvSpPr>
            <p:cNvPr id="116" name="dce0aca2-7017-4b63-bc79-44524c6fbabb"/>
            <p:cNvSpPr/>
            <p:nvPr/>
          </p:nvSpPr>
          <p:spPr>
            <a:xfrm>
              <a:off x="7277760" y="2026800"/>
              <a:ext cx="1393200" cy="62280"/>
            </a:xfrm>
            <a:custGeom>
              <a:avLst/>
              <a:gdLst>
                <a:gd name="textAreaLeft" fmla="*/ 0 w 1393200"/>
                <a:gd name="textAreaRight" fmla="*/ 1393560 w 1393200"/>
                <a:gd name="textAreaTop" fmla="*/ 0 h 62280"/>
                <a:gd name="textAreaBottom" fmla="*/ 62640 h 62280"/>
              </a:gdLst>
              <a:ahLst/>
              <a:rect l="textAreaLeft" t="textAreaTop" r="textAreaRight" b="textAreaBottom"/>
              <a:pathLst>
                <a:path w="1393032" h="62508">
                  <a:moveTo>
                    <a:pt x="0" y="0"/>
                  </a:moveTo>
                  <a:lnTo>
                    <a:pt x="23999" y="6139"/>
                  </a:lnTo>
                  <a:lnTo>
                    <a:pt x="42974" y="10046"/>
                  </a:lnTo>
                  <a:lnTo>
                    <a:pt x="82042" y="9488"/>
                  </a:lnTo>
                  <a:lnTo>
                    <a:pt x="111621" y="9488"/>
                  </a:lnTo>
                  <a:lnTo>
                    <a:pt x="145666" y="9488"/>
                  </a:lnTo>
                  <a:lnTo>
                    <a:pt x="171897" y="9488"/>
                  </a:lnTo>
                  <a:lnTo>
                    <a:pt x="203709" y="12278"/>
                  </a:lnTo>
                  <a:lnTo>
                    <a:pt x="228265" y="14511"/>
                  </a:lnTo>
                  <a:lnTo>
                    <a:pt x="262310" y="15627"/>
                  </a:lnTo>
                  <a:lnTo>
                    <a:pt x="288541" y="16743"/>
                  </a:lnTo>
                  <a:lnTo>
                    <a:pt x="323143" y="20092"/>
                  </a:lnTo>
                  <a:lnTo>
                    <a:pt x="349932" y="22324"/>
                  </a:lnTo>
                  <a:lnTo>
                    <a:pt x="387884" y="23999"/>
                  </a:lnTo>
                  <a:lnTo>
                    <a:pt x="417463" y="25115"/>
                  </a:lnTo>
                  <a:lnTo>
                    <a:pt x="459879" y="25673"/>
                  </a:lnTo>
                  <a:lnTo>
                    <a:pt x="492249" y="26231"/>
                  </a:lnTo>
                  <a:lnTo>
                    <a:pt x="536340" y="26231"/>
                  </a:lnTo>
                  <a:lnTo>
                    <a:pt x="570384" y="26789"/>
                  </a:lnTo>
                  <a:lnTo>
                    <a:pt x="615033" y="29580"/>
                  </a:lnTo>
                  <a:lnTo>
                    <a:pt x="649635" y="31812"/>
                  </a:lnTo>
                  <a:lnTo>
                    <a:pt x="675308" y="32370"/>
                  </a:lnTo>
                  <a:lnTo>
                    <a:pt x="697632" y="32928"/>
                  </a:lnTo>
                  <a:lnTo>
                    <a:pt x="734467" y="34044"/>
                  </a:lnTo>
                  <a:lnTo>
                    <a:pt x="762930" y="34603"/>
                  </a:lnTo>
                  <a:lnTo>
                    <a:pt x="796975" y="35161"/>
                  </a:lnTo>
                  <a:lnTo>
                    <a:pt x="823764" y="35161"/>
                  </a:lnTo>
                  <a:lnTo>
                    <a:pt x="864506" y="38509"/>
                  </a:lnTo>
                  <a:lnTo>
                    <a:pt x="895760" y="40742"/>
                  </a:lnTo>
                  <a:lnTo>
                    <a:pt x="939292" y="41858"/>
                  </a:lnTo>
                  <a:lnTo>
                    <a:pt x="972778" y="42974"/>
                  </a:lnTo>
                  <a:lnTo>
                    <a:pt x="1017427" y="43532"/>
                  </a:lnTo>
                  <a:lnTo>
                    <a:pt x="1051471" y="44090"/>
                  </a:lnTo>
                  <a:lnTo>
                    <a:pt x="1093887" y="47439"/>
                  </a:lnTo>
                  <a:lnTo>
                    <a:pt x="1126257" y="49671"/>
                  </a:lnTo>
                  <a:lnTo>
                    <a:pt x="1166999" y="50788"/>
                  </a:lnTo>
                  <a:lnTo>
                    <a:pt x="1198811" y="51904"/>
                  </a:lnTo>
                  <a:lnTo>
                    <a:pt x="1222809" y="53020"/>
                  </a:lnTo>
                  <a:lnTo>
                    <a:pt x="1241227" y="54136"/>
                  </a:lnTo>
                  <a:lnTo>
                    <a:pt x="1270806" y="57485"/>
                  </a:lnTo>
                  <a:lnTo>
                    <a:pt x="1285875" y="59717"/>
                  </a:lnTo>
                  <a:lnTo>
                    <a:pt x="1303735" y="62508"/>
                  </a:lnTo>
                  <a:lnTo>
                    <a:pt x="1339453" y="62508"/>
                  </a:lnTo>
                  <a:lnTo>
                    <a:pt x="1375172" y="62508"/>
                  </a:lnTo>
                  <a:lnTo>
                    <a:pt x="1393032" y="62508"/>
                  </a:lnTo>
                </a:path>
              </a:pathLst>
            </a:custGeom>
            <a:noFill/>
            <a:ln w="106920">
              <a:solidFill>
                <a:srgbClr val="00ff00">
                  <a:alpha val="50000"/>
                </a:srgbClr>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117" name="8b6a8345-7877-4e21-93ef-22c3322eee32"/>
            <p:cNvSpPr/>
            <p:nvPr/>
          </p:nvSpPr>
          <p:spPr>
            <a:xfrm>
              <a:off x="436680" y="2267640"/>
              <a:ext cx="5162040" cy="133920"/>
            </a:xfrm>
            <a:custGeom>
              <a:avLst/>
              <a:gdLst>
                <a:gd name="textAreaLeft" fmla="*/ 0 w 5162040"/>
                <a:gd name="textAreaRight" fmla="*/ 5162400 w 5162040"/>
                <a:gd name="textAreaTop" fmla="*/ 0 h 133920"/>
                <a:gd name="textAreaBottom" fmla="*/ 134280 h 133920"/>
              </a:gdLst>
              <a:ahLst/>
              <a:rect l="textAreaLeft" t="textAreaTop" r="textAreaRight" b="textAreaBottom"/>
              <a:pathLst>
                <a:path w="5161359" h="133945">
                  <a:moveTo>
                    <a:pt x="0" y="133945"/>
                  </a:moveTo>
                  <a:lnTo>
                    <a:pt x="17859" y="116086"/>
                  </a:lnTo>
                  <a:lnTo>
                    <a:pt x="31812" y="103249"/>
                  </a:lnTo>
                  <a:lnTo>
                    <a:pt x="42974" y="93203"/>
                  </a:lnTo>
                  <a:lnTo>
                    <a:pt x="73112" y="88738"/>
                  </a:lnTo>
                  <a:lnTo>
                    <a:pt x="96552" y="85948"/>
                  </a:lnTo>
                  <a:lnTo>
                    <a:pt x="114411" y="83715"/>
                  </a:lnTo>
                  <a:lnTo>
                    <a:pt x="150688" y="85390"/>
                  </a:lnTo>
                  <a:lnTo>
                    <a:pt x="178035" y="87064"/>
                  </a:lnTo>
                  <a:lnTo>
                    <a:pt x="207615" y="87622"/>
                  </a:lnTo>
                  <a:lnTo>
                    <a:pt x="231055" y="88738"/>
                  </a:lnTo>
                  <a:lnTo>
                    <a:pt x="266774" y="92087"/>
                  </a:lnTo>
                  <a:lnTo>
                    <a:pt x="294121" y="94319"/>
                  </a:lnTo>
                  <a:lnTo>
                    <a:pt x="323701" y="95436"/>
                  </a:lnTo>
                  <a:lnTo>
                    <a:pt x="346583" y="96552"/>
                  </a:lnTo>
                  <a:lnTo>
                    <a:pt x="373930" y="97110"/>
                  </a:lnTo>
                  <a:lnTo>
                    <a:pt x="394580" y="97668"/>
                  </a:lnTo>
                  <a:lnTo>
                    <a:pt x="420811" y="97668"/>
                  </a:lnTo>
                  <a:lnTo>
                    <a:pt x="440903" y="98226"/>
                  </a:lnTo>
                  <a:lnTo>
                    <a:pt x="466576" y="98226"/>
                  </a:lnTo>
                  <a:lnTo>
                    <a:pt x="486110" y="98226"/>
                  </a:lnTo>
                  <a:lnTo>
                    <a:pt x="511224" y="98226"/>
                  </a:lnTo>
                  <a:lnTo>
                    <a:pt x="530758" y="98226"/>
                  </a:lnTo>
                  <a:lnTo>
                    <a:pt x="555873" y="98226"/>
                  </a:lnTo>
                  <a:lnTo>
                    <a:pt x="575406" y="98226"/>
                  </a:lnTo>
                  <a:lnTo>
                    <a:pt x="600521" y="98226"/>
                  </a:lnTo>
                  <a:lnTo>
                    <a:pt x="620613" y="98226"/>
                  </a:lnTo>
                  <a:lnTo>
                    <a:pt x="648518" y="98226"/>
                  </a:lnTo>
                  <a:lnTo>
                    <a:pt x="670284" y="98226"/>
                  </a:lnTo>
                  <a:lnTo>
                    <a:pt x="696515" y="95436"/>
                  </a:lnTo>
                  <a:lnTo>
                    <a:pt x="717165" y="93203"/>
                  </a:lnTo>
                  <a:lnTo>
                    <a:pt x="742838" y="92087"/>
                  </a:lnTo>
                  <a:lnTo>
                    <a:pt x="762930" y="90971"/>
                  </a:lnTo>
                  <a:lnTo>
                    <a:pt x="791393" y="87622"/>
                  </a:lnTo>
                  <a:lnTo>
                    <a:pt x="813159" y="84832"/>
                  </a:lnTo>
                  <a:lnTo>
                    <a:pt x="839390" y="83157"/>
                  </a:lnTo>
                  <a:lnTo>
                    <a:pt x="860040" y="82041"/>
                  </a:lnTo>
                  <a:lnTo>
                    <a:pt x="888504" y="78692"/>
                  </a:lnTo>
                  <a:lnTo>
                    <a:pt x="910828" y="75902"/>
                  </a:lnTo>
                  <a:lnTo>
                    <a:pt x="937617" y="74228"/>
                  </a:lnTo>
                  <a:lnTo>
                    <a:pt x="958267" y="73111"/>
                  </a:lnTo>
                  <a:lnTo>
                    <a:pt x="983940" y="72553"/>
                  </a:lnTo>
                  <a:lnTo>
                    <a:pt x="1004031" y="71995"/>
                  </a:lnTo>
                  <a:lnTo>
                    <a:pt x="1029146" y="71995"/>
                  </a:lnTo>
                  <a:lnTo>
                    <a:pt x="1048680" y="71437"/>
                  </a:lnTo>
                  <a:lnTo>
                    <a:pt x="1073795" y="71437"/>
                  </a:lnTo>
                  <a:lnTo>
                    <a:pt x="1093328" y="71437"/>
                  </a:lnTo>
                  <a:lnTo>
                    <a:pt x="1118443" y="68647"/>
                  </a:lnTo>
                  <a:lnTo>
                    <a:pt x="1137977" y="66414"/>
                  </a:lnTo>
                  <a:lnTo>
                    <a:pt x="1163091" y="65298"/>
                  </a:lnTo>
                  <a:lnTo>
                    <a:pt x="1183183" y="64182"/>
                  </a:lnTo>
                  <a:lnTo>
                    <a:pt x="1211089" y="63624"/>
                  </a:lnTo>
                  <a:lnTo>
                    <a:pt x="1232855" y="63066"/>
                  </a:lnTo>
                  <a:lnTo>
                    <a:pt x="1259086" y="63066"/>
                  </a:lnTo>
                  <a:lnTo>
                    <a:pt x="1279736" y="62507"/>
                  </a:lnTo>
                  <a:lnTo>
                    <a:pt x="1308199" y="62507"/>
                  </a:lnTo>
                  <a:lnTo>
                    <a:pt x="1330523" y="62507"/>
                  </a:lnTo>
                  <a:lnTo>
                    <a:pt x="1357312" y="62507"/>
                  </a:lnTo>
                  <a:lnTo>
                    <a:pt x="1377962" y="62507"/>
                  </a:lnTo>
                  <a:lnTo>
                    <a:pt x="1403635" y="62507"/>
                  </a:lnTo>
                  <a:lnTo>
                    <a:pt x="1423727" y="62507"/>
                  </a:lnTo>
                  <a:lnTo>
                    <a:pt x="1448841" y="62507"/>
                  </a:lnTo>
                  <a:lnTo>
                    <a:pt x="1468375" y="62507"/>
                  </a:lnTo>
                  <a:lnTo>
                    <a:pt x="1493490" y="62507"/>
                  </a:lnTo>
                  <a:lnTo>
                    <a:pt x="1513024" y="62507"/>
                  </a:lnTo>
                  <a:lnTo>
                    <a:pt x="1538138" y="62507"/>
                  </a:lnTo>
                  <a:lnTo>
                    <a:pt x="1557672" y="62507"/>
                  </a:lnTo>
                  <a:lnTo>
                    <a:pt x="1582787" y="62507"/>
                  </a:lnTo>
                  <a:lnTo>
                    <a:pt x="1602320" y="62507"/>
                  </a:lnTo>
                  <a:lnTo>
                    <a:pt x="1627435" y="62507"/>
                  </a:lnTo>
                  <a:lnTo>
                    <a:pt x="1646969" y="62507"/>
                  </a:lnTo>
                  <a:lnTo>
                    <a:pt x="1662596" y="62507"/>
                  </a:lnTo>
                  <a:lnTo>
                    <a:pt x="1694408" y="62507"/>
                  </a:lnTo>
                  <a:lnTo>
                    <a:pt x="1718965" y="62507"/>
                  </a:lnTo>
                  <a:lnTo>
                    <a:pt x="1746870" y="62507"/>
                  </a:lnTo>
                  <a:lnTo>
                    <a:pt x="1768636" y="62507"/>
                  </a:lnTo>
                  <a:lnTo>
                    <a:pt x="1794867" y="62507"/>
                  </a:lnTo>
                  <a:lnTo>
                    <a:pt x="1815517" y="62507"/>
                  </a:lnTo>
                  <a:lnTo>
                    <a:pt x="1831144" y="62507"/>
                  </a:lnTo>
                  <a:lnTo>
                    <a:pt x="1843980" y="62507"/>
                  </a:lnTo>
                  <a:lnTo>
                    <a:pt x="1880815" y="62507"/>
                  </a:lnTo>
                  <a:lnTo>
                    <a:pt x="1909278" y="62507"/>
                  </a:lnTo>
                  <a:lnTo>
                    <a:pt x="1930487" y="62507"/>
                  </a:lnTo>
                  <a:lnTo>
                    <a:pt x="1947230" y="62507"/>
                  </a:lnTo>
                  <a:lnTo>
                    <a:pt x="1988529" y="62507"/>
                  </a:lnTo>
                  <a:lnTo>
                    <a:pt x="2019783" y="62507"/>
                  </a:lnTo>
                  <a:lnTo>
                    <a:pt x="2043782" y="61949"/>
                  </a:lnTo>
                  <a:lnTo>
                    <a:pt x="2061641" y="61391"/>
                  </a:lnTo>
                  <a:lnTo>
                    <a:pt x="2076152" y="60275"/>
                  </a:lnTo>
                  <a:lnTo>
                    <a:pt x="2112987" y="58043"/>
                  </a:lnTo>
                  <a:lnTo>
                    <a:pt x="2141451" y="56368"/>
                  </a:lnTo>
                  <a:lnTo>
                    <a:pt x="2162659" y="54694"/>
                  </a:lnTo>
                  <a:lnTo>
                    <a:pt x="2179403" y="53578"/>
                  </a:lnTo>
                  <a:lnTo>
                    <a:pt x="2205075" y="49671"/>
                  </a:lnTo>
                  <a:lnTo>
                    <a:pt x="2217353" y="47439"/>
                  </a:lnTo>
                  <a:lnTo>
                    <a:pt x="2232423" y="44648"/>
                  </a:lnTo>
                  <a:lnTo>
                    <a:pt x="2268141" y="44648"/>
                  </a:lnTo>
                  <a:lnTo>
                    <a:pt x="2294929" y="35718"/>
                  </a:lnTo>
                  <a:lnTo>
                    <a:pt x="2330649" y="35718"/>
                  </a:lnTo>
                  <a:lnTo>
                    <a:pt x="2357437" y="35718"/>
                  </a:lnTo>
                  <a:lnTo>
                    <a:pt x="2393157" y="35718"/>
                  </a:lnTo>
                  <a:lnTo>
                    <a:pt x="2428875" y="35718"/>
                  </a:lnTo>
                  <a:lnTo>
                    <a:pt x="2460129" y="35718"/>
                  </a:lnTo>
                  <a:lnTo>
                    <a:pt x="2488035" y="35718"/>
                  </a:lnTo>
                  <a:lnTo>
                    <a:pt x="2512033" y="35718"/>
                  </a:lnTo>
                  <a:lnTo>
                    <a:pt x="2532683" y="35718"/>
                  </a:lnTo>
                  <a:lnTo>
                    <a:pt x="2566169" y="36276"/>
                  </a:lnTo>
                  <a:lnTo>
                    <a:pt x="2590725" y="36835"/>
                  </a:lnTo>
                  <a:lnTo>
                    <a:pt x="2623095" y="39625"/>
                  </a:lnTo>
                  <a:lnTo>
                    <a:pt x="2647653" y="41299"/>
                  </a:lnTo>
                  <a:lnTo>
                    <a:pt x="2666629" y="42974"/>
                  </a:lnTo>
                  <a:lnTo>
                    <a:pt x="2700115" y="43532"/>
                  </a:lnTo>
                  <a:lnTo>
                    <a:pt x="2725787" y="44090"/>
                  </a:lnTo>
                  <a:lnTo>
                    <a:pt x="2745879" y="44090"/>
                  </a:lnTo>
                  <a:lnTo>
                    <a:pt x="2779923" y="44090"/>
                  </a:lnTo>
                  <a:lnTo>
                    <a:pt x="2806155" y="44648"/>
                  </a:lnTo>
                  <a:lnTo>
                    <a:pt x="2840757" y="44648"/>
                  </a:lnTo>
                  <a:lnTo>
                    <a:pt x="2867547" y="44648"/>
                  </a:lnTo>
                  <a:lnTo>
                    <a:pt x="2896567" y="44648"/>
                  </a:lnTo>
                  <a:lnTo>
                    <a:pt x="2919449" y="44648"/>
                  </a:lnTo>
                  <a:lnTo>
                    <a:pt x="2946239" y="47439"/>
                  </a:lnTo>
                  <a:lnTo>
                    <a:pt x="2966889" y="50229"/>
                  </a:lnTo>
                  <a:lnTo>
                    <a:pt x="2992561" y="54136"/>
                  </a:lnTo>
                  <a:lnTo>
                    <a:pt x="3012653" y="57484"/>
                  </a:lnTo>
                  <a:lnTo>
                    <a:pt x="3038327" y="59159"/>
                  </a:lnTo>
                  <a:lnTo>
                    <a:pt x="3057861" y="60275"/>
                  </a:lnTo>
                  <a:lnTo>
                    <a:pt x="3082975" y="64182"/>
                  </a:lnTo>
                  <a:lnTo>
                    <a:pt x="3102509" y="66972"/>
                  </a:lnTo>
                  <a:lnTo>
                    <a:pt x="3127623" y="68647"/>
                  </a:lnTo>
                  <a:lnTo>
                    <a:pt x="3156645" y="72553"/>
                  </a:lnTo>
                  <a:lnTo>
                    <a:pt x="3178411" y="75344"/>
                  </a:lnTo>
                  <a:lnTo>
                    <a:pt x="3205199" y="77018"/>
                  </a:lnTo>
                  <a:lnTo>
                    <a:pt x="3225849" y="78134"/>
                  </a:lnTo>
                  <a:lnTo>
                    <a:pt x="3251523" y="82041"/>
                  </a:lnTo>
                  <a:lnTo>
                    <a:pt x="3271615" y="84832"/>
                  </a:lnTo>
                  <a:lnTo>
                    <a:pt x="3297287" y="86506"/>
                  </a:lnTo>
                  <a:lnTo>
                    <a:pt x="3316821" y="87622"/>
                  </a:lnTo>
                  <a:lnTo>
                    <a:pt x="3341935" y="88180"/>
                  </a:lnTo>
                  <a:lnTo>
                    <a:pt x="3362027" y="88738"/>
                  </a:lnTo>
                  <a:lnTo>
                    <a:pt x="3389933" y="88738"/>
                  </a:lnTo>
                  <a:lnTo>
                    <a:pt x="3411699" y="89297"/>
                  </a:lnTo>
                  <a:lnTo>
                    <a:pt x="3441279" y="89297"/>
                  </a:lnTo>
                  <a:lnTo>
                    <a:pt x="3463603" y="89297"/>
                  </a:lnTo>
                  <a:lnTo>
                    <a:pt x="3493741" y="89297"/>
                  </a:lnTo>
                  <a:lnTo>
                    <a:pt x="3516623" y="89297"/>
                  </a:lnTo>
                  <a:lnTo>
                    <a:pt x="3546761" y="89297"/>
                  </a:lnTo>
                  <a:lnTo>
                    <a:pt x="3569643" y="89297"/>
                  </a:lnTo>
                  <a:lnTo>
                    <a:pt x="3596989" y="92087"/>
                  </a:lnTo>
                  <a:lnTo>
                    <a:pt x="3618197" y="94319"/>
                  </a:lnTo>
                  <a:lnTo>
                    <a:pt x="3647219" y="95436"/>
                  </a:lnTo>
                  <a:lnTo>
                    <a:pt x="3669543" y="96552"/>
                  </a:lnTo>
                  <a:lnTo>
                    <a:pt x="3699123" y="99901"/>
                  </a:lnTo>
                  <a:lnTo>
                    <a:pt x="3722563" y="102691"/>
                  </a:lnTo>
                  <a:lnTo>
                    <a:pt x="3755491" y="104365"/>
                  </a:lnTo>
                  <a:lnTo>
                    <a:pt x="3781165" y="104923"/>
                  </a:lnTo>
                  <a:lnTo>
                    <a:pt x="3815209" y="102691"/>
                  </a:lnTo>
                  <a:lnTo>
                    <a:pt x="3841999" y="101017"/>
                  </a:lnTo>
                  <a:lnTo>
                    <a:pt x="3876601" y="97110"/>
                  </a:lnTo>
                  <a:lnTo>
                    <a:pt x="3903389" y="94319"/>
                  </a:lnTo>
                  <a:lnTo>
                    <a:pt x="3938551" y="92645"/>
                  </a:lnTo>
                  <a:lnTo>
                    <a:pt x="3965897" y="91529"/>
                  </a:lnTo>
                  <a:lnTo>
                    <a:pt x="4003849" y="87622"/>
                  </a:lnTo>
                  <a:lnTo>
                    <a:pt x="4033429" y="84832"/>
                  </a:lnTo>
                  <a:lnTo>
                    <a:pt x="4069705" y="83157"/>
                  </a:lnTo>
                  <a:lnTo>
                    <a:pt x="4098169" y="82041"/>
                  </a:lnTo>
                  <a:lnTo>
                    <a:pt x="4136677" y="81483"/>
                  </a:lnTo>
                  <a:lnTo>
                    <a:pt x="4166815" y="80925"/>
                  </a:lnTo>
                  <a:lnTo>
                    <a:pt x="4203650" y="80925"/>
                  </a:lnTo>
                  <a:lnTo>
                    <a:pt x="4231554" y="80367"/>
                  </a:lnTo>
                  <a:lnTo>
                    <a:pt x="4270622" y="77576"/>
                  </a:lnTo>
                  <a:lnTo>
                    <a:pt x="4300202" y="75344"/>
                  </a:lnTo>
                  <a:lnTo>
                    <a:pt x="4337038" y="70879"/>
                  </a:lnTo>
                  <a:lnTo>
                    <a:pt x="4365502" y="67530"/>
                  </a:lnTo>
                  <a:lnTo>
                    <a:pt x="4407358" y="63066"/>
                  </a:lnTo>
                  <a:lnTo>
                    <a:pt x="4439730" y="59159"/>
                  </a:lnTo>
                  <a:lnTo>
                    <a:pt x="4483262" y="54136"/>
                  </a:lnTo>
                  <a:lnTo>
                    <a:pt x="4517306" y="50787"/>
                  </a:lnTo>
                  <a:lnTo>
                    <a:pt x="4559162" y="48555"/>
                  </a:lnTo>
                  <a:lnTo>
                    <a:pt x="4591534" y="47439"/>
                  </a:lnTo>
                  <a:lnTo>
                    <a:pt x="4635066" y="46322"/>
                  </a:lnTo>
                  <a:lnTo>
                    <a:pt x="4669110" y="45764"/>
                  </a:lnTo>
                  <a:lnTo>
                    <a:pt x="4710970" y="45206"/>
                  </a:lnTo>
                  <a:lnTo>
                    <a:pt x="4743338" y="45206"/>
                  </a:lnTo>
                  <a:lnTo>
                    <a:pt x="4784082" y="41858"/>
                  </a:lnTo>
                  <a:lnTo>
                    <a:pt x="4815894" y="39625"/>
                  </a:lnTo>
                  <a:lnTo>
                    <a:pt x="4856634" y="35160"/>
                  </a:lnTo>
                  <a:lnTo>
                    <a:pt x="4887886" y="32370"/>
                  </a:lnTo>
                  <a:lnTo>
                    <a:pt x="4928070" y="30695"/>
                  </a:lnTo>
                  <a:lnTo>
                    <a:pt x="4959326" y="29021"/>
                  </a:lnTo>
                  <a:lnTo>
                    <a:pt x="4996718" y="22324"/>
                  </a:lnTo>
                  <a:lnTo>
                    <a:pt x="5025182" y="17301"/>
                  </a:lnTo>
                  <a:lnTo>
                    <a:pt x="5047506" y="13394"/>
                  </a:lnTo>
                  <a:lnTo>
                    <a:pt x="5064806" y="10604"/>
                  </a:lnTo>
                  <a:lnTo>
                    <a:pt x="5092714" y="5581"/>
                  </a:lnTo>
                  <a:lnTo>
                    <a:pt x="5107782" y="2790"/>
                  </a:lnTo>
                  <a:lnTo>
                    <a:pt x="5125642" y="0"/>
                  </a:lnTo>
                  <a:lnTo>
                    <a:pt x="5161358" y="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8" name="8a670c46-8bbe-428e-b7b3-b878701d1cf5"/>
            <p:cNvSpPr/>
            <p:nvPr/>
          </p:nvSpPr>
          <p:spPr>
            <a:xfrm>
              <a:off x="3357000" y="3949200"/>
              <a:ext cx="5162040" cy="131400"/>
            </a:xfrm>
            <a:custGeom>
              <a:avLst/>
              <a:gdLst>
                <a:gd name="textAreaLeft" fmla="*/ 0 w 5162040"/>
                <a:gd name="textAreaRight" fmla="*/ 5162400 w 5162040"/>
                <a:gd name="textAreaTop" fmla="*/ 0 h 131400"/>
                <a:gd name="textAreaBottom" fmla="*/ 131760 h 131400"/>
              </a:gdLst>
              <a:ahLst/>
              <a:rect l="textAreaLeft" t="textAreaTop" r="textAreaRight" b="textAreaBottom"/>
              <a:pathLst>
                <a:path w="5161359" h="131713">
                  <a:moveTo>
                    <a:pt x="0" y="42416"/>
                  </a:moveTo>
                  <a:lnTo>
                    <a:pt x="15068" y="42416"/>
                  </a:lnTo>
                  <a:lnTo>
                    <a:pt x="42416" y="39626"/>
                  </a:lnTo>
                  <a:lnTo>
                    <a:pt x="63624" y="37393"/>
                  </a:lnTo>
                  <a:lnTo>
                    <a:pt x="89854" y="36277"/>
                  </a:lnTo>
                  <a:lnTo>
                    <a:pt x="110504" y="35161"/>
                  </a:lnTo>
                  <a:lnTo>
                    <a:pt x="138968" y="31812"/>
                  </a:lnTo>
                  <a:lnTo>
                    <a:pt x="161292" y="29022"/>
                  </a:lnTo>
                  <a:lnTo>
                    <a:pt x="193662" y="27347"/>
                  </a:lnTo>
                  <a:lnTo>
                    <a:pt x="218777" y="26231"/>
                  </a:lnTo>
                  <a:lnTo>
                    <a:pt x="252821" y="25673"/>
                  </a:lnTo>
                  <a:lnTo>
                    <a:pt x="279052" y="25115"/>
                  </a:lnTo>
                  <a:lnTo>
                    <a:pt x="317003" y="25115"/>
                  </a:lnTo>
                  <a:lnTo>
                    <a:pt x="346025" y="25115"/>
                  </a:lnTo>
                  <a:lnTo>
                    <a:pt x="388441" y="27906"/>
                  </a:lnTo>
                  <a:lnTo>
                    <a:pt x="420811" y="30138"/>
                  </a:lnTo>
                  <a:lnTo>
                    <a:pt x="467692" y="31254"/>
                  </a:lnTo>
                  <a:lnTo>
                    <a:pt x="504527" y="31812"/>
                  </a:lnTo>
                  <a:lnTo>
                    <a:pt x="532990" y="32929"/>
                  </a:lnTo>
                  <a:lnTo>
                    <a:pt x="575406" y="32929"/>
                  </a:lnTo>
                  <a:lnTo>
                    <a:pt x="608334" y="33487"/>
                  </a:lnTo>
                  <a:lnTo>
                    <a:pt x="634565" y="33487"/>
                  </a:lnTo>
                  <a:lnTo>
                    <a:pt x="675865" y="33487"/>
                  </a:lnTo>
                  <a:lnTo>
                    <a:pt x="708235" y="33487"/>
                  </a:lnTo>
                  <a:lnTo>
                    <a:pt x="735024" y="33487"/>
                  </a:lnTo>
                  <a:lnTo>
                    <a:pt x="781347" y="33487"/>
                  </a:lnTo>
                  <a:lnTo>
                    <a:pt x="817624" y="33487"/>
                  </a:lnTo>
                  <a:lnTo>
                    <a:pt x="846645" y="33487"/>
                  </a:lnTo>
                  <a:lnTo>
                    <a:pt x="891852" y="33487"/>
                  </a:lnTo>
                  <a:lnTo>
                    <a:pt x="927013" y="33487"/>
                  </a:lnTo>
                  <a:lnTo>
                    <a:pt x="955476" y="33487"/>
                  </a:lnTo>
                  <a:lnTo>
                    <a:pt x="1002915" y="33487"/>
                  </a:lnTo>
                  <a:lnTo>
                    <a:pt x="1039750" y="33487"/>
                  </a:lnTo>
                  <a:lnTo>
                    <a:pt x="1069330" y="33487"/>
                  </a:lnTo>
                  <a:lnTo>
                    <a:pt x="1095002" y="33487"/>
                  </a:lnTo>
                  <a:lnTo>
                    <a:pt x="1117327" y="33487"/>
                  </a:lnTo>
                  <a:lnTo>
                    <a:pt x="1155278" y="33487"/>
                  </a:lnTo>
                  <a:lnTo>
                    <a:pt x="1185974" y="32929"/>
                  </a:lnTo>
                  <a:lnTo>
                    <a:pt x="1214437" y="31254"/>
                  </a:lnTo>
                  <a:lnTo>
                    <a:pt x="1240110" y="30138"/>
                  </a:lnTo>
                  <a:lnTo>
                    <a:pt x="1281968" y="27906"/>
                  </a:lnTo>
                  <a:lnTo>
                    <a:pt x="1316012" y="26231"/>
                  </a:lnTo>
                  <a:lnTo>
                    <a:pt x="1345592" y="24557"/>
                  </a:lnTo>
                  <a:lnTo>
                    <a:pt x="1371265" y="22883"/>
                  </a:lnTo>
                  <a:lnTo>
                    <a:pt x="1414239" y="20092"/>
                  </a:lnTo>
                  <a:lnTo>
                    <a:pt x="1448283" y="18418"/>
                  </a:lnTo>
                  <a:lnTo>
                    <a:pt x="1476188" y="17860"/>
                  </a:lnTo>
                  <a:lnTo>
                    <a:pt x="1501303" y="17302"/>
                  </a:lnTo>
                  <a:lnTo>
                    <a:pt x="1542603" y="16743"/>
                  </a:lnTo>
                  <a:lnTo>
                    <a:pt x="1576089" y="15627"/>
                  </a:lnTo>
                  <a:lnTo>
                    <a:pt x="1606785" y="13953"/>
                  </a:lnTo>
                  <a:lnTo>
                    <a:pt x="1633574" y="12837"/>
                  </a:lnTo>
                  <a:lnTo>
                    <a:pt x="1678781" y="10604"/>
                  </a:lnTo>
                  <a:lnTo>
                    <a:pt x="1715058" y="8930"/>
                  </a:lnTo>
                  <a:lnTo>
                    <a:pt x="1746312" y="8372"/>
                  </a:lnTo>
                  <a:lnTo>
                    <a:pt x="1774217" y="8372"/>
                  </a:lnTo>
                  <a:lnTo>
                    <a:pt x="1819981" y="7814"/>
                  </a:lnTo>
                  <a:lnTo>
                    <a:pt x="1857375" y="7256"/>
                  </a:lnTo>
                  <a:lnTo>
                    <a:pt x="1888628" y="7256"/>
                  </a:lnTo>
                  <a:lnTo>
                    <a:pt x="1916534" y="7256"/>
                  </a:lnTo>
                  <a:lnTo>
                    <a:pt x="1962856" y="6698"/>
                  </a:lnTo>
                  <a:lnTo>
                    <a:pt x="2000250" y="6139"/>
                  </a:lnTo>
                  <a:lnTo>
                    <a:pt x="2032620" y="5581"/>
                  </a:lnTo>
                  <a:lnTo>
                    <a:pt x="2059967" y="4465"/>
                  </a:lnTo>
                  <a:lnTo>
                    <a:pt x="2083965" y="2791"/>
                  </a:lnTo>
                  <a:lnTo>
                    <a:pt x="2124707" y="1117"/>
                  </a:lnTo>
                  <a:lnTo>
                    <a:pt x="2157635" y="0"/>
                  </a:lnTo>
                  <a:lnTo>
                    <a:pt x="2187215" y="0"/>
                  </a:lnTo>
                  <a:lnTo>
                    <a:pt x="2214005" y="1117"/>
                  </a:lnTo>
                  <a:lnTo>
                    <a:pt x="2238003" y="2233"/>
                  </a:lnTo>
                  <a:lnTo>
                    <a:pt x="2277629" y="3907"/>
                  </a:lnTo>
                  <a:lnTo>
                    <a:pt x="2311115" y="5023"/>
                  </a:lnTo>
                  <a:lnTo>
                    <a:pt x="2340695" y="6139"/>
                  </a:lnTo>
                  <a:lnTo>
                    <a:pt x="2368599" y="6139"/>
                  </a:lnTo>
                  <a:lnTo>
                    <a:pt x="2393715" y="6139"/>
                  </a:lnTo>
                  <a:lnTo>
                    <a:pt x="2435573" y="6698"/>
                  </a:lnTo>
                  <a:lnTo>
                    <a:pt x="2469617" y="6698"/>
                  </a:lnTo>
                  <a:lnTo>
                    <a:pt x="2500313" y="6698"/>
                  </a:lnTo>
                  <a:lnTo>
                    <a:pt x="2528775" y="6698"/>
                  </a:lnTo>
                  <a:lnTo>
                    <a:pt x="2553891" y="6698"/>
                  </a:lnTo>
                  <a:lnTo>
                    <a:pt x="2595749" y="6698"/>
                  </a:lnTo>
                  <a:lnTo>
                    <a:pt x="2629793" y="7256"/>
                  </a:lnTo>
                  <a:lnTo>
                    <a:pt x="2659931" y="7814"/>
                  </a:lnTo>
                  <a:lnTo>
                    <a:pt x="2686719" y="8930"/>
                  </a:lnTo>
                  <a:lnTo>
                    <a:pt x="2710719" y="10604"/>
                  </a:lnTo>
                  <a:lnTo>
                    <a:pt x="2750901" y="12279"/>
                  </a:lnTo>
                  <a:lnTo>
                    <a:pt x="2783271" y="13953"/>
                  </a:lnTo>
                  <a:lnTo>
                    <a:pt x="2812851" y="14511"/>
                  </a:lnTo>
                  <a:lnTo>
                    <a:pt x="2839641" y="14511"/>
                  </a:lnTo>
                  <a:lnTo>
                    <a:pt x="2863081" y="15069"/>
                  </a:lnTo>
                  <a:lnTo>
                    <a:pt x="2902707" y="15069"/>
                  </a:lnTo>
                  <a:lnTo>
                    <a:pt x="2935077" y="15627"/>
                  </a:lnTo>
                  <a:lnTo>
                    <a:pt x="2965215" y="17302"/>
                  </a:lnTo>
                  <a:lnTo>
                    <a:pt x="2992561" y="18418"/>
                  </a:lnTo>
                  <a:lnTo>
                    <a:pt x="3037209" y="21208"/>
                  </a:lnTo>
                  <a:lnTo>
                    <a:pt x="3073487" y="22883"/>
                  </a:lnTo>
                  <a:lnTo>
                    <a:pt x="3104741" y="24557"/>
                  </a:lnTo>
                  <a:lnTo>
                    <a:pt x="3132087" y="26231"/>
                  </a:lnTo>
                  <a:lnTo>
                    <a:pt x="3156087" y="27347"/>
                  </a:lnTo>
                  <a:lnTo>
                    <a:pt x="3196271" y="30138"/>
                  </a:lnTo>
                  <a:lnTo>
                    <a:pt x="3229757" y="31812"/>
                  </a:lnTo>
                  <a:lnTo>
                    <a:pt x="3258777" y="33487"/>
                  </a:lnTo>
                  <a:lnTo>
                    <a:pt x="3285567" y="35161"/>
                  </a:lnTo>
                  <a:lnTo>
                    <a:pt x="3309565" y="36277"/>
                  </a:lnTo>
                  <a:lnTo>
                    <a:pt x="3349191" y="39068"/>
                  </a:lnTo>
                  <a:lnTo>
                    <a:pt x="3381561" y="40742"/>
                  </a:lnTo>
                  <a:lnTo>
                    <a:pt x="3411699" y="42416"/>
                  </a:lnTo>
                  <a:lnTo>
                    <a:pt x="3438487" y="44091"/>
                  </a:lnTo>
                  <a:lnTo>
                    <a:pt x="3483137" y="46881"/>
                  </a:lnTo>
                  <a:lnTo>
                    <a:pt x="3518855" y="49114"/>
                  </a:lnTo>
                  <a:lnTo>
                    <a:pt x="3548435" y="51346"/>
                  </a:lnTo>
                  <a:lnTo>
                    <a:pt x="3574665" y="53020"/>
                  </a:lnTo>
                  <a:lnTo>
                    <a:pt x="3618755" y="55811"/>
                  </a:lnTo>
                  <a:lnTo>
                    <a:pt x="3653917" y="57485"/>
                  </a:lnTo>
                  <a:lnTo>
                    <a:pt x="3683497" y="58043"/>
                  </a:lnTo>
                  <a:lnTo>
                    <a:pt x="3709727" y="58601"/>
                  </a:lnTo>
                  <a:lnTo>
                    <a:pt x="3753259" y="59159"/>
                  </a:lnTo>
                  <a:lnTo>
                    <a:pt x="3787861" y="60276"/>
                  </a:lnTo>
                  <a:lnTo>
                    <a:pt x="3817441" y="61950"/>
                  </a:lnTo>
                  <a:lnTo>
                    <a:pt x="3843673" y="63066"/>
                  </a:lnTo>
                  <a:lnTo>
                    <a:pt x="3886647" y="65857"/>
                  </a:lnTo>
                  <a:lnTo>
                    <a:pt x="3920691" y="67531"/>
                  </a:lnTo>
                  <a:lnTo>
                    <a:pt x="3947479" y="69205"/>
                  </a:lnTo>
                  <a:lnTo>
                    <a:pt x="3970921" y="70880"/>
                  </a:lnTo>
                  <a:lnTo>
                    <a:pt x="4009987" y="73670"/>
                  </a:lnTo>
                  <a:lnTo>
                    <a:pt x="4041241" y="75903"/>
                  </a:lnTo>
                  <a:lnTo>
                    <a:pt x="4066915" y="78135"/>
                  </a:lnTo>
                  <a:lnTo>
                    <a:pt x="4089797" y="79809"/>
                  </a:lnTo>
                  <a:lnTo>
                    <a:pt x="4127749" y="82600"/>
                  </a:lnTo>
                  <a:lnTo>
                    <a:pt x="4157885" y="85390"/>
                  </a:lnTo>
                  <a:lnTo>
                    <a:pt x="4203650" y="92088"/>
                  </a:lnTo>
                  <a:lnTo>
                    <a:pt x="4238810" y="97111"/>
                  </a:lnTo>
                  <a:lnTo>
                    <a:pt x="4267274" y="101017"/>
                  </a:lnTo>
                  <a:lnTo>
                    <a:pt x="4311922" y="108273"/>
                  </a:lnTo>
                  <a:lnTo>
                    <a:pt x="4347082" y="113854"/>
                  </a:lnTo>
                  <a:lnTo>
                    <a:pt x="4374990" y="117202"/>
                  </a:lnTo>
                  <a:lnTo>
                    <a:pt x="4419638" y="118877"/>
                  </a:lnTo>
                  <a:lnTo>
                    <a:pt x="4454238" y="120551"/>
                  </a:lnTo>
                  <a:lnTo>
                    <a:pt x="4481586" y="121667"/>
                  </a:lnTo>
                  <a:lnTo>
                    <a:pt x="4523446" y="125016"/>
                  </a:lnTo>
                  <a:lnTo>
                    <a:pt x="4555814" y="127248"/>
                  </a:lnTo>
                  <a:lnTo>
                    <a:pt x="4602694" y="128923"/>
                  </a:lnTo>
                  <a:lnTo>
                    <a:pt x="4638974" y="130039"/>
                  </a:lnTo>
                  <a:lnTo>
                    <a:pt x="4665202" y="130597"/>
                  </a:lnTo>
                  <a:lnTo>
                    <a:pt x="4687526" y="130597"/>
                  </a:lnTo>
                  <a:lnTo>
                    <a:pt x="4725478" y="131155"/>
                  </a:lnTo>
                  <a:lnTo>
                    <a:pt x="4772358" y="131155"/>
                  </a:lnTo>
                  <a:lnTo>
                    <a:pt x="4808078" y="131713"/>
                  </a:lnTo>
                  <a:lnTo>
                    <a:pt x="4851054" y="131713"/>
                  </a:lnTo>
                  <a:lnTo>
                    <a:pt x="4883982" y="131713"/>
                  </a:lnTo>
                  <a:lnTo>
                    <a:pt x="4922490" y="131713"/>
                  </a:lnTo>
                  <a:lnTo>
                    <a:pt x="4952070" y="131713"/>
                  </a:lnTo>
                  <a:lnTo>
                    <a:pt x="4974394" y="131713"/>
                  </a:lnTo>
                  <a:lnTo>
                    <a:pt x="4991694" y="131713"/>
                  </a:lnTo>
                  <a:lnTo>
                    <a:pt x="5005646" y="131713"/>
                  </a:lnTo>
                  <a:lnTo>
                    <a:pt x="5017370" y="131713"/>
                  </a:lnTo>
                  <a:lnTo>
                    <a:pt x="5030206" y="131713"/>
                  </a:lnTo>
                  <a:lnTo>
                    <a:pt x="5045274" y="131713"/>
                  </a:lnTo>
                  <a:lnTo>
                    <a:pt x="5080994" y="131713"/>
                  </a:lnTo>
                  <a:lnTo>
                    <a:pt x="5116710" y="131713"/>
                  </a:lnTo>
                  <a:lnTo>
                    <a:pt x="5143502" y="131713"/>
                  </a:lnTo>
                  <a:lnTo>
                    <a:pt x="5161358" y="131713"/>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9" name="906764c5-b56c-4078-9003-2edd90eb894d"/>
            <p:cNvSpPr/>
            <p:nvPr/>
          </p:nvSpPr>
          <p:spPr>
            <a:xfrm>
              <a:off x="820800" y="3965400"/>
              <a:ext cx="2268360" cy="79560"/>
            </a:xfrm>
            <a:custGeom>
              <a:avLst/>
              <a:gdLst>
                <a:gd name="textAreaLeft" fmla="*/ 0 w 2268360"/>
                <a:gd name="textAreaRight" fmla="*/ 2268720 w 2268360"/>
                <a:gd name="textAreaTop" fmla="*/ 0 h 79560"/>
                <a:gd name="textAreaBottom" fmla="*/ 79920 h 79560"/>
              </a:gdLst>
              <a:ahLst/>
              <a:rect l="textAreaLeft" t="textAreaTop" r="textAreaRight" b="textAreaBottom"/>
              <a:pathLst>
                <a:path w="2268141" h="79809">
                  <a:moveTo>
                    <a:pt x="0" y="70880"/>
                  </a:moveTo>
                  <a:lnTo>
                    <a:pt x="20650" y="64741"/>
                  </a:lnTo>
                  <a:lnTo>
                    <a:pt x="55253" y="58043"/>
                  </a:lnTo>
                  <a:lnTo>
                    <a:pt x="82042" y="52462"/>
                  </a:lnTo>
                  <a:lnTo>
                    <a:pt x="122783" y="46881"/>
                  </a:lnTo>
                  <a:lnTo>
                    <a:pt x="155154" y="42416"/>
                  </a:lnTo>
                  <a:lnTo>
                    <a:pt x="180268" y="39626"/>
                  </a:lnTo>
                  <a:lnTo>
                    <a:pt x="221010" y="37952"/>
                  </a:lnTo>
                  <a:lnTo>
                    <a:pt x="253380" y="36835"/>
                  </a:lnTo>
                  <a:lnTo>
                    <a:pt x="279053" y="36277"/>
                  </a:lnTo>
                  <a:lnTo>
                    <a:pt x="322585" y="35719"/>
                  </a:lnTo>
                  <a:lnTo>
                    <a:pt x="357188" y="35719"/>
                  </a:lnTo>
                  <a:lnTo>
                    <a:pt x="385093" y="35161"/>
                  </a:lnTo>
                  <a:lnTo>
                    <a:pt x="411882" y="33487"/>
                  </a:lnTo>
                  <a:lnTo>
                    <a:pt x="435323" y="32370"/>
                  </a:lnTo>
                  <a:lnTo>
                    <a:pt x="474390" y="30138"/>
                  </a:lnTo>
                  <a:lnTo>
                    <a:pt x="506202" y="28464"/>
                  </a:lnTo>
                  <a:lnTo>
                    <a:pt x="535223" y="27906"/>
                  </a:lnTo>
                  <a:lnTo>
                    <a:pt x="560338" y="27906"/>
                  </a:lnTo>
                  <a:lnTo>
                    <a:pt x="602754" y="26789"/>
                  </a:lnTo>
                  <a:lnTo>
                    <a:pt x="637357" y="26231"/>
                  </a:lnTo>
                  <a:lnTo>
                    <a:pt x="668052" y="24557"/>
                  </a:lnTo>
                  <a:lnTo>
                    <a:pt x="695400" y="23441"/>
                  </a:lnTo>
                  <a:lnTo>
                    <a:pt x="741164" y="21208"/>
                  </a:lnTo>
                  <a:lnTo>
                    <a:pt x="777999" y="18976"/>
                  </a:lnTo>
                  <a:lnTo>
                    <a:pt x="809811" y="17302"/>
                  </a:lnTo>
                  <a:lnTo>
                    <a:pt x="837158" y="15627"/>
                  </a:lnTo>
                  <a:lnTo>
                    <a:pt x="861157" y="14511"/>
                  </a:lnTo>
                  <a:lnTo>
                    <a:pt x="901899" y="12279"/>
                  </a:lnTo>
                  <a:lnTo>
                    <a:pt x="935385" y="10604"/>
                  </a:lnTo>
                  <a:lnTo>
                    <a:pt x="964965" y="9488"/>
                  </a:lnTo>
                  <a:lnTo>
                    <a:pt x="993428" y="9488"/>
                  </a:lnTo>
                  <a:lnTo>
                    <a:pt x="1017985" y="8930"/>
                  </a:lnTo>
                  <a:lnTo>
                    <a:pt x="1060401" y="8930"/>
                  </a:lnTo>
                  <a:lnTo>
                    <a:pt x="1095003" y="8372"/>
                  </a:lnTo>
                  <a:lnTo>
                    <a:pt x="1126257" y="7256"/>
                  </a:lnTo>
                  <a:lnTo>
                    <a:pt x="1155837" y="6140"/>
                  </a:lnTo>
                  <a:lnTo>
                    <a:pt x="1182068" y="4465"/>
                  </a:lnTo>
                  <a:lnTo>
                    <a:pt x="1226716" y="2791"/>
                  </a:lnTo>
                  <a:lnTo>
                    <a:pt x="1262993" y="1117"/>
                  </a:lnTo>
                  <a:lnTo>
                    <a:pt x="1295921" y="558"/>
                  </a:lnTo>
                  <a:lnTo>
                    <a:pt x="1327175" y="558"/>
                  </a:lnTo>
                  <a:lnTo>
                    <a:pt x="1355080" y="0"/>
                  </a:lnTo>
                  <a:lnTo>
                    <a:pt x="1401403" y="0"/>
                  </a:lnTo>
                  <a:lnTo>
                    <a:pt x="1440470" y="0"/>
                  </a:lnTo>
                  <a:lnTo>
                    <a:pt x="1475631" y="558"/>
                  </a:lnTo>
                  <a:lnTo>
                    <a:pt x="1511908" y="1675"/>
                  </a:lnTo>
                  <a:lnTo>
                    <a:pt x="1539813" y="2791"/>
                  </a:lnTo>
                  <a:lnTo>
                    <a:pt x="1564370" y="3907"/>
                  </a:lnTo>
                  <a:lnTo>
                    <a:pt x="1606228" y="5581"/>
                  </a:lnTo>
                  <a:lnTo>
                    <a:pt x="1641388" y="7814"/>
                  </a:lnTo>
                  <a:lnTo>
                    <a:pt x="1674875" y="10046"/>
                  </a:lnTo>
                  <a:lnTo>
                    <a:pt x="1709477" y="12279"/>
                  </a:lnTo>
                  <a:lnTo>
                    <a:pt x="1737383" y="14511"/>
                  </a:lnTo>
                  <a:lnTo>
                    <a:pt x="1761381" y="16744"/>
                  </a:lnTo>
                  <a:lnTo>
                    <a:pt x="1803239" y="20650"/>
                  </a:lnTo>
                  <a:lnTo>
                    <a:pt x="1838400" y="23999"/>
                  </a:lnTo>
                  <a:lnTo>
                    <a:pt x="1871328" y="26789"/>
                  </a:lnTo>
                  <a:lnTo>
                    <a:pt x="1905930" y="29580"/>
                  </a:lnTo>
                  <a:lnTo>
                    <a:pt x="1933836" y="32370"/>
                  </a:lnTo>
                  <a:lnTo>
                    <a:pt x="1957834" y="34603"/>
                  </a:lnTo>
                  <a:lnTo>
                    <a:pt x="1999692" y="38510"/>
                  </a:lnTo>
                  <a:lnTo>
                    <a:pt x="2035411" y="42416"/>
                  </a:lnTo>
                  <a:lnTo>
                    <a:pt x="2068897" y="46881"/>
                  </a:lnTo>
                  <a:lnTo>
                    <a:pt x="2104617" y="51904"/>
                  </a:lnTo>
                  <a:lnTo>
                    <a:pt x="2147033" y="59160"/>
                  </a:lnTo>
                  <a:lnTo>
                    <a:pt x="2172147" y="63066"/>
                  </a:lnTo>
                  <a:lnTo>
                    <a:pt x="2200053" y="68089"/>
                  </a:lnTo>
                  <a:lnTo>
                    <a:pt x="2231865" y="73670"/>
                  </a:lnTo>
                  <a:lnTo>
                    <a:pt x="2268141" y="79809"/>
                  </a:lnTo>
                </a:path>
              </a:pathLst>
            </a:custGeom>
            <a:noFill/>
            <a:ln w="106920">
              <a:solidFill>
                <a:srgbClr val="00ff00">
                  <a:alpha val="50000"/>
                </a:srgbClr>
              </a:solidFill>
              <a:round/>
            </a:ln>
          </p:spPr>
          <p:style>
            <a:lnRef idx="0"/>
            <a:fillRef idx="0"/>
            <a:effectRef idx="0"/>
            <a:fontRef idx="minor"/>
          </p:style>
          <p:txBody>
            <a:bodyPr lIns="90000" rIns="90000" tIns="33120" bIns="33120" anchor="ctr" anchorCtr="1">
              <a:noAutofit/>
            </a:bodyPr>
            <a:p>
              <a:endParaRPr b="0" lang="en-US" sz="1800" spc="-1" strike="noStrike">
                <a:solidFill>
                  <a:srgbClr val="000000"/>
                </a:solidFill>
                <a:latin typeface="Arial"/>
              </a:endParaRPr>
            </a:p>
          </p:txBody>
        </p:sp>
        <p:sp>
          <p:nvSpPr>
            <p:cNvPr id="120" name="4f7f1279-b179-4842-84cb-30ed1ee5b9ba"/>
            <p:cNvSpPr/>
            <p:nvPr/>
          </p:nvSpPr>
          <p:spPr>
            <a:xfrm>
              <a:off x="5330880" y="4429440"/>
              <a:ext cx="3161520" cy="142560"/>
            </a:xfrm>
            <a:custGeom>
              <a:avLst/>
              <a:gdLst>
                <a:gd name="textAreaLeft" fmla="*/ 0 w 3161520"/>
                <a:gd name="textAreaRight" fmla="*/ 3161880 w 3161520"/>
                <a:gd name="textAreaTop" fmla="*/ 0 h 142560"/>
                <a:gd name="textAreaBottom" fmla="*/ 142920 h 142560"/>
              </a:gdLst>
              <a:ahLst/>
              <a:rect l="textAreaLeft" t="textAreaTop" r="textAreaRight" b="textAreaBottom"/>
              <a:pathLst>
                <a:path w="3161110" h="142875">
                  <a:moveTo>
                    <a:pt x="0" y="125016"/>
                  </a:moveTo>
                  <a:lnTo>
                    <a:pt x="17860" y="118876"/>
                  </a:lnTo>
                  <a:lnTo>
                    <a:pt x="32371" y="114412"/>
                  </a:lnTo>
                  <a:lnTo>
                    <a:pt x="65857" y="106040"/>
                  </a:lnTo>
                  <a:lnTo>
                    <a:pt x="92088" y="99901"/>
                  </a:lnTo>
                  <a:lnTo>
                    <a:pt x="123900" y="93204"/>
                  </a:lnTo>
                  <a:lnTo>
                    <a:pt x="148456" y="88739"/>
                  </a:lnTo>
                  <a:lnTo>
                    <a:pt x="181943" y="83158"/>
                  </a:lnTo>
                  <a:lnTo>
                    <a:pt x="208174" y="78693"/>
                  </a:lnTo>
                  <a:lnTo>
                    <a:pt x="245567" y="70321"/>
                  </a:lnTo>
                  <a:lnTo>
                    <a:pt x="275146" y="64182"/>
                  </a:lnTo>
                  <a:lnTo>
                    <a:pt x="317004" y="57485"/>
                  </a:lnTo>
                  <a:lnTo>
                    <a:pt x="349374" y="53020"/>
                  </a:lnTo>
                  <a:lnTo>
                    <a:pt x="393465" y="47439"/>
                  </a:lnTo>
                  <a:lnTo>
                    <a:pt x="427509" y="42974"/>
                  </a:lnTo>
                  <a:lnTo>
                    <a:pt x="452624" y="40184"/>
                  </a:lnTo>
                  <a:lnTo>
                    <a:pt x="475506" y="37393"/>
                  </a:lnTo>
                  <a:lnTo>
                    <a:pt x="512341" y="33486"/>
                  </a:lnTo>
                  <a:lnTo>
                    <a:pt x="541921" y="30696"/>
                  </a:lnTo>
                  <a:lnTo>
                    <a:pt x="587127" y="29580"/>
                  </a:lnTo>
                  <a:lnTo>
                    <a:pt x="622846" y="28463"/>
                  </a:lnTo>
                  <a:lnTo>
                    <a:pt x="650751" y="27347"/>
                  </a:lnTo>
                  <a:lnTo>
                    <a:pt x="695400" y="23999"/>
                  </a:lnTo>
                  <a:lnTo>
                    <a:pt x="730560" y="21766"/>
                  </a:lnTo>
                  <a:lnTo>
                    <a:pt x="758466" y="20092"/>
                  </a:lnTo>
                  <a:lnTo>
                    <a:pt x="803114" y="19534"/>
                  </a:lnTo>
                  <a:lnTo>
                    <a:pt x="838275" y="18417"/>
                  </a:lnTo>
                  <a:lnTo>
                    <a:pt x="866180" y="17859"/>
                  </a:lnTo>
                  <a:lnTo>
                    <a:pt x="913619" y="15069"/>
                  </a:lnTo>
                  <a:lnTo>
                    <a:pt x="950454" y="12836"/>
                  </a:lnTo>
                  <a:lnTo>
                    <a:pt x="980034" y="10604"/>
                  </a:lnTo>
                  <a:lnTo>
                    <a:pt x="1005706" y="8930"/>
                  </a:lnTo>
                  <a:lnTo>
                    <a:pt x="1028031" y="7255"/>
                  </a:lnTo>
                  <a:lnTo>
                    <a:pt x="1065982" y="4465"/>
                  </a:lnTo>
                  <a:lnTo>
                    <a:pt x="1095561" y="2791"/>
                  </a:lnTo>
                  <a:lnTo>
                    <a:pt x="1121234" y="2232"/>
                  </a:lnTo>
                  <a:lnTo>
                    <a:pt x="1144117" y="1674"/>
                  </a:lnTo>
                  <a:lnTo>
                    <a:pt x="1181510" y="1116"/>
                  </a:lnTo>
                  <a:lnTo>
                    <a:pt x="1212206" y="558"/>
                  </a:lnTo>
                  <a:lnTo>
                    <a:pt x="1239553" y="558"/>
                  </a:lnTo>
                  <a:lnTo>
                    <a:pt x="1263551" y="558"/>
                  </a:lnTo>
                  <a:lnTo>
                    <a:pt x="1303177" y="0"/>
                  </a:lnTo>
                  <a:lnTo>
                    <a:pt x="1334989" y="0"/>
                  </a:lnTo>
                  <a:lnTo>
                    <a:pt x="1362336" y="0"/>
                  </a:lnTo>
                  <a:lnTo>
                    <a:pt x="1386893" y="0"/>
                  </a:lnTo>
                  <a:lnTo>
                    <a:pt x="1427634" y="0"/>
                  </a:lnTo>
                  <a:lnTo>
                    <a:pt x="1460004" y="0"/>
                  </a:lnTo>
                  <a:lnTo>
                    <a:pt x="1489026" y="0"/>
                  </a:lnTo>
                  <a:lnTo>
                    <a:pt x="1514699" y="0"/>
                  </a:lnTo>
                  <a:lnTo>
                    <a:pt x="1557673" y="0"/>
                  </a:lnTo>
                  <a:lnTo>
                    <a:pt x="1591717" y="558"/>
                  </a:lnTo>
                  <a:lnTo>
                    <a:pt x="1619623" y="2232"/>
                  </a:lnTo>
                  <a:lnTo>
                    <a:pt x="1644179" y="3349"/>
                  </a:lnTo>
                  <a:lnTo>
                    <a:pt x="1685479" y="5581"/>
                  </a:lnTo>
                  <a:lnTo>
                    <a:pt x="1718407" y="7255"/>
                  </a:lnTo>
                  <a:lnTo>
                    <a:pt x="1747429" y="8930"/>
                  </a:lnTo>
                  <a:lnTo>
                    <a:pt x="1773660" y="10604"/>
                  </a:lnTo>
                  <a:lnTo>
                    <a:pt x="1816076" y="13395"/>
                  </a:lnTo>
                  <a:lnTo>
                    <a:pt x="1850678" y="15627"/>
                  </a:lnTo>
                  <a:lnTo>
                    <a:pt x="1880258" y="17859"/>
                  </a:lnTo>
                  <a:lnTo>
                    <a:pt x="1905931" y="19534"/>
                  </a:lnTo>
                  <a:lnTo>
                    <a:pt x="1949463" y="22324"/>
                  </a:lnTo>
                  <a:lnTo>
                    <a:pt x="1984065" y="24557"/>
                  </a:lnTo>
                  <a:lnTo>
                    <a:pt x="2011971" y="26789"/>
                  </a:lnTo>
                  <a:lnTo>
                    <a:pt x="2037085" y="28463"/>
                  </a:lnTo>
                  <a:lnTo>
                    <a:pt x="2077827" y="31254"/>
                  </a:lnTo>
                  <a:lnTo>
                    <a:pt x="2110755" y="32928"/>
                  </a:lnTo>
                  <a:lnTo>
                    <a:pt x="2138661" y="33486"/>
                  </a:lnTo>
                  <a:lnTo>
                    <a:pt x="2162659" y="34044"/>
                  </a:lnTo>
                  <a:lnTo>
                    <a:pt x="2203401" y="34603"/>
                  </a:lnTo>
                  <a:lnTo>
                    <a:pt x="2235213" y="35719"/>
                  </a:lnTo>
                  <a:lnTo>
                    <a:pt x="2281537" y="38509"/>
                  </a:lnTo>
                  <a:lnTo>
                    <a:pt x="2317813" y="40742"/>
                  </a:lnTo>
                  <a:lnTo>
                    <a:pt x="2346835" y="42416"/>
                  </a:lnTo>
                  <a:lnTo>
                    <a:pt x="2392041" y="42974"/>
                  </a:lnTo>
                  <a:lnTo>
                    <a:pt x="2426643" y="43532"/>
                  </a:lnTo>
                  <a:lnTo>
                    <a:pt x="2455107" y="44090"/>
                  </a:lnTo>
                  <a:lnTo>
                    <a:pt x="2499755" y="44090"/>
                  </a:lnTo>
                  <a:lnTo>
                    <a:pt x="2534357" y="44648"/>
                  </a:lnTo>
                  <a:lnTo>
                    <a:pt x="2561705" y="44648"/>
                  </a:lnTo>
                  <a:lnTo>
                    <a:pt x="2603563" y="44648"/>
                  </a:lnTo>
                  <a:lnTo>
                    <a:pt x="2635933" y="44648"/>
                  </a:lnTo>
                  <a:lnTo>
                    <a:pt x="2662165" y="45207"/>
                  </a:lnTo>
                  <a:lnTo>
                    <a:pt x="2703463" y="47997"/>
                  </a:lnTo>
                  <a:lnTo>
                    <a:pt x="2735275" y="50229"/>
                  </a:lnTo>
                  <a:lnTo>
                    <a:pt x="2760949" y="52462"/>
                  </a:lnTo>
                  <a:lnTo>
                    <a:pt x="2801691" y="58601"/>
                  </a:lnTo>
                  <a:lnTo>
                    <a:pt x="2834061" y="63624"/>
                  </a:lnTo>
                  <a:lnTo>
                    <a:pt x="2859175" y="68089"/>
                  </a:lnTo>
                  <a:lnTo>
                    <a:pt x="2899917" y="78135"/>
                  </a:lnTo>
                  <a:lnTo>
                    <a:pt x="2931729" y="85948"/>
                  </a:lnTo>
                  <a:lnTo>
                    <a:pt x="2956843" y="92087"/>
                  </a:lnTo>
                  <a:lnTo>
                    <a:pt x="2994795" y="99901"/>
                  </a:lnTo>
                  <a:lnTo>
                    <a:pt x="3024933" y="106598"/>
                  </a:lnTo>
                  <a:lnTo>
                    <a:pt x="3048373" y="111621"/>
                  </a:lnTo>
                  <a:lnTo>
                    <a:pt x="3068465" y="116644"/>
                  </a:lnTo>
                  <a:lnTo>
                    <a:pt x="3087441" y="121109"/>
                  </a:lnTo>
                  <a:lnTo>
                    <a:pt x="3107533" y="127248"/>
                  </a:lnTo>
                  <a:lnTo>
                    <a:pt x="3131531" y="133945"/>
                  </a:lnTo>
                  <a:lnTo>
                    <a:pt x="3161111" y="142875"/>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21" name="c1b0f67e-77f3-411e-8474-08d51d48b70a"/>
            <p:cNvSpPr/>
            <p:nvPr/>
          </p:nvSpPr>
          <p:spPr>
            <a:xfrm>
              <a:off x="320760" y="4725000"/>
              <a:ext cx="5644080" cy="132840"/>
            </a:xfrm>
            <a:custGeom>
              <a:avLst/>
              <a:gdLst>
                <a:gd name="textAreaLeft" fmla="*/ 0 w 5644080"/>
                <a:gd name="textAreaRight" fmla="*/ 5644440 w 5644080"/>
                <a:gd name="textAreaTop" fmla="*/ 0 h 132840"/>
                <a:gd name="textAreaBottom" fmla="*/ 133200 h 132840"/>
              </a:gdLst>
              <a:ahLst/>
              <a:rect l="textAreaLeft" t="textAreaTop" r="textAreaRight" b="textAreaBottom"/>
              <a:pathLst>
                <a:path w="5643562" h="132829">
                  <a:moveTo>
                    <a:pt x="5643562" y="132829"/>
                  </a:moveTo>
                  <a:lnTo>
                    <a:pt x="5628494" y="126690"/>
                  </a:lnTo>
                  <a:lnTo>
                    <a:pt x="5603938" y="119993"/>
                  </a:lnTo>
                  <a:lnTo>
                    <a:pt x="5584962" y="114412"/>
                  </a:lnTo>
                  <a:lnTo>
                    <a:pt x="5559846" y="105482"/>
                  </a:lnTo>
                  <a:lnTo>
                    <a:pt x="5540314" y="99343"/>
                  </a:lnTo>
                  <a:lnTo>
                    <a:pt x="5509618" y="92645"/>
                  </a:lnTo>
                  <a:lnTo>
                    <a:pt x="5485618" y="87622"/>
                  </a:lnTo>
                  <a:lnTo>
                    <a:pt x="5454922" y="84832"/>
                  </a:lnTo>
                  <a:lnTo>
                    <a:pt x="5431482" y="82600"/>
                  </a:lnTo>
                  <a:lnTo>
                    <a:pt x="5397998" y="78693"/>
                  </a:lnTo>
                  <a:lnTo>
                    <a:pt x="5372322" y="75344"/>
                  </a:lnTo>
                  <a:lnTo>
                    <a:pt x="5334930" y="70879"/>
                  </a:lnTo>
                  <a:lnTo>
                    <a:pt x="5305910" y="66973"/>
                  </a:lnTo>
                  <a:lnTo>
                    <a:pt x="5269634" y="61950"/>
                  </a:lnTo>
                  <a:lnTo>
                    <a:pt x="5241726" y="58601"/>
                  </a:lnTo>
                  <a:lnTo>
                    <a:pt x="5203218" y="53578"/>
                  </a:lnTo>
                  <a:lnTo>
                    <a:pt x="5173638" y="49671"/>
                  </a:lnTo>
                  <a:lnTo>
                    <a:pt x="5131222" y="44648"/>
                  </a:lnTo>
                  <a:lnTo>
                    <a:pt x="5098294" y="40742"/>
                  </a:lnTo>
                  <a:lnTo>
                    <a:pt x="5054202" y="32928"/>
                  </a:lnTo>
                  <a:lnTo>
                    <a:pt x="5020158" y="26789"/>
                  </a:lnTo>
                  <a:lnTo>
                    <a:pt x="4975510" y="23440"/>
                  </a:lnTo>
                  <a:lnTo>
                    <a:pt x="4940350" y="20650"/>
                  </a:lnTo>
                  <a:lnTo>
                    <a:pt x="4895142" y="16185"/>
                  </a:lnTo>
                  <a:lnTo>
                    <a:pt x="4860542" y="12836"/>
                  </a:lnTo>
                  <a:lnTo>
                    <a:pt x="4818126" y="8371"/>
                  </a:lnTo>
                  <a:lnTo>
                    <a:pt x="4785198" y="5023"/>
                  </a:lnTo>
                  <a:lnTo>
                    <a:pt x="4738314" y="2790"/>
                  </a:lnTo>
                  <a:lnTo>
                    <a:pt x="4702038" y="1674"/>
                  </a:lnTo>
                  <a:lnTo>
                    <a:pt x="4655718" y="558"/>
                  </a:lnTo>
                  <a:lnTo>
                    <a:pt x="4620554" y="0"/>
                  </a:lnTo>
                  <a:lnTo>
                    <a:pt x="4594882" y="1116"/>
                  </a:lnTo>
                  <a:lnTo>
                    <a:pt x="4572002" y="2790"/>
                  </a:lnTo>
                  <a:lnTo>
                    <a:pt x="4534606" y="4465"/>
                  </a:lnTo>
                  <a:lnTo>
                    <a:pt x="4487726" y="5581"/>
                  </a:lnTo>
                  <a:lnTo>
                    <a:pt x="4451450" y="6139"/>
                  </a:lnTo>
                  <a:lnTo>
                    <a:pt x="4405686" y="6697"/>
                  </a:lnTo>
                  <a:lnTo>
                    <a:pt x="4369966" y="7255"/>
                  </a:lnTo>
                  <a:lnTo>
                    <a:pt x="4324758" y="13394"/>
                  </a:lnTo>
                  <a:lnTo>
                    <a:pt x="4289598" y="17859"/>
                  </a:lnTo>
                  <a:lnTo>
                    <a:pt x="4244394" y="23440"/>
                  </a:lnTo>
                  <a:lnTo>
                    <a:pt x="4209230" y="27905"/>
                  </a:lnTo>
                  <a:lnTo>
                    <a:pt x="4163467" y="32928"/>
                  </a:lnTo>
                  <a:lnTo>
                    <a:pt x="4128307" y="36835"/>
                  </a:lnTo>
                  <a:lnTo>
                    <a:pt x="4102633" y="39625"/>
                  </a:lnTo>
                  <a:lnTo>
                    <a:pt x="4080309" y="41858"/>
                  </a:lnTo>
                  <a:lnTo>
                    <a:pt x="4042917" y="46323"/>
                  </a:lnTo>
                  <a:lnTo>
                    <a:pt x="4016685" y="50787"/>
                  </a:lnTo>
                  <a:lnTo>
                    <a:pt x="3993245" y="54136"/>
                  </a:lnTo>
                  <a:lnTo>
                    <a:pt x="3955293" y="60275"/>
                  </a:lnTo>
                  <a:lnTo>
                    <a:pt x="3908413" y="66414"/>
                  </a:lnTo>
                  <a:lnTo>
                    <a:pt x="3871577" y="71437"/>
                  </a:lnTo>
                  <a:lnTo>
                    <a:pt x="3845347" y="74228"/>
                  </a:lnTo>
                  <a:lnTo>
                    <a:pt x="3822465" y="77018"/>
                  </a:lnTo>
                  <a:lnTo>
                    <a:pt x="3785071" y="80925"/>
                  </a:lnTo>
                  <a:lnTo>
                    <a:pt x="3738191" y="83158"/>
                  </a:lnTo>
                  <a:lnTo>
                    <a:pt x="3701913" y="85390"/>
                  </a:lnTo>
                  <a:lnTo>
                    <a:pt x="3675683" y="89297"/>
                  </a:lnTo>
                  <a:lnTo>
                    <a:pt x="3652801" y="92087"/>
                  </a:lnTo>
                  <a:lnTo>
                    <a:pt x="3615407" y="97668"/>
                  </a:lnTo>
                  <a:lnTo>
                    <a:pt x="3568527" y="103249"/>
                  </a:lnTo>
                  <a:lnTo>
                    <a:pt x="3532249" y="107714"/>
                  </a:lnTo>
                  <a:lnTo>
                    <a:pt x="3506019" y="110505"/>
                  </a:lnTo>
                  <a:lnTo>
                    <a:pt x="3483137" y="113295"/>
                  </a:lnTo>
                  <a:lnTo>
                    <a:pt x="3445185" y="117202"/>
                  </a:lnTo>
                  <a:lnTo>
                    <a:pt x="3418955" y="119993"/>
                  </a:lnTo>
                  <a:lnTo>
                    <a:pt x="3395513" y="122225"/>
                  </a:lnTo>
                  <a:lnTo>
                    <a:pt x="3357005" y="126132"/>
                  </a:lnTo>
                  <a:lnTo>
                    <a:pt x="3327983" y="128922"/>
                  </a:lnTo>
                  <a:lnTo>
                    <a:pt x="3293381" y="130038"/>
                  </a:lnTo>
                  <a:lnTo>
                    <a:pt x="3266591" y="131155"/>
                  </a:lnTo>
                  <a:lnTo>
                    <a:pt x="3225849" y="131713"/>
                  </a:lnTo>
                  <a:lnTo>
                    <a:pt x="3194037" y="131713"/>
                  </a:lnTo>
                  <a:lnTo>
                    <a:pt x="3150505" y="128922"/>
                  </a:lnTo>
                  <a:lnTo>
                    <a:pt x="3117019" y="127248"/>
                  </a:lnTo>
                  <a:lnTo>
                    <a:pt x="3075161" y="123341"/>
                  </a:lnTo>
                  <a:lnTo>
                    <a:pt x="3043349" y="119993"/>
                  </a:lnTo>
                  <a:lnTo>
                    <a:pt x="2999817" y="115528"/>
                  </a:lnTo>
                  <a:lnTo>
                    <a:pt x="2965773" y="111621"/>
                  </a:lnTo>
                  <a:lnTo>
                    <a:pt x="2923915" y="106598"/>
                  </a:lnTo>
                  <a:lnTo>
                    <a:pt x="2891545" y="103249"/>
                  </a:lnTo>
                  <a:lnTo>
                    <a:pt x="2850803" y="98226"/>
                  </a:lnTo>
                  <a:lnTo>
                    <a:pt x="2818991" y="94320"/>
                  </a:lnTo>
                  <a:lnTo>
                    <a:pt x="2778249" y="92087"/>
                  </a:lnTo>
                  <a:lnTo>
                    <a:pt x="2746995" y="90971"/>
                  </a:lnTo>
                  <a:lnTo>
                    <a:pt x="2706811" y="89855"/>
                  </a:lnTo>
                  <a:lnTo>
                    <a:pt x="2675557" y="89297"/>
                  </a:lnTo>
                  <a:lnTo>
                    <a:pt x="2632025" y="85948"/>
                  </a:lnTo>
                  <a:lnTo>
                    <a:pt x="2598539" y="83716"/>
                  </a:lnTo>
                  <a:lnTo>
                    <a:pt x="2554449" y="82041"/>
                  </a:lnTo>
                  <a:lnTo>
                    <a:pt x="2519847" y="80925"/>
                  </a:lnTo>
                  <a:lnTo>
                    <a:pt x="2477989" y="77577"/>
                  </a:lnTo>
                  <a:lnTo>
                    <a:pt x="2445619" y="74786"/>
                  </a:lnTo>
                  <a:lnTo>
                    <a:pt x="2404319" y="70321"/>
                  </a:lnTo>
                  <a:lnTo>
                    <a:pt x="2372507" y="66973"/>
                  </a:lnTo>
                  <a:lnTo>
                    <a:pt x="2328975" y="65298"/>
                  </a:lnTo>
                  <a:lnTo>
                    <a:pt x="2295489" y="63624"/>
                  </a:lnTo>
                  <a:lnTo>
                    <a:pt x="2253631" y="59717"/>
                  </a:lnTo>
                  <a:lnTo>
                    <a:pt x="2221819" y="56927"/>
                  </a:lnTo>
                  <a:lnTo>
                    <a:pt x="2181077" y="55252"/>
                  </a:lnTo>
                  <a:lnTo>
                    <a:pt x="2149265" y="54136"/>
                  </a:lnTo>
                  <a:lnTo>
                    <a:pt x="2108523" y="53578"/>
                  </a:lnTo>
                  <a:lnTo>
                    <a:pt x="2077268" y="53020"/>
                  </a:lnTo>
                  <a:lnTo>
                    <a:pt x="2037085" y="53020"/>
                  </a:lnTo>
                  <a:lnTo>
                    <a:pt x="2005831" y="52462"/>
                  </a:lnTo>
                  <a:lnTo>
                    <a:pt x="1962857" y="52462"/>
                  </a:lnTo>
                  <a:lnTo>
                    <a:pt x="1929370" y="52462"/>
                  </a:lnTo>
                  <a:lnTo>
                    <a:pt x="1887512" y="52462"/>
                  </a:lnTo>
                  <a:lnTo>
                    <a:pt x="1855700" y="52462"/>
                  </a:lnTo>
                  <a:lnTo>
                    <a:pt x="1812168" y="52462"/>
                  </a:lnTo>
                  <a:lnTo>
                    <a:pt x="1778124" y="52462"/>
                  </a:lnTo>
                  <a:lnTo>
                    <a:pt x="1736266" y="55252"/>
                  </a:lnTo>
                  <a:lnTo>
                    <a:pt x="1703896" y="57485"/>
                  </a:lnTo>
                  <a:lnTo>
                    <a:pt x="1663154" y="58601"/>
                  </a:lnTo>
                  <a:lnTo>
                    <a:pt x="1631342" y="59717"/>
                  </a:lnTo>
                  <a:lnTo>
                    <a:pt x="1590600" y="60275"/>
                  </a:lnTo>
                  <a:lnTo>
                    <a:pt x="1559346" y="60833"/>
                  </a:lnTo>
                  <a:lnTo>
                    <a:pt x="1516372" y="60833"/>
                  </a:lnTo>
                  <a:lnTo>
                    <a:pt x="1482886" y="61392"/>
                  </a:lnTo>
                  <a:lnTo>
                    <a:pt x="1441028" y="61392"/>
                  </a:lnTo>
                  <a:lnTo>
                    <a:pt x="1409216" y="61392"/>
                  </a:lnTo>
                  <a:lnTo>
                    <a:pt x="1365126" y="61392"/>
                  </a:lnTo>
                  <a:lnTo>
                    <a:pt x="1331639" y="61392"/>
                  </a:lnTo>
                  <a:lnTo>
                    <a:pt x="1286991" y="61392"/>
                  </a:lnTo>
                  <a:lnTo>
                    <a:pt x="1252388" y="61392"/>
                  </a:lnTo>
                  <a:lnTo>
                    <a:pt x="1209972" y="64182"/>
                  </a:lnTo>
                  <a:lnTo>
                    <a:pt x="1177602" y="66414"/>
                  </a:lnTo>
                  <a:lnTo>
                    <a:pt x="1133512" y="67531"/>
                  </a:lnTo>
                  <a:lnTo>
                    <a:pt x="1099468" y="68647"/>
                  </a:lnTo>
                  <a:lnTo>
                    <a:pt x="1054819" y="66414"/>
                  </a:lnTo>
                  <a:lnTo>
                    <a:pt x="1020217" y="64182"/>
                  </a:lnTo>
                  <a:lnTo>
                    <a:pt x="977801" y="63066"/>
                  </a:lnTo>
                  <a:lnTo>
                    <a:pt x="945430" y="62508"/>
                  </a:lnTo>
                  <a:lnTo>
                    <a:pt x="898550" y="61950"/>
                  </a:lnTo>
                  <a:lnTo>
                    <a:pt x="862273" y="61950"/>
                  </a:lnTo>
                  <a:lnTo>
                    <a:pt x="815950" y="61950"/>
                  </a:lnTo>
                  <a:lnTo>
                    <a:pt x="780789" y="61392"/>
                  </a:lnTo>
                  <a:lnTo>
                    <a:pt x="755116" y="61392"/>
                  </a:lnTo>
                  <a:lnTo>
                    <a:pt x="732234" y="61392"/>
                  </a:lnTo>
                  <a:lnTo>
                    <a:pt x="694841" y="61392"/>
                  </a:lnTo>
                  <a:lnTo>
                    <a:pt x="647960" y="61392"/>
                  </a:lnTo>
                  <a:lnTo>
                    <a:pt x="611683" y="61392"/>
                  </a:lnTo>
                  <a:lnTo>
                    <a:pt x="585452" y="61392"/>
                  </a:lnTo>
                  <a:lnTo>
                    <a:pt x="563128" y="61392"/>
                  </a:lnTo>
                  <a:lnTo>
                    <a:pt x="525177" y="61392"/>
                  </a:lnTo>
                  <a:lnTo>
                    <a:pt x="498946" y="61392"/>
                  </a:lnTo>
                  <a:lnTo>
                    <a:pt x="475506" y="61392"/>
                  </a:lnTo>
                  <a:lnTo>
                    <a:pt x="436996" y="61392"/>
                  </a:lnTo>
                  <a:lnTo>
                    <a:pt x="390115" y="64182"/>
                  </a:lnTo>
                  <a:lnTo>
                    <a:pt x="353281" y="66414"/>
                  </a:lnTo>
                  <a:lnTo>
                    <a:pt x="307516" y="67531"/>
                  </a:lnTo>
                  <a:lnTo>
                    <a:pt x="271797" y="68647"/>
                  </a:lnTo>
                  <a:lnTo>
                    <a:pt x="226032" y="71996"/>
                  </a:lnTo>
                  <a:lnTo>
                    <a:pt x="190872" y="74786"/>
                  </a:lnTo>
                  <a:lnTo>
                    <a:pt x="148456" y="79251"/>
                  </a:lnTo>
                  <a:lnTo>
                    <a:pt x="115528" y="82600"/>
                  </a:lnTo>
                  <a:lnTo>
                    <a:pt x="90413" y="85390"/>
                  </a:lnTo>
                  <a:lnTo>
                    <a:pt x="70879" y="87622"/>
                  </a:lnTo>
                  <a:lnTo>
                    <a:pt x="37951" y="91529"/>
                  </a:lnTo>
                  <a:lnTo>
                    <a:pt x="20650" y="94320"/>
                  </a:lnTo>
                  <a:lnTo>
                    <a:pt x="0" y="9711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2133360"/>
            <a:ext cx="849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ra, proprio in un momento così delicato per il vostro ordine, mentre sono in agguato quelli che con comizi e proposte di legge fanno di tutto per infiammare l'odio verso di voi, avete di fronte come</a:t>
            </a:r>
            <a:br>
              <a:rPr sz="1600"/>
            </a:br>
            <a:r>
              <a:rPr b="0" lang="it-IT" sz="1600" spc="-1" strike="noStrike">
                <a:solidFill>
                  <a:srgbClr val="000000"/>
                </a:solidFill>
                <a:latin typeface="Times New Roman"/>
                <a:ea typeface="Times New Roman"/>
              </a:rPr>
              <a:t>imputato il reo Gaio Verre, uomo già condannato dall'opinione pubblica per la sua</a:t>
            </a:r>
            <a:br>
              <a:rPr sz="1600"/>
            </a:br>
            <a:r>
              <a:rPr b="0" lang="it-IT" sz="1600" spc="-1" strike="noStrike">
                <a:solidFill>
                  <a:srgbClr val="000000"/>
                </a:solidFill>
                <a:latin typeface="Times New Roman"/>
                <a:ea typeface="Times New Roman"/>
              </a:rPr>
              <a:t>condotta di vita e per le sue azioni, ma che, stando alle sue speranze e vanterie, è stato,</a:t>
            </a:r>
            <a:br>
              <a:rPr sz="1600"/>
            </a:br>
            <a:r>
              <a:rPr b="0" lang="it-IT" sz="1600" spc="-1" strike="noStrike">
                <a:solidFill>
                  <a:srgbClr val="000000"/>
                </a:solidFill>
                <a:latin typeface="Times New Roman"/>
                <a:ea typeface="Times New Roman"/>
              </a:rPr>
              <a:t>grazie alla sua enorme ricchezza, già assolto. Giudici, io a questo processo mi sono</a:t>
            </a:r>
            <a:br>
              <a:rPr sz="1600"/>
            </a:br>
            <a:r>
              <a:rPr b="0" lang="it-IT" sz="1600" spc="-1" strike="noStrike">
                <a:solidFill>
                  <a:srgbClr val="000000"/>
                </a:solidFill>
                <a:latin typeface="Times New Roman"/>
                <a:ea typeface="Times New Roman"/>
              </a:rPr>
              <a:t>presentato come accusatore col consenso unanime e con l'interesse del popolo romano,</a:t>
            </a:r>
            <a:br>
              <a:rPr sz="1600"/>
            </a:br>
            <a:r>
              <a:rPr b="0" lang="it-IT" sz="1600" spc="-1" strike="noStrike">
                <a:solidFill>
                  <a:srgbClr val="000000"/>
                </a:solidFill>
                <a:latin typeface="Times New Roman"/>
                <a:ea typeface="Times New Roman"/>
              </a:rPr>
              <a:t>non per accrescere l'odio verso l'ordine senatorio, ma per rimediare ad una vergogna</a:t>
            </a:r>
            <a:br>
              <a:rPr sz="1600"/>
            </a:br>
            <a:r>
              <a:rPr b="0" lang="it-IT" sz="1600" spc="-1" strike="noStrike">
                <a:solidFill>
                  <a:srgbClr val="000000"/>
                </a:solidFill>
                <a:latin typeface="Times New Roman"/>
                <a:ea typeface="Times New Roman"/>
              </a:rPr>
              <a:t>nazionale. Ho portato dinanzi a voi un uomo condannando il quale potreste ridare alla</a:t>
            </a:r>
            <a:br>
              <a:rPr sz="1600"/>
            </a:br>
            <a:r>
              <a:rPr b="0" lang="it-IT" sz="1600" spc="-1" strike="noStrike">
                <a:solidFill>
                  <a:srgbClr val="000000"/>
                </a:solidFill>
                <a:latin typeface="Times New Roman"/>
                <a:ea typeface="Times New Roman"/>
              </a:rPr>
              <a:t>giustizia la perduta stima, riconciliarvi col popolo romano, dare soddisfazione ai popoli</a:t>
            </a:r>
            <a:br>
              <a:rPr sz="1600"/>
            </a:br>
            <a:r>
              <a:rPr b="0" lang="it-IT" sz="1600" spc="-1" strike="noStrike">
                <a:solidFill>
                  <a:srgbClr val="000000"/>
                </a:solidFill>
                <a:latin typeface="Times New Roman"/>
                <a:ea typeface="Times New Roman"/>
              </a:rPr>
              <a:t>stranieri; un uomo che è stato il depredatore del pubblico erario, l’oppressore dell’Asia</a:t>
            </a:r>
            <a:br>
              <a:rPr sz="1600"/>
            </a:br>
            <a:r>
              <a:rPr b="0" lang="it-IT" sz="1600" spc="-1" strike="noStrike">
                <a:solidFill>
                  <a:srgbClr val="000000"/>
                </a:solidFill>
                <a:latin typeface="Times New Roman"/>
                <a:ea typeface="Times New Roman"/>
              </a:rPr>
              <a:t>Minore e della Panfilia, il violatore della giustizia romana, la peste e la rovina della</a:t>
            </a:r>
            <a:br>
              <a:rPr sz="1600"/>
            </a:br>
            <a:r>
              <a:rPr b="0" lang="it-IT" sz="1600" spc="-1" strike="noStrike">
                <a:solidFill>
                  <a:srgbClr val="000000"/>
                </a:solidFill>
                <a:latin typeface="Times New Roman"/>
                <a:ea typeface="Times New Roman"/>
              </a:rPr>
              <a:t>provincia siciliana. 3- Se voi lo giudicherete con rigore e secondo coscienza, quella autorità</a:t>
            </a:r>
            <a:br>
              <a:rPr sz="1600"/>
            </a:br>
            <a:r>
              <a:rPr b="0" lang="it-IT" sz="1600" spc="-1" strike="noStrike">
                <a:solidFill>
                  <a:srgbClr val="000000"/>
                </a:solidFill>
                <a:latin typeface="Times New Roman"/>
                <a:ea typeface="Times New Roman"/>
              </a:rPr>
              <a:t>che deve appartenervi vi resterà salda; se al contrario le sue ingenti ricchezze riusciranno a</a:t>
            </a:r>
            <a:br>
              <a:rPr sz="1600"/>
            </a:br>
            <a:r>
              <a:rPr b="0" lang="it-IT" sz="1600" spc="-1" strike="noStrike">
                <a:solidFill>
                  <a:srgbClr val="000000"/>
                </a:solidFill>
                <a:latin typeface="Times New Roman"/>
                <a:ea typeface="Times New Roman"/>
              </a:rPr>
              <a:t>vincere sul rispetto della legge e sull'imparzialità del giudizio, potrò ottenere almeno</a:t>
            </a:r>
            <a:br>
              <a:rPr sz="1600"/>
            </a:br>
            <a:r>
              <a:rPr b="0" lang="it-IT" sz="1600" spc="-1" strike="noStrike">
                <a:solidFill>
                  <a:srgbClr val="000000"/>
                </a:solidFill>
                <a:latin typeface="Times New Roman"/>
                <a:ea typeface="Times New Roman"/>
              </a:rPr>
              <a:t>questo, che sia chiaro a tutti che, più che l'accusato ai giudici o l'accusatore al colpevole, è</a:t>
            </a:r>
            <a:br>
              <a:rPr sz="1600"/>
            </a:br>
            <a:r>
              <a:rPr b="0" lang="it-IT" sz="1600" spc="-1" strike="noStrike">
                <a:solidFill>
                  <a:srgbClr val="000000"/>
                </a:solidFill>
                <a:latin typeface="Times New Roman"/>
                <a:ea typeface="Times New Roman"/>
              </a:rPr>
              <a:t>mancato piuttosto il tribunale allo Stato.</a:t>
            </a:r>
            <a:br>
              <a:rPr sz="1600"/>
            </a:br>
            <a:endParaRPr b="0" lang="en-US" sz="1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it-IT" sz="1400" spc="-1" strike="noStrike">
                <a:solidFill>
                  <a:srgbClr val="000000"/>
                </a:solidFill>
                <a:latin typeface="Times New Roman"/>
                <a:ea typeface="Times New Roman"/>
              </a:rPr>
              <a:t>Marco Tullio Cicerone </a:t>
            </a:r>
            <a:br>
              <a:rPr sz="1400"/>
            </a:br>
            <a:br>
              <a:rPr sz="2000"/>
            </a:br>
            <a:r>
              <a:rPr b="0" lang="it-IT" sz="2000" spc="-1" strike="noStrike">
                <a:solidFill>
                  <a:srgbClr val="000000"/>
                </a:solidFill>
                <a:latin typeface="Times New Roman"/>
                <a:ea typeface="Times New Roman"/>
              </a:rPr>
              <a:t>Dopo il giudizio negativo del </a:t>
            </a:r>
            <a:r>
              <a:rPr b="1" lang="it-IT" sz="2000" spc="-1" strike="noStrike">
                <a:solidFill>
                  <a:srgbClr val="ff0000"/>
                </a:solidFill>
                <a:latin typeface="Times New Roman"/>
                <a:ea typeface="Times New Roman"/>
              </a:rPr>
              <a:t>Momsen</a:t>
            </a:r>
            <a:r>
              <a:rPr b="0" lang="it-IT" sz="2000" spc="-1" strike="noStrike">
                <a:solidFill>
                  <a:srgbClr val="000000"/>
                </a:solidFill>
                <a:latin typeface="Times New Roman"/>
                <a:ea typeface="Times New Roman"/>
              </a:rPr>
              <a:t> (“superficiale” “giornalista nel senso peggiore del termine” “poco lungimirante” ,in </a:t>
            </a:r>
            <a:r>
              <a:rPr b="0" i="1" lang="it-IT" sz="2000" spc="-1" strike="noStrike">
                <a:solidFill>
                  <a:srgbClr val="000000"/>
                </a:solidFill>
                <a:latin typeface="Times New Roman"/>
                <a:ea typeface="Times New Roman"/>
              </a:rPr>
              <a:t>Storia di Roma antica</a:t>
            </a:r>
            <a:r>
              <a:rPr b="0" lang="it-IT" sz="2000" spc="-1" strike="noStrike">
                <a:solidFill>
                  <a:srgbClr val="000000"/>
                </a:solidFill>
                <a:latin typeface="Times New Roman"/>
                <a:ea typeface="Times New Roman"/>
              </a:rPr>
              <a:t>, 1973)</a:t>
            </a:r>
            <a:br>
              <a:rPr sz="2000"/>
            </a:br>
            <a:br>
              <a:rPr sz="2000"/>
            </a:br>
            <a:r>
              <a:rPr b="0" lang="it-IT" sz="2000" spc="-1" strike="noStrike">
                <a:solidFill>
                  <a:srgbClr val="000000"/>
                </a:solidFill>
                <a:latin typeface="Times New Roman"/>
                <a:ea typeface="Times New Roman"/>
              </a:rPr>
              <a:t>La critica ha corretto il tiro</a:t>
            </a:r>
            <a:br>
              <a:rPr sz="2000"/>
            </a:br>
            <a:br>
              <a:rPr sz="2000"/>
            </a:br>
            <a:r>
              <a:rPr b="0" lang="it-IT" sz="2000" spc="-1" strike="noStrike">
                <a:solidFill>
                  <a:srgbClr val="000000"/>
                </a:solidFill>
                <a:latin typeface="Times New Roman"/>
                <a:ea typeface="Times New Roman"/>
              </a:rPr>
              <a:t>Oggi si tende ad individuare le complesse sfaccettature della sua personalità intellettuale</a:t>
            </a:r>
            <a:br>
              <a:rPr sz="2000"/>
            </a:br>
            <a:br>
              <a:rPr sz="2000"/>
            </a:br>
            <a:r>
              <a:rPr b="1" lang="it-IT" sz="2000" spc="-1" strike="noStrike">
                <a:solidFill>
                  <a:srgbClr val="ff0000"/>
                </a:solidFill>
                <a:latin typeface="Times New Roman"/>
                <a:ea typeface="Times New Roman"/>
              </a:rPr>
              <a:t>Sebastiano Timpanaro</a:t>
            </a:r>
            <a:r>
              <a:rPr b="0" lang="it-IT" sz="2000" spc="-1" strike="noStrike">
                <a:solidFill>
                  <a:srgbClr val="000000"/>
                </a:solidFill>
                <a:latin typeface="Times New Roman"/>
                <a:ea typeface="Times New Roman"/>
              </a:rPr>
              <a:t>: da </a:t>
            </a:r>
            <a:r>
              <a:rPr b="0" i="1" lang="it-IT" sz="2000" spc="-1" strike="noStrike">
                <a:solidFill>
                  <a:srgbClr val="000000"/>
                </a:solidFill>
                <a:latin typeface="Times New Roman"/>
                <a:ea typeface="Times New Roman"/>
              </a:rPr>
              <a:t>homo novus</a:t>
            </a:r>
            <a:r>
              <a:rPr b="0" lang="it-IT" sz="2000" spc="-1" strike="noStrike">
                <a:solidFill>
                  <a:srgbClr val="000000"/>
                </a:solidFill>
                <a:latin typeface="Times New Roman"/>
                <a:ea typeface="Times New Roman"/>
              </a:rPr>
              <a:t> vuole “portare energie fresche e una maggiore onestà amministrativa a un regime che bisognava a tutti i costi difendere” base di consenso alla classe dirigente. Per stabilire un terreno di intesa fra la classe di governo e i settori della sociatà che la sostengono</a:t>
            </a:r>
            <a:br>
              <a:rPr sz="2000"/>
            </a:b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360"/>
            <a:ext cx="8136000" cy="1143000"/>
          </a:xfrm>
          <a:prstGeom prst="rect">
            <a:avLst/>
          </a:prstGeom>
          <a:solidFill>
            <a:srgbClr val="c6d9f1"/>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a:t>
            </a:r>
            <a:r>
              <a:rPr b="0" i="1" lang="it-IT" sz="2000" spc="-1" strike="noStrike">
                <a:solidFill>
                  <a:srgbClr val="000000"/>
                </a:solidFill>
                <a:latin typeface="Times New Roman"/>
                <a:ea typeface="Times New Roman"/>
              </a:rPr>
              <a:t> flectere e il movère </a:t>
            </a:r>
            <a:r>
              <a:rPr b="0" lang="it-IT" sz="2000" spc="-1" strike="noStrike">
                <a:solidFill>
                  <a:srgbClr val="000000"/>
                </a:solidFill>
                <a:latin typeface="Times New Roman"/>
                <a:ea typeface="Times New Roman"/>
              </a:rPr>
              <a:t>in Cicerone:</a:t>
            </a:r>
            <a:br>
              <a:rPr sz="2000"/>
            </a:br>
            <a:r>
              <a:rPr b="0" lang="it-IT" sz="2000" spc="-1" strike="noStrike">
                <a:solidFill>
                  <a:srgbClr val="000000"/>
                </a:solidFill>
                <a:latin typeface="Times New Roman"/>
                <a:ea typeface="Times New Roman"/>
              </a:rPr>
              <a:t>Verrine, </a:t>
            </a:r>
            <a:r>
              <a:rPr b="0" i="1" lang="it-IT" sz="2000" spc="-1" strike="noStrike">
                <a:solidFill>
                  <a:srgbClr val="000000"/>
                </a:solidFill>
                <a:latin typeface="Times New Roman"/>
                <a:ea typeface="Times New Roman"/>
              </a:rPr>
              <a:t>Actio secunda</a:t>
            </a:r>
            <a:r>
              <a:rPr b="0" lang="it-IT" sz="2000" spc="-1" strike="noStrike">
                <a:solidFill>
                  <a:srgbClr val="000000"/>
                </a:solidFill>
                <a:latin typeface="Times New Roman"/>
                <a:ea typeface="Times New Roman"/>
              </a:rPr>
              <a:t>, V, 117 segg.</a:t>
            </a:r>
            <a:endParaRPr b="0" lang="en-US" sz="2000" spc="-1" strike="noStrike">
              <a:solidFill>
                <a:srgbClr val="000000"/>
              </a:solidFill>
              <a:latin typeface="Calibri"/>
            </a:endParaRPr>
          </a:p>
        </p:txBody>
      </p:sp>
      <p:pic>
        <p:nvPicPr>
          <p:cNvPr id="124" name="Picture 2" descr=""/>
          <p:cNvPicPr/>
          <p:nvPr/>
        </p:nvPicPr>
        <p:blipFill>
          <a:blip r:embed="rId1"/>
          <a:stretch/>
        </p:blipFill>
        <p:spPr>
          <a:xfrm>
            <a:off x="0" y="981000"/>
            <a:ext cx="6199200" cy="5195880"/>
          </a:xfrm>
          <a:prstGeom prst="rect">
            <a:avLst/>
          </a:prstGeom>
          <a:ln w="0">
            <a:noFill/>
          </a:ln>
        </p:spPr>
      </p:pic>
      <p:grpSp>
        <p:nvGrpSpPr>
          <p:cNvPr id="125" name="Gruppo 90"/>
          <p:cNvGrpSpPr/>
          <p:nvPr/>
        </p:nvGrpSpPr>
        <p:grpSpPr>
          <a:xfrm>
            <a:off x="266760" y="1341360"/>
            <a:ext cx="8877600" cy="4805280"/>
            <a:chOff x="266760" y="1341360"/>
            <a:chExt cx="8877600" cy="4805280"/>
          </a:xfrm>
        </p:grpSpPr>
        <p:sp>
          <p:nvSpPr>
            <p:cNvPr id="126" name="4422dd74-b996-4d98-8810-886c30bfded9"/>
            <p:cNvSpPr/>
            <p:nvPr/>
          </p:nvSpPr>
          <p:spPr>
            <a:xfrm>
              <a:off x="9108360" y="428904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8930" y="8929"/>
                  </a:lnTo>
                </a:path>
              </a:pathLst>
            </a:custGeom>
            <a:noFill/>
            <a:ln w="106920">
              <a:solidFill>
                <a:srgbClr val="ff00ff">
                  <a:alpha val="50000"/>
                </a:srgbClr>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127" name="8d509594-b13a-453d-8751-6dd0c6b93bf8"/>
            <p:cNvSpPr/>
            <p:nvPr/>
          </p:nvSpPr>
          <p:spPr>
            <a:xfrm>
              <a:off x="9144000" y="4280040"/>
              <a:ext cx="360" cy="8640"/>
            </a:xfrm>
            <a:custGeom>
              <a:avLst/>
              <a:gdLst/>
              <a:ahLst/>
              <a:rect l="l" t="t" r="r" b="b"/>
              <a:pathLst>
                <a:path w="0" h="8930">
                  <a:moveTo>
                    <a:pt x="0" y="0"/>
                  </a:moveTo>
                  <a:lnTo>
                    <a:pt x="0" y="8930"/>
                  </a:lnTo>
                </a:path>
              </a:pathLst>
            </a:custGeom>
            <a:noFill/>
            <a:ln w="106920">
              <a:solidFill>
                <a:srgbClr val="ff00ff">
                  <a:alpha val="50000"/>
                </a:srgbClr>
              </a:solidFill>
              <a:round/>
            </a:ln>
          </p:spPr>
          <p:style>
            <a:lnRef idx="0"/>
            <a:fillRef idx="0"/>
            <a:effectRef idx="0"/>
            <a:fontRef idx="minor"/>
          </p:style>
          <p:txBody>
            <a:bodyPr lIns="90000" rIns="90000" tIns="-38160" bIns="-38160" anchor="ctr" anchorCtr="1">
              <a:noAutofit/>
            </a:bodyPr>
            <a:p>
              <a:endParaRPr b="0" lang="en-US" sz="1800" spc="-1" strike="noStrike">
                <a:solidFill>
                  <a:srgbClr val="000000"/>
                </a:solidFill>
                <a:latin typeface="Arial"/>
              </a:endParaRPr>
            </a:p>
          </p:txBody>
        </p:sp>
        <p:sp>
          <p:nvSpPr>
            <p:cNvPr id="128" name="36ed7a94-4d74-4a73-8656-05bdffbf7b37"/>
            <p:cNvSpPr/>
            <p:nvPr/>
          </p:nvSpPr>
          <p:spPr>
            <a:xfrm>
              <a:off x="5276880" y="1492920"/>
              <a:ext cx="383760" cy="17640"/>
            </a:xfrm>
            <a:custGeom>
              <a:avLst/>
              <a:gdLst>
                <a:gd name="textAreaLeft" fmla="*/ 0 w 383760"/>
                <a:gd name="textAreaRight" fmla="*/ 384120 w 383760"/>
                <a:gd name="textAreaTop" fmla="*/ 0 h 17640"/>
                <a:gd name="textAreaBottom" fmla="*/ 18000 h 17640"/>
              </a:gdLst>
              <a:ahLst/>
              <a:rect l="textAreaLeft" t="textAreaTop" r="textAreaRight" b="textAreaBottom"/>
              <a:pathLst>
                <a:path w="383977" h="17859">
                  <a:moveTo>
                    <a:pt x="0" y="0"/>
                  </a:moveTo>
                  <a:lnTo>
                    <a:pt x="15069" y="0"/>
                  </a:lnTo>
                  <a:lnTo>
                    <a:pt x="39626" y="0"/>
                  </a:lnTo>
                  <a:lnTo>
                    <a:pt x="58602" y="0"/>
                  </a:lnTo>
                  <a:lnTo>
                    <a:pt x="74228" y="0"/>
                  </a:lnTo>
                  <a:lnTo>
                    <a:pt x="106040" y="0"/>
                  </a:lnTo>
                  <a:lnTo>
                    <a:pt x="130039" y="0"/>
                  </a:lnTo>
                  <a:lnTo>
                    <a:pt x="149015" y="0"/>
                  </a:lnTo>
                  <a:lnTo>
                    <a:pt x="164642" y="0"/>
                  </a:lnTo>
                  <a:lnTo>
                    <a:pt x="190873" y="0"/>
                  </a:lnTo>
                  <a:lnTo>
                    <a:pt x="205383" y="0"/>
                  </a:lnTo>
                  <a:lnTo>
                    <a:pt x="223243" y="0"/>
                  </a:lnTo>
                  <a:lnTo>
                    <a:pt x="250032" y="0"/>
                  </a:lnTo>
                  <a:lnTo>
                    <a:pt x="276821" y="0"/>
                  </a:lnTo>
                  <a:lnTo>
                    <a:pt x="294680" y="0"/>
                  </a:lnTo>
                  <a:lnTo>
                    <a:pt x="312540" y="8929"/>
                  </a:lnTo>
                  <a:lnTo>
                    <a:pt x="330399" y="8929"/>
                  </a:lnTo>
                  <a:lnTo>
                    <a:pt x="348258" y="8929"/>
                  </a:lnTo>
                  <a:lnTo>
                    <a:pt x="366118" y="8929"/>
                  </a:lnTo>
                  <a:lnTo>
                    <a:pt x="383977" y="17859"/>
                  </a:lnTo>
                </a:path>
              </a:pathLst>
            </a:custGeom>
            <a:noFill/>
            <a:ln w="106920">
              <a:solidFill>
                <a:srgbClr val="ffff00">
                  <a:alpha val="50000"/>
                </a:srgbClr>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29" name="4f00a914-3e70-4ae9-984e-a1deb486ae6b"/>
            <p:cNvSpPr/>
            <p:nvPr/>
          </p:nvSpPr>
          <p:spPr>
            <a:xfrm>
              <a:off x="1543680" y="1555560"/>
              <a:ext cx="348120" cy="17640"/>
            </a:xfrm>
            <a:custGeom>
              <a:avLst/>
              <a:gdLst>
                <a:gd name="textAreaLeft" fmla="*/ 0 w 348120"/>
                <a:gd name="textAreaRight" fmla="*/ 348480 w 348120"/>
                <a:gd name="textAreaTop" fmla="*/ 0 h 17640"/>
                <a:gd name="textAreaBottom" fmla="*/ 18000 h 17640"/>
              </a:gdLst>
              <a:ahLst/>
              <a:rect l="textAreaLeft" t="textAreaTop" r="textAreaRight" b="textAreaBottom"/>
              <a:pathLst>
                <a:path w="348258" h="17860">
                  <a:moveTo>
                    <a:pt x="0" y="0"/>
                  </a:moveTo>
                  <a:lnTo>
                    <a:pt x="8930" y="0"/>
                  </a:lnTo>
                  <a:lnTo>
                    <a:pt x="26789" y="0"/>
                  </a:lnTo>
                  <a:lnTo>
                    <a:pt x="53578" y="0"/>
                  </a:lnTo>
                  <a:lnTo>
                    <a:pt x="97669" y="6139"/>
                  </a:lnTo>
                  <a:lnTo>
                    <a:pt x="131713" y="10604"/>
                  </a:lnTo>
                  <a:lnTo>
                    <a:pt x="157386" y="13395"/>
                  </a:lnTo>
                  <a:lnTo>
                    <a:pt x="176361" y="15627"/>
                  </a:lnTo>
                  <a:lnTo>
                    <a:pt x="191430" y="16743"/>
                  </a:lnTo>
                  <a:lnTo>
                    <a:pt x="204267" y="17860"/>
                  </a:lnTo>
                  <a:lnTo>
                    <a:pt x="217103" y="17860"/>
                  </a:lnTo>
                  <a:lnTo>
                    <a:pt x="232172" y="17860"/>
                  </a:lnTo>
                  <a:lnTo>
                    <a:pt x="267891" y="17860"/>
                  </a:lnTo>
                  <a:lnTo>
                    <a:pt x="285750" y="17860"/>
                  </a:lnTo>
                  <a:lnTo>
                    <a:pt x="312539" y="17860"/>
                  </a:lnTo>
                  <a:lnTo>
                    <a:pt x="330399" y="17860"/>
                  </a:lnTo>
                  <a:lnTo>
                    <a:pt x="348258" y="8930"/>
                  </a:lnTo>
                </a:path>
              </a:pathLst>
            </a:custGeom>
            <a:noFill/>
            <a:ln w="106920">
              <a:solidFill>
                <a:srgbClr val="ffff00">
                  <a:alpha val="50000"/>
                </a:srgbClr>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30" name="093d8fb2-1003-4d2d-bbba-5f012190a22c"/>
            <p:cNvSpPr/>
            <p:nvPr/>
          </p:nvSpPr>
          <p:spPr>
            <a:xfrm>
              <a:off x="2222640" y="1341360"/>
              <a:ext cx="446400" cy="17280"/>
            </a:xfrm>
            <a:custGeom>
              <a:avLst/>
              <a:gdLst>
                <a:gd name="textAreaLeft" fmla="*/ 0 w 446400"/>
                <a:gd name="textAreaRight" fmla="*/ 446760 w 446400"/>
                <a:gd name="textAreaTop" fmla="*/ 0 h 17280"/>
                <a:gd name="textAreaBottom" fmla="*/ 17640 h 17280"/>
              </a:gdLst>
              <a:ahLst/>
              <a:rect l="textAreaLeft" t="textAreaTop" r="textAreaRight" b="textAreaBottom"/>
              <a:pathLst>
                <a:path w="446485" h="17301">
                  <a:moveTo>
                    <a:pt x="0" y="0"/>
                  </a:moveTo>
                  <a:lnTo>
                    <a:pt x="11162" y="0"/>
                  </a:lnTo>
                  <a:lnTo>
                    <a:pt x="34045" y="2790"/>
                  </a:lnTo>
                  <a:lnTo>
                    <a:pt x="52462" y="5023"/>
                  </a:lnTo>
                  <a:lnTo>
                    <a:pt x="85390" y="6139"/>
                  </a:lnTo>
                  <a:lnTo>
                    <a:pt x="110505" y="7255"/>
                  </a:lnTo>
                  <a:lnTo>
                    <a:pt x="138969" y="7813"/>
                  </a:lnTo>
                  <a:lnTo>
                    <a:pt x="161293" y="8371"/>
                  </a:lnTo>
                  <a:lnTo>
                    <a:pt x="193663" y="11720"/>
                  </a:lnTo>
                  <a:lnTo>
                    <a:pt x="218778" y="13952"/>
                  </a:lnTo>
                  <a:lnTo>
                    <a:pt x="250032" y="15069"/>
                  </a:lnTo>
                  <a:lnTo>
                    <a:pt x="274030" y="16185"/>
                  </a:lnTo>
                  <a:lnTo>
                    <a:pt x="304726" y="16743"/>
                  </a:lnTo>
                  <a:lnTo>
                    <a:pt x="328166" y="17301"/>
                  </a:lnTo>
                  <a:lnTo>
                    <a:pt x="355513" y="17301"/>
                  </a:lnTo>
                  <a:lnTo>
                    <a:pt x="376722" y="17301"/>
                  </a:lnTo>
                  <a:lnTo>
                    <a:pt x="392348" y="17301"/>
                  </a:lnTo>
                  <a:lnTo>
                    <a:pt x="405185" y="16743"/>
                  </a:lnTo>
                  <a:lnTo>
                    <a:pt x="424719" y="13952"/>
                  </a:lnTo>
                  <a:lnTo>
                    <a:pt x="446485" y="8930"/>
                  </a:lnTo>
                </a:path>
              </a:pathLst>
            </a:custGeom>
            <a:noFill/>
            <a:ln w="106920">
              <a:solidFill>
                <a:srgbClr val="ffff00">
                  <a:alpha val="50000"/>
                </a:srgbClr>
              </a:solidFill>
              <a:round/>
            </a:ln>
          </p:spPr>
          <p:style>
            <a:lnRef idx="0"/>
            <a:fillRef idx="0"/>
            <a:effectRef idx="0"/>
            <a:fontRef idx="minor"/>
          </p:style>
          <p:txBody>
            <a:bodyPr lIns="90000" rIns="90000" tIns="-29160" bIns="-29160" anchor="ctr" anchorCtr="1">
              <a:noAutofit/>
            </a:bodyPr>
            <a:p>
              <a:endParaRPr b="0" lang="en-US" sz="1800" spc="-1" strike="noStrike">
                <a:solidFill>
                  <a:srgbClr val="000000"/>
                </a:solidFill>
                <a:latin typeface="Arial"/>
              </a:endParaRPr>
            </a:p>
          </p:txBody>
        </p:sp>
        <p:sp>
          <p:nvSpPr>
            <p:cNvPr id="131" name="d8c04a1f-f37d-4dd8-9696-79ce082bedfb"/>
            <p:cNvSpPr/>
            <p:nvPr/>
          </p:nvSpPr>
          <p:spPr>
            <a:xfrm>
              <a:off x="382680" y="1734120"/>
              <a:ext cx="1455480" cy="44640"/>
            </a:xfrm>
            <a:custGeom>
              <a:avLst/>
              <a:gdLst>
                <a:gd name="textAreaLeft" fmla="*/ 0 w 1455480"/>
                <a:gd name="textAreaRight" fmla="*/ 1455840 w 1455480"/>
                <a:gd name="textAreaTop" fmla="*/ 0 h 44640"/>
                <a:gd name="textAreaBottom" fmla="*/ 45000 h 44640"/>
              </a:gdLst>
              <a:ahLst/>
              <a:rect l="textAreaLeft" t="textAreaTop" r="textAreaRight" b="textAreaBottom"/>
              <a:pathLst>
                <a:path w="1455539" h="44649">
                  <a:moveTo>
                    <a:pt x="0" y="0"/>
                  </a:moveTo>
                  <a:lnTo>
                    <a:pt x="17859" y="0"/>
                  </a:lnTo>
                  <a:lnTo>
                    <a:pt x="47439" y="0"/>
                  </a:lnTo>
                  <a:lnTo>
                    <a:pt x="70321" y="0"/>
                  </a:lnTo>
                  <a:lnTo>
                    <a:pt x="103249" y="0"/>
                  </a:lnTo>
                  <a:lnTo>
                    <a:pt x="128364" y="0"/>
                  </a:lnTo>
                  <a:lnTo>
                    <a:pt x="156827" y="0"/>
                  </a:lnTo>
                  <a:lnTo>
                    <a:pt x="179152" y="0"/>
                  </a:lnTo>
                  <a:lnTo>
                    <a:pt x="211522" y="0"/>
                  </a:lnTo>
                  <a:lnTo>
                    <a:pt x="236078" y="0"/>
                  </a:lnTo>
                  <a:lnTo>
                    <a:pt x="264542" y="0"/>
                  </a:lnTo>
                  <a:lnTo>
                    <a:pt x="286308" y="0"/>
                  </a:lnTo>
                  <a:lnTo>
                    <a:pt x="315887" y="0"/>
                  </a:lnTo>
                  <a:lnTo>
                    <a:pt x="338212" y="0"/>
                  </a:lnTo>
                  <a:lnTo>
                    <a:pt x="368349" y="2791"/>
                  </a:lnTo>
                  <a:lnTo>
                    <a:pt x="391232" y="5581"/>
                  </a:lnTo>
                  <a:lnTo>
                    <a:pt x="421369" y="9488"/>
                  </a:lnTo>
                  <a:lnTo>
                    <a:pt x="444810" y="12836"/>
                  </a:lnTo>
                  <a:lnTo>
                    <a:pt x="474947" y="14511"/>
                  </a:lnTo>
                  <a:lnTo>
                    <a:pt x="498388" y="15627"/>
                  </a:lnTo>
                  <a:lnTo>
                    <a:pt x="528526" y="19534"/>
                  </a:lnTo>
                  <a:lnTo>
                    <a:pt x="551966" y="22324"/>
                  </a:lnTo>
                  <a:lnTo>
                    <a:pt x="582104" y="26789"/>
                  </a:lnTo>
                  <a:lnTo>
                    <a:pt x="605544" y="30138"/>
                  </a:lnTo>
                  <a:lnTo>
                    <a:pt x="635682" y="35161"/>
                  </a:lnTo>
                  <a:lnTo>
                    <a:pt x="659122" y="38509"/>
                  </a:lnTo>
                  <a:lnTo>
                    <a:pt x="692050" y="40742"/>
                  </a:lnTo>
                  <a:lnTo>
                    <a:pt x="717723" y="41858"/>
                  </a:lnTo>
                  <a:lnTo>
                    <a:pt x="748977" y="42974"/>
                  </a:lnTo>
                  <a:lnTo>
                    <a:pt x="773534" y="43532"/>
                  </a:lnTo>
                  <a:lnTo>
                    <a:pt x="807020" y="44090"/>
                  </a:lnTo>
                  <a:lnTo>
                    <a:pt x="833251" y="44090"/>
                  </a:lnTo>
                  <a:lnTo>
                    <a:pt x="867854" y="41300"/>
                  </a:lnTo>
                  <a:lnTo>
                    <a:pt x="894643" y="39067"/>
                  </a:lnTo>
                  <a:lnTo>
                    <a:pt x="929803" y="37951"/>
                  </a:lnTo>
                  <a:lnTo>
                    <a:pt x="956592" y="36835"/>
                  </a:lnTo>
                  <a:lnTo>
                    <a:pt x="991753" y="33486"/>
                  </a:lnTo>
                  <a:lnTo>
                    <a:pt x="1018542" y="31254"/>
                  </a:lnTo>
                  <a:lnTo>
                    <a:pt x="1050912" y="29580"/>
                  </a:lnTo>
                  <a:lnTo>
                    <a:pt x="1076027" y="28463"/>
                  </a:lnTo>
                  <a:lnTo>
                    <a:pt x="1107281" y="27905"/>
                  </a:lnTo>
                  <a:lnTo>
                    <a:pt x="1130721" y="27905"/>
                  </a:lnTo>
                  <a:lnTo>
                    <a:pt x="1158627" y="30696"/>
                  </a:lnTo>
                  <a:lnTo>
                    <a:pt x="1179835" y="32370"/>
                  </a:lnTo>
                  <a:lnTo>
                    <a:pt x="1206066" y="33486"/>
                  </a:lnTo>
                  <a:lnTo>
                    <a:pt x="1226157" y="34603"/>
                  </a:lnTo>
                  <a:lnTo>
                    <a:pt x="1242342" y="35161"/>
                  </a:lnTo>
                  <a:lnTo>
                    <a:pt x="1254621" y="36277"/>
                  </a:lnTo>
                  <a:lnTo>
                    <a:pt x="1276945" y="39626"/>
                  </a:lnTo>
                  <a:lnTo>
                    <a:pt x="1288665" y="41858"/>
                  </a:lnTo>
                  <a:lnTo>
                    <a:pt x="1303734" y="44649"/>
                  </a:lnTo>
                  <a:lnTo>
                    <a:pt x="1339453" y="44649"/>
                  </a:lnTo>
                  <a:lnTo>
                    <a:pt x="1366242" y="44649"/>
                  </a:lnTo>
                  <a:lnTo>
                    <a:pt x="1393031" y="35719"/>
                  </a:lnTo>
                  <a:lnTo>
                    <a:pt x="1428750" y="35719"/>
                  </a:lnTo>
                  <a:lnTo>
                    <a:pt x="1455539" y="35719"/>
                  </a:lnTo>
                </a:path>
              </a:pathLst>
            </a:custGeom>
            <a:noFill/>
            <a:ln w="106920">
              <a:solidFill>
                <a:srgbClr val="ffff00">
                  <a:alpha val="50000"/>
                </a:srgbClr>
              </a:solidFill>
              <a:round/>
            </a:ln>
          </p:spPr>
          <p:style>
            <a:lnRef idx="0"/>
            <a:fillRef idx="0"/>
            <a:effectRef idx="0"/>
            <a:fontRef idx="minor"/>
          </p:style>
          <p:txBody>
            <a:bodyPr lIns="90000" rIns="90000" tIns="-1800" bIns="-1800" anchor="ctr" anchorCtr="1">
              <a:noAutofit/>
            </a:bodyPr>
            <a:p>
              <a:endParaRPr b="0" lang="en-US" sz="1800" spc="-1" strike="noStrike">
                <a:solidFill>
                  <a:srgbClr val="000000"/>
                </a:solidFill>
                <a:latin typeface="Arial"/>
              </a:endParaRPr>
            </a:p>
          </p:txBody>
        </p:sp>
        <p:sp>
          <p:nvSpPr>
            <p:cNvPr id="132" name="017cfb87-6924-4cf8-b0d6-21c07e9f64c1"/>
            <p:cNvSpPr/>
            <p:nvPr/>
          </p:nvSpPr>
          <p:spPr>
            <a:xfrm>
              <a:off x="266760" y="1922760"/>
              <a:ext cx="473040" cy="34560"/>
            </a:xfrm>
            <a:custGeom>
              <a:avLst/>
              <a:gdLst>
                <a:gd name="textAreaLeft" fmla="*/ 0 w 473040"/>
                <a:gd name="textAreaRight" fmla="*/ 473400 w 473040"/>
                <a:gd name="textAreaTop" fmla="*/ 0 h 34560"/>
                <a:gd name="textAreaBottom" fmla="*/ 34920 h 34560"/>
              </a:gdLst>
              <a:ahLst/>
              <a:rect l="textAreaLeft" t="textAreaTop" r="textAreaRight" b="textAreaBottom"/>
              <a:pathLst>
                <a:path w="473273" h="34602">
                  <a:moveTo>
                    <a:pt x="473273" y="34602"/>
                  </a:moveTo>
                  <a:lnTo>
                    <a:pt x="443694" y="28463"/>
                  </a:lnTo>
                  <a:lnTo>
                    <a:pt x="420811" y="23998"/>
                  </a:lnTo>
                  <a:lnTo>
                    <a:pt x="394022" y="18417"/>
                  </a:lnTo>
                  <a:lnTo>
                    <a:pt x="372814" y="14510"/>
                  </a:lnTo>
                  <a:lnTo>
                    <a:pt x="343793" y="12278"/>
                  </a:lnTo>
                  <a:lnTo>
                    <a:pt x="322027" y="10604"/>
                  </a:lnTo>
                  <a:lnTo>
                    <a:pt x="295238" y="9488"/>
                  </a:lnTo>
                  <a:lnTo>
                    <a:pt x="274588" y="8929"/>
                  </a:lnTo>
                  <a:lnTo>
                    <a:pt x="248915" y="8371"/>
                  </a:lnTo>
                  <a:lnTo>
                    <a:pt x="228823" y="8371"/>
                  </a:lnTo>
                  <a:lnTo>
                    <a:pt x="203150" y="5023"/>
                  </a:lnTo>
                  <a:lnTo>
                    <a:pt x="183058" y="2790"/>
                  </a:lnTo>
                  <a:lnTo>
                    <a:pt x="151804" y="1674"/>
                  </a:lnTo>
                  <a:lnTo>
                    <a:pt x="128364" y="558"/>
                  </a:lnTo>
                  <a:lnTo>
                    <a:pt x="100459" y="0"/>
                  </a:lnTo>
                  <a:lnTo>
                    <a:pt x="79251" y="0"/>
                  </a:lnTo>
                  <a:lnTo>
                    <a:pt x="62508" y="0"/>
                  </a:lnTo>
                  <a:lnTo>
                    <a:pt x="49671" y="1116"/>
                  </a:lnTo>
                  <a:lnTo>
                    <a:pt x="27347" y="6697"/>
                  </a:lnTo>
                  <a:lnTo>
                    <a:pt x="15069" y="10604"/>
                  </a:lnTo>
                  <a:lnTo>
                    <a:pt x="0" y="16743"/>
                  </a:lnTo>
                </a:path>
              </a:pathLst>
            </a:custGeom>
            <a:noFill/>
            <a:ln w="106920">
              <a:solidFill>
                <a:srgbClr val="ffff00">
                  <a:alpha val="50000"/>
                </a:srgbClr>
              </a:solidFill>
              <a:round/>
            </a:ln>
          </p:spPr>
          <p:style>
            <a:lnRef idx="0"/>
            <a:fillRef idx="0"/>
            <a:effectRef idx="0"/>
            <a:fontRef idx="minor"/>
          </p:style>
          <p:txBody>
            <a:bodyPr lIns="90000" rIns="90000" tIns="-11880" bIns="-11880" anchor="ctr" anchorCtr="1">
              <a:noAutofit/>
            </a:bodyPr>
            <a:p>
              <a:endParaRPr b="0" lang="en-US" sz="1800" spc="-1" strike="noStrike">
                <a:solidFill>
                  <a:srgbClr val="000000"/>
                </a:solidFill>
                <a:latin typeface="Arial"/>
              </a:endParaRPr>
            </a:p>
          </p:txBody>
        </p:sp>
        <p:sp>
          <p:nvSpPr>
            <p:cNvPr id="133" name="df1aab1b-e773-48b0-9aeb-291080d66caf"/>
            <p:cNvSpPr/>
            <p:nvPr/>
          </p:nvSpPr>
          <p:spPr>
            <a:xfrm>
              <a:off x="6214680" y="1439280"/>
              <a:ext cx="35640" cy="624960"/>
            </a:xfrm>
            <a:custGeom>
              <a:avLst/>
              <a:gdLst>
                <a:gd name="textAreaLeft" fmla="*/ 0 w 35640"/>
                <a:gd name="textAreaRight" fmla="*/ 36000 w 35640"/>
                <a:gd name="textAreaTop" fmla="*/ 0 h 624960"/>
                <a:gd name="textAreaBottom" fmla="*/ 625320 h 624960"/>
              </a:gdLst>
              <a:ahLst/>
              <a:rect l="textAreaLeft" t="textAreaTop" r="textAreaRight" b="textAreaBottom"/>
              <a:pathLst>
                <a:path w="35718" h="625079">
                  <a:moveTo>
                    <a:pt x="17859" y="625079"/>
                  </a:moveTo>
                  <a:lnTo>
                    <a:pt x="15068" y="595499"/>
                  </a:lnTo>
                  <a:lnTo>
                    <a:pt x="12836" y="572617"/>
                  </a:lnTo>
                  <a:lnTo>
                    <a:pt x="11162" y="554199"/>
                  </a:lnTo>
                  <a:lnTo>
                    <a:pt x="10604" y="518480"/>
                  </a:lnTo>
                  <a:lnTo>
                    <a:pt x="9487" y="491133"/>
                  </a:lnTo>
                  <a:lnTo>
                    <a:pt x="6139" y="464344"/>
                  </a:lnTo>
                  <a:lnTo>
                    <a:pt x="3906" y="443694"/>
                  </a:lnTo>
                  <a:lnTo>
                    <a:pt x="2232" y="426951"/>
                  </a:lnTo>
                  <a:lnTo>
                    <a:pt x="1116" y="412998"/>
                  </a:lnTo>
                  <a:lnTo>
                    <a:pt x="0" y="385651"/>
                  </a:lnTo>
                  <a:lnTo>
                    <a:pt x="0" y="368908"/>
                  </a:lnTo>
                  <a:lnTo>
                    <a:pt x="0" y="348258"/>
                  </a:lnTo>
                  <a:lnTo>
                    <a:pt x="0" y="318120"/>
                  </a:lnTo>
                  <a:lnTo>
                    <a:pt x="0" y="291890"/>
                  </a:lnTo>
                  <a:lnTo>
                    <a:pt x="0" y="249474"/>
                  </a:lnTo>
                  <a:lnTo>
                    <a:pt x="558" y="216545"/>
                  </a:lnTo>
                  <a:lnTo>
                    <a:pt x="3348" y="183059"/>
                  </a:lnTo>
                  <a:lnTo>
                    <a:pt x="5581" y="157944"/>
                  </a:lnTo>
                  <a:lnTo>
                    <a:pt x="9487" y="129481"/>
                  </a:lnTo>
                  <a:lnTo>
                    <a:pt x="15068" y="98227"/>
                  </a:lnTo>
                  <a:lnTo>
                    <a:pt x="19533" y="74787"/>
                  </a:lnTo>
                  <a:lnTo>
                    <a:pt x="22882" y="56927"/>
                  </a:lnTo>
                  <a:lnTo>
                    <a:pt x="25672" y="42974"/>
                  </a:lnTo>
                  <a:lnTo>
                    <a:pt x="30137" y="22325"/>
                  </a:lnTo>
                  <a:lnTo>
                    <a:pt x="35718" y="0"/>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4" name="666d56c4-3487-4aa1-9a41-e7866ef06fa5"/>
            <p:cNvSpPr/>
            <p:nvPr/>
          </p:nvSpPr>
          <p:spPr>
            <a:xfrm>
              <a:off x="6384600" y="1618200"/>
              <a:ext cx="142560" cy="151560"/>
            </a:xfrm>
            <a:custGeom>
              <a:avLst/>
              <a:gdLst>
                <a:gd name="textAreaLeft" fmla="*/ 0 w 142560"/>
                <a:gd name="textAreaRight" fmla="*/ 142920 w 142560"/>
                <a:gd name="textAreaTop" fmla="*/ 0 h 151560"/>
                <a:gd name="textAreaBottom" fmla="*/ 151920 h 151560"/>
              </a:gdLst>
              <a:ahLst/>
              <a:rect l="textAreaLeft" t="textAreaTop" r="textAreaRight" b="textAreaBottom"/>
              <a:pathLst>
                <a:path w="142875" h="151805">
                  <a:moveTo>
                    <a:pt x="0" y="8930"/>
                  </a:moveTo>
                  <a:lnTo>
                    <a:pt x="0" y="17860"/>
                  </a:lnTo>
                  <a:lnTo>
                    <a:pt x="4465" y="26231"/>
                  </a:lnTo>
                  <a:lnTo>
                    <a:pt x="8929" y="35719"/>
                  </a:lnTo>
                  <a:lnTo>
                    <a:pt x="8371" y="42416"/>
                  </a:lnTo>
                  <a:lnTo>
                    <a:pt x="7813" y="46881"/>
                  </a:lnTo>
                  <a:lnTo>
                    <a:pt x="8929" y="53578"/>
                  </a:lnTo>
                  <a:lnTo>
                    <a:pt x="12278" y="65298"/>
                  </a:lnTo>
                  <a:lnTo>
                    <a:pt x="17301" y="79809"/>
                  </a:lnTo>
                  <a:lnTo>
                    <a:pt x="22324" y="94878"/>
                  </a:lnTo>
                  <a:lnTo>
                    <a:pt x="26789" y="107156"/>
                  </a:lnTo>
                  <a:lnTo>
                    <a:pt x="31812" y="122783"/>
                  </a:lnTo>
                  <a:lnTo>
                    <a:pt x="35718" y="133945"/>
                  </a:lnTo>
                  <a:lnTo>
                    <a:pt x="40183" y="145666"/>
                  </a:lnTo>
                  <a:lnTo>
                    <a:pt x="42416" y="150130"/>
                  </a:lnTo>
                  <a:lnTo>
                    <a:pt x="44648" y="151805"/>
                  </a:lnTo>
                  <a:lnTo>
                    <a:pt x="46881" y="150130"/>
                  </a:lnTo>
                  <a:lnTo>
                    <a:pt x="48555" y="145666"/>
                  </a:lnTo>
                  <a:lnTo>
                    <a:pt x="53578" y="133945"/>
                  </a:lnTo>
                  <a:lnTo>
                    <a:pt x="71437" y="107156"/>
                  </a:lnTo>
                  <a:lnTo>
                    <a:pt x="84832" y="89297"/>
                  </a:lnTo>
                  <a:lnTo>
                    <a:pt x="98226" y="71438"/>
                  </a:lnTo>
                  <a:lnTo>
                    <a:pt x="108272" y="57485"/>
                  </a:lnTo>
                  <a:lnTo>
                    <a:pt x="116086" y="44649"/>
                  </a:lnTo>
                  <a:lnTo>
                    <a:pt x="125573" y="30696"/>
                  </a:lnTo>
                  <a:lnTo>
                    <a:pt x="133945" y="17860"/>
                  </a:lnTo>
                  <a:lnTo>
                    <a:pt x="139526" y="7255"/>
                  </a:lnTo>
                  <a:lnTo>
                    <a:pt x="142875"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5" name="1cca2a37-afb7-4281-9e09-5c344ee81e4f"/>
            <p:cNvSpPr/>
            <p:nvPr/>
          </p:nvSpPr>
          <p:spPr>
            <a:xfrm>
              <a:off x="6615720" y="1635840"/>
              <a:ext cx="18720" cy="160560"/>
            </a:xfrm>
            <a:custGeom>
              <a:avLst/>
              <a:gdLst>
                <a:gd name="textAreaLeft" fmla="*/ 0 w 18720"/>
                <a:gd name="textAreaRight" fmla="*/ 19080 w 18720"/>
                <a:gd name="textAreaTop" fmla="*/ 0 h 160560"/>
                <a:gd name="textAreaBottom" fmla="*/ 160560 h 160560"/>
              </a:gdLst>
              <a:ahLst/>
              <a:rect l="textAreaLeft" t="textAreaTop" r="textAreaRight" b="textAreaBottom"/>
              <a:pathLst>
                <a:path w="18976" h="160734">
                  <a:moveTo>
                    <a:pt x="10046" y="0"/>
                  </a:moveTo>
                  <a:lnTo>
                    <a:pt x="10046" y="8929"/>
                  </a:lnTo>
                  <a:lnTo>
                    <a:pt x="10046" y="26789"/>
                  </a:lnTo>
                  <a:lnTo>
                    <a:pt x="10604" y="38509"/>
                  </a:lnTo>
                  <a:lnTo>
                    <a:pt x="10046" y="53578"/>
                  </a:lnTo>
                  <a:lnTo>
                    <a:pt x="5581" y="75344"/>
                  </a:lnTo>
                  <a:lnTo>
                    <a:pt x="1117" y="98226"/>
                  </a:lnTo>
                  <a:lnTo>
                    <a:pt x="558" y="117760"/>
                  </a:lnTo>
                  <a:lnTo>
                    <a:pt x="1117" y="133945"/>
                  </a:lnTo>
                  <a:lnTo>
                    <a:pt x="0" y="144549"/>
                  </a:lnTo>
                  <a:lnTo>
                    <a:pt x="1117" y="151804"/>
                  </a:lnTo>
                  <a:lnTo>
                    <a:pt x="10046" y="157385"/>
                  </a:lnTo>
                  <a:lnTo>
                    <a:pt x="18976" y="16073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6" name="f20784ae-342a-428f-a39d-1a2843b4d0a1"/>
            <p:cNvSpPr/>
            <p:nvPr/>
          </p:nvSpPr>
          <p:spPr>
            <a:xfrm>
              <a:off x="6777360" y="1635840"/>
              <a:ext cx="56160" cy="152640"/>
            </a:xfrm>
            <a:custGeom>
              <a:avLst/>
              <a:gdLst>
                <a:gd name="textAreaLeft" fmla="*/ 0 w 56160"/>
                <a:gd name="textAreaRight" fmla="*/ 56520 w 56160"/>
                <a:gd name="textAreaTop" fmla="*/ 0 h 152640"/>
                <a:gd name="textAreaBottom" fmla="*/ 153000 h 152640"/>
              </a:gdLst>
              <a:ahLst/>
              <a:rect l="textAreaLeft" t="textAreaTop" r="textAreaRight" b="textAreaBottom"/>
              <a:pathLst>
                <a:path w="56369" h="152920">
                  <a:moveTo>
                    <a:pt x="0" y="44648"/>
                  </a:moveTo>
                  <a:lnTo>
                    <a:pt x="3349" y="45206"/>
                  </a:lnTo>
                  <a:lnTo>
                    <a:pt x="8930" y="44648"/>
                  </a:lnTo>
                  <a:lnTo>
                    <a:pt x="17301" y="41299"/>
                  </a:lnTo>
                  <a:lnTo>
                    <a:pt x="26789" y="35718"/>
                  </a:lnTo>
                  <a:lnTo>
                    <a:pt x="36277" y="27347"/>
                  </a:lnTo>
                  <a:lnTo>
                    <a:pt x="44648" y="17859"/>
                  </a:lnTo>
                  <a:lnTo>
                    <a:pt x="51346" y="7255"/>
                  </a:lnTo>
                  <a:lnTo>
                    <a:pt x="53578" y="0"/>
                  </a:lnTo>
                  <a:lnTo>
                    <a:pt x="50788" y="558"/>
                  </a:lnTo>
                  <a:lnTo>
                    <a:pt x="45765" y="2232"/>
                  </a:lnTo>
                  <a:lnTo>
                    <a:pt x="35719" y="8929"/>
                  </a:lnTo>
                  <a:lnTo>
                    <a:pt x="30696" y="17301"/>
                  </a:lnTo>
                  <a:lnTo>
                    <a:pt x="26789" y="26789"/>
                  </a:lnTo>
                  <a:lnTo>
                    <a:pt x="21208" y="35160"/>
                  </a:lnTo>
                  <a:lnTo>
                    <a:pt x="17859" y="44648"/>
                  </a:lnTo>
                  <a:lnTo>
                    <a:pt x="21208" y="58042"/>
                  </a:lnTo>
                  <a:lnTo>
                    <a:pt x="26789" y="71437"/>
                  </a:lnTo>
                  <a:lnTo>
                    <a:pt x="30696" y="81483"/>
                  </a:lnTo>
                  <a:lnTo>
                    <a:pt x="35719" y="89296"/>
                  </a:lnTo>
                  <a:lnTo>
                    <a:pt x="45206" y="97668"/>
                  </a:lnTo>
                  <a:lnTo>
                    <a:pt x="53578" y="107156"/>
                  </a:lnTo>
                  <a:lnTo>
                    <a:pt x="56369" y="120550"/>
                  </a:lnTo>
                  <a:lnTo>
                    <a:pt x="53578" y="133945"/>
                  </a:lnTo>
                  <a:lnTo>
                    <a:pt x="45765" y="144549"/>
                  </a:lnTo>
                  <a:lnTo>
                    <a:pt x="35719" y="151804"/>
                  </a:lnTo>
                  <a:lnTo>
                    <a:pt x="26789" y="152920"/>
                  </a:lnTo>
                  <a:lnTo>
                    <a:pt x="17859" y="151804"/>
                  </a:lnTo>
                  <a:lnTo>
                    <a:pt x="8372" y="151804"/>
                  </a:lnTo>
                  <a:lnTo>
                    <a:pt x="0" y="15180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7" name="69412586-da03-4db7-8f58-d9eb279bc278"/>
            <p:cNvSpPr/>
            <p:nvPr/>
          </p:nvSpPr>
          <p:spPr>
            <a:xfrm>
              <a:off x="6955920" y="1617120"/>
              <a:ext cx="133920" cy="152640"/>
            </a:xfrm>
            <a:custGeom>
              <a:avLst/>
              <a:gdLst>
                <a:gd name="textAreaLeft" fmla="*/ 0 w 133920"/>
                <a:gd name="textAreaRight" fmla="*/ 134280 w 133920"/>
                <a:gd name="textAreaTop" fmla="*/ 0 h 152640"/>
                <a:gd name="textAreaBottom" fmla="*/ 153000 h 152640"/>
              </a:gdLst>
              <a:ahLst/>
              <a:rect l="textAreaLeft" t="textAreaTop" r="textAreaRight" b="textAreaBottom"/>
              <a:pathLst>
                <a:path w="133945" h="152921">
                  <a:moveTo>
                    <a:pt x="0" y="1116"/>
                  </a:moveTo>
                  <a:lnTo>
                    <a:pt x="4465" y="0"/>
                  </a:lnTo>
                  <a:lnTo>
                    <a:pt x="8929" y="1116"/>
                  </a:lnTo>
                  <a:lnTo>
                    <a:pt x="9487" y="9488"/>
                  </a:lnTo>
                  <a:lnTo>
                    <a:pt x="8929" y="18976"/>
                  </a:lnTo>
                  <a:lnTo>
                    <a:pt x="8929" y="36835"/>
                  </a:lnTo>
                  <a:lnTo>
                    <a:pt x="8371" y="44648"/>
                  </a:lnTo>
                  <a:lnTo>
                    <a:pt x="8929" y="54694"/>
                  </a:lnTo>
                  <a:lnTo>
                    <a:pt x="13394" y="71996"/>
                  </a:lnTo>
                  <a:lnTo>
                    <a:pt x="17859" y="90413"/>
                  </a:lnTo>
                  <a:lnTo>
                    <a:pt x="17859" y="104366"/>
                  </a:lnTo>
                  <a:lnTo>
                    <a:pt x="17859" y="117202"/>
                  </a:lnTo>
                  <a:lnTo>
                    <a:pt x="21208" y="131713"/>
                  </a:lnTo>
                  <a:lnTo>
                    <a:pt x="26789" y="143991"/>
                  </a:lnTo>
                  <a:lnTo>
                    <a:pt x="35160" y="150688"/>
                  </a:lnTo>
                  <a:lnTo>
                    <a:pt x="44648" y="152921"/>
                  </a:lnTo>
                  <a:lnTo>
                    <a:pt x="52462" y="151805"/>
                  </a:lnTo>
                  <a:lnTo>
                    <a:pt x="62508" y="143991"/>
                  </a:lnTo>
                  <a:lnTo>
                    <a:pt x="70321" y="135620"/>
                  </a:lnTo>
                  <a:lnTo>
                    <a:pt x="79809" y="124457"/>
                  </a:lnTo>
                  <a:lnTo>
                    <a:pt x="98226" y="99343"/>
                  </a:lnTo>
                  <a:lnTo>
                    <a:pt x="113295" y="71437"/>
                  </a:lnTo>
                  <a:lnTo>
                    <a:pt x="119992" y="57485"/>
                  </a:lnTo>
                  <a:lnTo>
                    <a:pt x="125015" y="45765"/>
                  </a:lnTo>
                  <a:lnTo>
                    <a:pt x="131154" y="29021"/>
                  </a:lnTo>
                  <a:lnTo>
                    <a:pt x="133945" y="1897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8" name="e71e874f-0285-4507-bf84-52e7083cd76d"/>
            <p:cNvSpPr/>
            <p:nvPr/>
          </p:nvSpPr>
          <p:spPr>
            <a:xfrm>
              <a:off x="7188120" y="1626840"/>
              <a:ext cx="187920" cy="187560"/>
            </a:xfrm>
            <a:custGeom>
              <a:avLst/>
              <a:gdLst>
                <a:gd name="textAreaLeft" fmla="*/ 0 w 187920"/>
                <a:gd name="textAreaRight" fmla="*/ 188280 w 187920"/>
                <a:gd name="textAreaTop" fmla="*/ 0 h 187560"/>
                <a:gd name="textAreaBottom" fmla="*/ 187920 h 187560"/>
              </a:gdLst>
              <a:ahLst/>
              <a:rect l="textAreaLeft" t="textAreaTop" r="textAreaRight" b="textAreaBottom"/>
              <a:pathLst>
                <a:path w="188081" h="187523">
                  <a:moveTo>
                    <a:pt x="0" y="178594"/>
                  </a:moveTo>
                  <a:lnTo>
                    <a:pt x="3906" y="179710"/>
                  </a:lnTo>
                  <a:lnTo>
                    <a:pt x="8929" y="178594"/>
                  </a:lnTo>
                  <a:lnTo>
                    <a:pt x="14510" y="170780"/>
                  </a:lnTo>
                  <a:lnTo>
                    <a:pt x="17859" y="160734"/>
                  </a:lnTo>
                  <a:lnTo>
                    <a:pt x="18417" y="151805"/>
                  </a:lnTo>
                  <a:lnTo>
                    <a:pt x="17859" y="142875"/>
                  </a:lnTo>
                  <a:lnTo>
                    <a:pt x="16743" y="135619"/>
                  </a:lnTo>
                  <a:lnTo>
                    <a:pt x="17859" y="125015"/>
                  </a:lnTo>
                  <a:lnTo>
                    <a:pt x="21208" y="115528"/>
                  </a:lnTo>
                  <a:lnTo>
                    <a:pt x="26231" y="103807"/>
                  </a:lnTo>
                  <a:lnTo>
                    <a:pt x="35718" y="80367"/>
                  </a:lnTo>
                  <a:lnTo>
                    <a:pt x="40183" y="61391"/>
                  </a:lnTo>
                  <a:lnTo>
                    <a:pt x="44648" y="44648"/>
                  </a:lnTo>
                  <a:lnTo>
                    <a:pt x="52461" y="29579"/>
                  </a:lnTo>
                  <a:lnTo>
                    <a:pt x="62507" y="17859"/>
                  </a:lnTo>
                  <a:lnTo>
                    <a:pt x="75902" y="12836"/>
                  </a:lnTo>
                  <a:lnTo>
                    <a:pt x="89296" y="8930"/>
                  </a:lnTo>
                  <a:lnTo>
                    <a:pt x="99342" y="2790"/>
                  </a:lnTo>
                  <a:lnTo>
                    <a:pt x="107156" y="0"/>
                  </a:lnTo>
                  <a:lnTo>
                    <a:pt x="115527" y="6697"/>
                  </a:lnTo>
                  <a:lnTo>
                    <a:pt x="125015" y="17859"/>
                  </a:lnTo>
                  <a:lnTo>
                    <a:pt x="138410" y="27905"/>
                  </a:lnTo>
                  <a:lnTo>
                    <a:pt x="145665" y="34602"/>
                  </a:lnTo>
                  <a:lnTo>
                    <a:pt x="151804" y="44648"/>
                  </a:lnTo>
                  <a:lnTo>
                    <a:pt x="157385" y="60275"/>
                  </a:lnTo>
                  <a:lnTo>
                    <a:pt x="161850" y="79809"/>
                  </a:lnTo>
                  <a:lnTo>
                    <a:pt x="166315" y="99901"/>
                  </a:lnTo>
                  <a:lnTo>
                    <a:pt x="169664" y="116086"/>
                  </a:lnTo>
                  <a:lnTo>
                    <a:pt x="174687" y="137294"/>
                  </a:lnTo>
                  <a:lnTo>
                    <a:pt x="178593" y="151805"/>
                  </a:lnTo>
                  <a:lnTo>
                    <a:pt x="184174" y="161850"/>
                  </a:lnTo>
                  <a:lnTo>
                    <a:pt x="187523" y="169664"/>
                  </a:lnTo>
                  <a:lnTo>
                    <a:pt x="188081" y="181384"/>
                  </a:lnTo>
                  <a:lnTo>
                    <a:pt x="187523" y="186407"/>
                  </a:lnTo>
                  <a:lnTo>
                    <a:pt x="187523" y="187523"/>
                  </a:lnTo>
                  <a:lnTo>
                    <a:pt x="187523" y="184175"/>
                  </a:lnTo>
                  <a:lnTo>
                    <a:pt x="188081" y="176919"/>
                  </a:lnTo>
                  <a:lnTo>
                    <a:pt x="188081" y="167990"/>
                  </a:lnTo>
                  <a:lnTo>
                    <a:pt x="187523" y="160734"/>
                  </a:lnTo>
                  <a:lnTo>
                    <a:pt x="184174" y="151246"/>
                  </a:lnTo>
                  <a:lnTo>
                    <a:pt x="178593" y="142875"/>
                  </a:lnTo>
                  <a:lnTo>
                    <a:pt x="174687" y="133945"/>
                  </a:lnTo>
                  <a:lnTo>
                    <a:pt x="169664" y="125015"/>
                  </a:lnTo>
                  <a:lnTo>
                    <a:pt x="161292" y="115528"/>
                  </a:lnTo>
                  <a:lnTo>
                    <a:pt x="151804" y="107156"/>
                  </a:lnTo>
                  <a:lnTo>
                    <a:pt x="143991" y="102133"/>
                  </a:lnTo>
                  <a:lnTo>
                    <a:pt x="133945" y="98226"/>
                  </a:lnTo>
                  <a:lnTo>
                    <a:pt x="120550" y="93203"/>
                  </a:lnTo>
                  <a:lnTo>
                    <a:pt x="107156" y="89297"/>
                  </a:lnTo>
                  <a:lnTo>
                    <a:pt x="97668" y="88739"/>
                  </a:lnTo>
                  <a:lnTo>
                    <a:pt x="89296" y="89297"/>
                  </a:lnTo>
                  <a:lnTo>
                    <a:pt x="79809" y="93762"/>
                  </a:lnTo>
                  <a:lnTo>
                    <a:pt x="71437" y="9822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9" name="4994e0eb-9bf7-4be5-9d32-e58be5cfaac9"/>
            <p:cNvSpPr/>
            <p:nvPr/>
          </p:nvSpPr>
          <p:spPr>
            <a:xfrm>
              <a:off x="7446600" y="1618200"/>
              <a:ext cx="89640" cy="169560"/>
            </a:xfrm>
            <a:custGeom>
              <a:avLst/>
              <a:gdLst>
                <a:gd name="textAreaLeft" fmla="*/ 0 w 89640"/>
                <a:gd name="textAreaRight" fmla="*/ 90000 w 89640"/>
                <a:gd name="textAreaTop" fmla="*/ 0 h 169560"/>
                <a:gd name="textAreaBottom" fmla="*/ 169920 h 169560"/>
              </a:gdLst>
              <a:ahLst/>
              <a:rect l="textAreaLeft" t="textAreaTop" r="textAreaRight" b="textAreaBottom"/>
              <a:pathLst>
                <a:path w="89855" h="169664">
                  <a:moveTo>
                    <a:pt x="27348" y="0"/>
                  </a:moveTo>
                  <a:lnTo>
                    <a:pt x="18418" y="3349"/>
                  </a:lnTo>
                  <a:lnTo>
                    <a:pt x="9488" y="8930"/>
                  </a:lnTo>
                  <a:lnTo>
                    <a:pt x="8930" y="17301"/>
                  </a:lnTo>
                  <a:lnTo>
                    <a:pt x="9488" y="26789"/>
                  </a:lnTo>
                  <a:lnTo>
                    <a:pt x="5023" y="35719"/>
                  </a:lnTo>
                  <a:lnTo>
                    <a:pt x="559" y="44649"/>
                  </a:lnTo>
                  <a:lnTo>
                    <a:pt x="0" y="53020"/>
                  </a:lnTo>
                  <a:lnTo>
                    <a:pt x="559" y="62508"/>
                  </a:lnTo>
                  <a:lnTo>
                    <a:pt x="559" y="89297"/>
                  </a:lnTo>
                  <a:lnTo>
                    <a:pt x="559" y="116086"/>
                  </a:lnTo>
                  <a:lnTo>
                    <a:pt x="4465" y="130039"/>
                  </a:lnTo>
                  <a:lnTo>
                    <a:pt x="9488" y="142875"/>
                  </a:lnTo>
                  <a:lnTo>
                    <a:pt x="12279" y="152921"/>
                  </a:lnTo>
                  <a:lnTo>
                    <a:pt x="18418" y="160735"/>
                  </a:lnTo>
                  <a:lnTo>
                    <a:pt x="34603" y="166874"/>
                  </a:lnTo>
                  <a:lnTo>
                    <a:pt x="54137" y="169664"/>
                  </a:lnTo>
                  <a:lnTo>
                    <a:pt x="74787" y="165757"/>
                  </a:lnTo>
                  <a:lnTo>
                    <a:pt x="83716" y="162967"/>
                  </a:lnTo>
                  <a:lnTo>
                    <a:pt x="89855" y="16073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0" name="8678387a-38a3-4c01-91d4-b0608bccb26c"/>
            <p:cNvSpPr/>
            <p:nvPr/>
          </p:nvSpPr>
          <p:spPr>
            <a:xfrm>
              <a:off x="7643880" y="1617120"/>
              <a:ext cx="26640" cy="179640"/>
            </a:xfrm>
            <a:custGeom>
              <a:avLst/>
              <a:gdLst>
                <a:gd name="textAreaLeft" fmla="*/ 0 w 26640"/>
                <a:gd name="textAreaRight" fmla="*/ 27000 w 26640"/>
                <a:gd name="textAreaTop" fmla="*/ 0 h 179640"/>
                <a:gd name="textAreaBottom" fmla="*/ 180000 h 179640"/>
              </a:gdLst>
              <a:ahLst/>
              <a:rect l="textAreaLeft" t="textAreaTop" r="textAreaRight" b="textAreaBottom"/>
              <a:pathLst>
                <a:path w="26789" h="179710">
                  <a:moveTo>
                    <a:pt x="0" y="1116"/>
                  </a:moveTo>
                  <a:lnTo>
                    <a:pt x="4464" y="0"/>
                  </a:lnTo>
                  <a:lnTo>
                    <a:pt x="8929" y="1116"/>
                  </a:lnTo>
                  <a:lnTo>
                    <a:pt x="8929" y="9488"/>
                  </a:lnTo>
                  <a:lnTo>
                    <a:pt x="8929" y="18976"/>
                  </a:lnTo>
                  <a:lnTo>
                    <a:pt x="13394" y="27905"/>
                  </a:lnTo>
                  <a:lnTo>
                    <a:pt x="17859" y="36835"/>
                  </a:lnTo>
                  <a:lnTo>
                    <a:pt x="18417" y="45206"/>
                  </a:lnTo>
                  <a:lnTo>
                    <a:pt x="17859" y="54694"/>
                  </a:lnTo>
                  <a:lnTo>
                    <a:pt x="18417" y="65856"/>
                  </a:lnTo>
                  <a:lnTo>
                    <a:pt x="18417" y="72554"/>
                  </a:lnTo>
                  <a:lnTo>
                    <a:pt x="17859" y="81483"/>
                  </a:lnTo>
                  <a:lnTo>
                    <a:pt x="16185" y="95994"/>
                  </a:lnTo>
                  <a:lnTo>
                    <a:pt x="13394" y="113295"/>
                  </a:lnTo>
                  <a:lnTo>
                    <a:pt x="10604" y="130597"/>
                  </a:lnTo>
                  <a:lnTo>
                    <a:pt x="8929" y="143991"/>
                  </a:lnTo>
                  <a:lnTo>
                    <a:pt x="8371" y="151805"/>
                  </a:lnTo>
                  <a:lnTo>
                    <a:pt x="8371" y="155711"/>
                  </a:lnTo>
                  <a:lnTo>
                    <a:pt x="8929" y="161851"/>
                  </a:lnTo>
                  <a:lnTo>
                    <a:pt x="7813" y="173013"/>
                  </a:lnTo>
                  <a:lnTo>
                    <a:pt x="7813" y="178036"/>
                  </a:lnTo>
                  <a:lnTo>
                    <a:pt x="8929" y="179710"/>
                  </a:lnTo>
                  <a:lnTo>
                    <a:pt x="12836" y="177477"/>
                  </a:lnTo>
                  <a:lnTo>
                    <a:pt x="17859" y="171896"/>
                  </a:lnTo>
                  <a:lnTo>
                    <a:pt x="23440" y="166315"/>
                  </a:lnTo>
                  <a:lnTo>
                    <a:pt x="26789" y="16185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1" name="f2933c6f-d684-4533-8038-194612cf6a3a"/>
            <p:cNvSpPr/>
            <p:nvPr/>
          </p:nvSpPr>
          <p:spPr>
            <a:xfrm>
              <a:off x="7715160" y="1617120"/>
              <a:ext cx="178560" cy="161640"/>
            </a:xfrm>
            <a:custGeom>
              <a:avLst/>
              <a:gdLst>
                <a:gd name="textAreaLeft" fmla="*/ 0 w 178560"/>
                <a:gd name="textAreaRight" fmla="*/ 178920 w 178560"/>
                <a:gd name="textAreaTop" fmla="*/ 0 h 161640"/>
                <a:gd name="textAreaBottom" fmla="*/ 162000 h 161640"/>
              </a:gdLst>
              <a:ahLst/>
              <a:rect l="textAreaLeft" t="textAreaTop" r="textAreaRight" b="textAreaBottom"/>
              <a:pathLst>
                <a:path w="178594" h="161851">
                  <a:moveTo>
                    <a:pt x="0" y="27905"/>
                  </a:moveTo>
                  <a:lnTo>
                    <a:pt x="2791" y="24557"/>
                  </a:lnTo>
                  <a:lnTo>
                    <a:pt x="8930" y="18976"/>
                  </a:lnTo>
                  <a:lnTo>
                    <a:pt x="21766" y="13953"/>
                  </a:lnTo>
                  <a:lnTo>
                    <a:pt x="35719" y="10046"/>
                  </a:lnTo>
                  <a:lnTo>
                    <a:pt x="45765" y="10046"/>
                  </a:lnTo>
                  <a:lnTo>
                    <a:pt x="53578" y="10046"/>
                  </a:lnTo>
                  <a:lnTo>
                    <a:pt x="61950" y="5581"/>
                  </a:lnTo>
                  <a:lnTo>
                    <a:pt x="71438" y="1116"/>
                  </a:lnTo>
                  <a:lnTo>
                    <a:pt x="84832" y="558"/>
                  </a:lnTo>
                  <a:lnTo>
                    <a:pt x="98227" y="1116"/>
                  </a:lnTo>
                  <a:lnTo>
                    <a:pt x="108273" y="0"/>
                  </a:lnTo>
                  <a:lnTo>
                    <a:pt x="116086" y="1116"/>
                  </a:lnTo>
                  <a:lnTo>
                    <a:pt x="121667" y="9488"/>
                  </a:lnTo>
                  <a:lnTo>
                    <a:pt x="125016" y="18976"/>
                  </a:lnTo>
                  <a:lnTo>
                    <a:pt x="125016" y="36835"/>
                  </a:lnTo>
                  <a:lnTo>
                    <a:pt x="120551" y="45765"/>
                  </a:lnTo>
                  <a:lnTo>
                    <a:pt x="116086" y="54694"/>
                  </a:lnTo>
                  <a:lnTo>
                    <a:pt x="116086" y="62508"/>
                  </a:lnTo>
                  <a:lnTo>
                    <a:pt x="116086" y="72554"/>
                  </a:lnTo>
                  <a:lnTo>
                    <a:pt x="111621" y="89855"/>
                  </a:lnTo>
                  <a:lnTo>
                    <a:pt x="107156" y="108272"/>
                  </a:lnTo>
                  <a:lnTo>
                    <a:pt x="104924" y="122783"/>
                  </a:lnTo>
                  <a:lnTo>
                    <a:pt x="107156" y="135061"/>
                  </a:lnTo>
                  <a:lnTo>
                    <a:pt x="117760" y="145107"/>
                  </a:lnTo>
                  <a:lnTo>
                    <a:pt x="133945" y="152921"/>
                  </a:lnTo>
                  <a:lnTo>
                    <a:pt x="145108" y="156269"/>
                  </a:lnTo>
                  <a:lnTo>
                    <a:pt x="157944" y="158502"/>
                  </a:lnTo>
                  <a:lnTo>
                    <a:pt x="170222" y="160734"/>
                  </a:lnTo>
                  <a:lnTo>
                    <a:pt x="178594" y="16185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2" name="23a525a3-a60e-4d5d-8f24-4887487f0f1d"/>
            <p:cNvSpPr/>
            <p:nvPr/>
          </p:nvSpPr>
          <p:spPr>
            <a:xfrm>
              <a:off x="7804440" y="1680120"/>
              <a:ext cx="97920" cy="9720"/>
            </a:xfrm>
            <a:custGeom>
              <a:avLst/>
              <a:gdLst>
                <a:gd name="textAreaLeft" fmla="*/ 0 w 97920"/>
                <a:gd name="textAreaRight" fmla="*/ 98280 w 97920"/>
                <a:gd name="textAreaTop" fmla="*/ 0 h 9720"/>
                <a:gd name="textAreaBottom" fmla="*/ 10080 h 9720"/>
              </a:gdLst>
              <a:ahLst/>
              <a:rect l="textAreaLeft" t="textAreaTop" r="textAreaRight" b="textAreaBottom"/>
              <a:pathLst>
                <a:path w="98227" h="10046">
                  <a:moveTo>
                    <a:pt x="0" y="9488"/>
                  </a:moveTo>
                  <a:lnTo>
                    <a:pt x="2791" y="9488"/>
                  </a:lnTo>
                  <a:lnTo>
                    <a:pt x="8930" y="9488"/>
                  </a:lnTo>
                  <a:lnTo>
                    <a:pt x="21208" y="9488"/>
                  </a:lnTo>
                  <a:lnTo>
                    <a:pt x="35719" y="9488"/>
                  </a:lnTo>
                  <a:lnTo>
                    <a:pt x="49671" y="10046"/>
                  </a:lnTo>
                  <a:lnTo>
                    <a:pt x="62508" y="9488"/>
                  </a:lnTo>
                  <a:lnTo>
                    <a:pt x="72554" y="5023"/>
                  </a:lnTo>
                  <a:lnTo>
                    <a:pt x="80367" y="558"/>
                  </a:lnTo>
                  <a:lnTo>
                    <a:pt x="90413" y="0"/>
                  </a:lnTo>
                  <a:lnTo>
                    <a:pt x="98227" y="558"/>
                  </a:lnTo>
                </a:path>
              </a:pathLst>
            </a:custGeom>
            <a:noFill/>
            <a:ln w="17640">
              <a:solidFill>
                <a:srgbClr val="0000ff"/>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143" name="1504d7e7-7f24-42a0-9c0f-e49a20624af1"/>
            <p:cNvSpPr/>
            <p:nvPr/>
          </p:nvSpPr>
          <p:spPr>
            <a:xfrm>
              <a:off x="8017560" y="1582200"/>
              <a:ext cx="135000" cy="169560"/>
            </a:xfrm>
            <a:custGeom>
              <a:avLst/>
              <a:gdLst>
                <a:gd name="textAreaLeft" fmla="*/ 0 w 135000"/>
                <a:gd name="textAreaRight" fmla="*/ 135360 w 135000"/>
                <a:gd name="textAreaTop" fmla="*/ 0 h 169560"/>
                <a:gd name="textAreaBottom" fmla="*/ 169920 h 169560"/>
              </a:gdLst>
              <a:ahLst/>
              <a:rect l="textAreaLeft" t="textAreaTop" r="textAreaRight" b="textAreaBottom"/>
              <a:pathLst>
                <a:path w="135062" h="169664">
                  <a:moveTo>
                    <a:pt x="1117" y="0"/>
                  </a:moveTo>
                  <a:lnTo>
                    <a:pt x="0" y="8372"/>
                  </a:lnTo>
                  <a:lnTo>
                    <a:pt x="1117" y="17860"/>
                  </a:lnTo>
                  <a:lnTo>
                    <a:pt x="9488" y="23441"/>
                  </a:lnTo>
                  <a:lnTo>
                    <a:pt x="18976" y="26789"/>
                  </a:lnTo>
                  <a:lnTo>
                    <a:pt x="27906" y="27348"/>
                  </a:lnTo>
                  <a:lnTo>
                    <a:pt x="36835" y="26789"/>
                  </a:lnTo>
                  <a:lnTo>
                    <a:pt x="54695" y="26789"/>
                  </a:lnTo>
                  <a:lnTo>
                    <a:pt x="72554" y="26789"/>
                  </a:lnTo>
                  <a:lnTo>
                    <a:pt x="90413" y="26789"/>
                  </a:lnTo>
                  <a:lnTo>
                    <a:pt x="100459" y="29580"/>
                  </a:lnTo>
                  <a:lnTo>
                    <a:pt x="108273" y="35719"/>
                  </a:lnTo>
                  <a:lnTo>
                    <a:pt x="109389" y="48556"/>
                  </a:lnTo>
                  <a:lnTo>
                    <a:pt x="108273" y="62508"/>
                  </a:lnTo>
                  <a:lnTo>
                    <a:pt x="108831" y="72554"/>
                  </a:lnTo>
                  <a:lnTo>
                    <a:pt x="108273" y="80368"/>
                  </a:lnTo>
                  <a:lnTo>
                    <a:pt x="104924" y="88181"/>
                  </a:lnTo>
                  <a:lnTo>
                    <a:pt x="99343" y="98227"/>
                  </a:lnTo>
                  <a:lnTo>
                    <a:pt x="94320" y="116086"/>
                  </a:lnTo>
                  <a:lnTo>
                    <a:pt x="90413" y="133946"/>
                  </a:lnTo>
                  <a:lnTo>
                    <a:pt x="88739" y="144550"/>
                  </a:lnTo>
                  <a:lnTo>
                    <a:pt x="90413" y="151805"/>
                  </a:lnTo>
                  <a:lnTo>
                    <a:pt x="97669" y="156828"/>
                  </a:lnTo>
                  <a:lnTo>
                    <a:pt x="108273" y="160735"/>
                  </a:lnTo>
                  <a:lnTo>
                    <a:pt x="122783" y="166316"/>
                  </a:lnTo>
                  <a:lnTo>
                    <a:pt x="130039" y="168548"/>
                  </a:lnTo>
                  <a:lnTo>
                    <a:pt x="135062" y="16966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4" name="61c23da0-6db4-4476-a871-e1b7dccab175"/>
            <p:cNvSpPr/>
            <p:nvPr/>
          </p:nvSpPr>
          <p:spPr>
            <a:xfrm>
              <a:off x="8063640" y="1689480"/>
              <a:ext cx="169560" cy="36000"/>
            </a:xfrm>
            <a:custGeom>
              <a:avLst/>
              <a:gdLst>
                <a:gd name="textAreaLeft" fmla="*/ 0 w 169560"/>
                <a:gd name="textAreaRight" fmla="*/ 169920 w 169560"/>
                <a:gd name="textAreaTop" fmla="*/ 0 h 36000"/>
                <a:gd name="textAreaBottom" fmla="*/ 36360 h 36000"/>
              </a:gdLst>
              <a:ahLst/>
              <a:rect l="textAreaLeft" t="textAreaTop" r="textAreaRight" b="textAreaBottom"/>
              <a:pathLst>
                <a:path w="169664" h="36276">
                  <a:moveTo>
                    <a:pt x="0" y="35718"/>
                  </a:moveTo>
                  <a:lnTo>
                    <a:pt x="1116" y="36276"/>
                  </a:lnTo>
                  <a:lnTo>
                    <a:pt x="3349" y="36276"/>
                  </a:lnTo>
                  <a:lnTo>
                    <a:pt x="8930" y="35718"/>
                  </a:lnTo>
                  <a:lnTo>
                    <a:pt x="20092" y="34602"/>
                  </a:lnTo>
                  <a:lnTo>
                    <a:pt x="34602" y="32370"/>
                  </a:lnTo>
                  <a:lnTo>
                    <a:pt x="50229" y="29579"/>
                  </a:lnTo>
                  <a:lnTo>
                    <a:pt x="62508" y="26789"/>
                  </a:lnTo>
                  <a:lnTo>
                    <a:pt x="70879" y="24556"/>
                  </a:lnTo>
                  <a:lnTo>
                    <a:pt x="77018" y="22324"/>
                  </a:lnTo>
                  <a:lnTo>
                    <a:pt x="89297" y="17859"/>
                  </a:lnTo>
                  <a:lnTo>
                    <a:pt x="107714" y="12836"/>
                  </a:lnTo>
                  <a:lnTo>
                    <a:pt x="125016" y="8929"/>
                  </a:lnTo>
                  <a:lnTo>
                    <a:pt x="134503" y="8929"/>
                  </a:lnTo>
                  <a:lnTo>
                    <a:pt x="142875" y="8929"/>
                  </a:lnTo>
                  <a:lnTo>
                    <a:pt x="157386" y="4464"/>
                  </a:lnTo>
                  <a:lnTo>
                    <a:pt x="164641" y="1674"/>
                  </a:lnTo>
                  <a:lnTo>
                    <a:pt x="169664" y="0"/>
                  </a:lnTo>
                </a:path>
              </a:pathLst>
            </a:custGeom>
            <a:noFill/>
            <a:ln w="17640">
              <a:solidFill>
                <a:srgbClr val="0000ff"/>
              </a:solidFill>
              <a:round/>
            </a:ln>
          </p:spPr>
          <p:style>
            <a:lnRef idx="0"/>
            <a:fillRef idx="0"/>
            <a:effectRef idx="0"/>
            <a:fontRef idx="minor"/>
          </p:style>
          <p:txBody>
            <a:bodyPr lIns="90000" rIns="90000" tIns="-10440" bIns="-10440" anchor="ctr" anchorCtr="1">
              <a:noAutofit/>
            </a:bodyPr>
            <a:p>
              <a:endParaRPr b="0" lang="en-US" sz="1800" spc="-1" strike="noStrike">
                <a:solidFill>
                  <a:srgbClr val="000000"/>
                </a:solidFill>
                <a:latin typeface="Arial"/>
              </a:endParaRPr>
            </a:p>
          </p:txBody>
        </p:sp>
        <p:sp>
          <p:nvSpPr>
            <p:cNvPr id="145" name="d536eed8-a50e-4c8e-9890-3723a954062c"/>
            <p:cNvSpPr/>
            <p:nvPr/>
          </p:nvSpPr>
          <p:spPr>
            <a:xfrm>
              <a:off x="8357760" y="1616400"/>
              <a:ext cx="190800" cy="180000"/>
            </a:xfrm>
            <a:custGeom>
              <a:avLst/>
              <a:gdLst>
                <a:gd name="textAreaLeft" fmla="*/ 0 w 190800"/>
                <a:gd name="textAreaRight" fmla="*/ 191160 w 190800"/>
                <a:gd name="textAreaTop" fmla="*/ 0 h 180000"/>
                <a:gd name="textAreaBottom" fmla="*/ 180000 h 180000"/>
              </a:gdLst>
              <a:ahLst/>
              <a:rect l="textAreaLeft" t="textAreaTop" r="textAreaRight" b="textAreaBottom"/>
              <a:pathLst>
                <a:path w="190872" h="180268">
                  <a:moveTo>
                    <a:pt x="18417" y="180268"/>
                  </a:moveTo>
                  <a:lnTo>
                    <a:pt x="18975" y="176919"/>
                  </a:lnTo>
                  <a:lnTo>
                    <a:pt x="18417" y="171338"/>
                  </a:lnTo>
                  <a:lnTo>
                    <a:pt x="15068" y="162967"/>
                  </a:lnTo>
                  <a:lnTo>
                    <a:pt x="9487" y="153479"/>
                  </a:lnTo>
                  <a:lnTo>
                    <a:pt x="4464" y="146223"/>
                  </a:lnTo>
                  <a:lnTo>
                    <a:pt x="558" y="135619"/>
                  </a:lnTo>
                  <a:lnTo>
                    <a:pt x="0" y="126690"/>
                  </a:lnTo>
                  <a:lnTo>
                    <a:pt x="0" y="114970"/>
                  </a:lnTo>
                  <a:lnTo>
                    <a:pt x="558" y="90971"/>
                  </a:lnTo>
                  <a:lnTo>
                    <a:pt x="3906" y="68089"/>
                  </a:lnTo>
                  <a:lnTo>
                    <a:pt x="9487" y="46323"/>
                  </a:lnTo>
                  <a:lnTo>
                    <a:pt x="17859" y="30696"/>
                  </a:lnTo>
                  <a:lnTo>
                    <a:pt x="27347" y="19534"/>
                  </a:lnTo>
                  <a:lnTo>
                    <a:pt x="36276" y="14511"/>
                  </a:lnTo>
                  <a:lnTo>
                    <a:pt x="45206" y="10604"/>
                  </a:lnTo>
                  <a:lnTo>
                    <a:pt x="54136" y="5581"/>
                  </a:lnTo>
                  <a:lnTo>
                    <a:pt x="63065" y="1674"/>
                  </a:lnTo>
                  <a:lnTo>
                    <a:pt x="71995" y="0"/>
                  </a:lnTo>
                  <a:lnTo>
                    <a:pt x="80925" y="1674"/>
                  </a:lnTo>
                  <a:lnTo>
                    <a:pt x="88738" y="8371"/>
                  </a:lnTo>
                  <a:lnTo>
                    <a:pt x="98784" y="19534"/>
                  </a:lnTo>
                  <a:lnTo>
                    <a:pt x="116644" y="36277"/>
                  </a:lnTo>
                  <a:lnTo>
                    <a:pt x="134503" y="55252"/>
                  </a:lnTo>
                  <a:lnTo>
                    <a:pt x="144549" y="72554"/>
                  </a:lnTo>
                  <a:lnTo>
                    <a:pt x="152362" y="90971"/>
                  </a:lnTo>
                  <a:lnTo>
                    <a:pt x="157385" y="103807"/>
                  </a:lnTo>
                  <a:lnTo>
                    <a:pt x="162408" y="118876"/>
                  </a:lnTo>
                  <a:lnTo>
                    <a:pt x="166873" y="133387"/>
                  </a:lnTo>
                  <a:lnTo>
                    <a:pt x="170222" y="144549"/>
                  </a:lnTo>
                  <a:lnTo>
                    <a:pt x="171338" y="151804"/>
                  </a:lnTo>
                  <a:lnTo>
                    <a:pt x="170222" y="156269"/>
                  </a:lnTo>
                  <a:lnTo>
                    <a:pt x="170222" y="162409"/>
                  </a:lnTo>
                  <a:lnTo>
                    <a:pt x="179151" y="173571"/>
                  </a:lnTo>
                  <a:lnTo>
                    <a:pt x="184732" y="178594"/>
                  </a:lnTo>
                  <a:lnTo>
                    <a:pt x="188081" y="180268"/>
                  </a:lnTo>
                  <a:lnTo>
                    <a:pt x="190313" y="178594"/>
                  </a:lnTo>
                  <a:lnTo>
                    <a:pt x="190872" y="174129"/>
                  </a:lnTo>
                  <a:lnTo>
                    <a:pt x="188081" y="162409"/>
                  </a:lnTo>
                  <a:lnTo>
                    <a:pt x="183058" y="156269"/>
                  </a:lnTo>
                  <a:lnTo>
                    <a:pt x="175803" y="149014"/>
                  </a:lnTo>
                  <a:lnTo>
                    <a:pt x="161292" y="135619"/>
                  </a:lnTo>
                  <a:lnTo>
                    <a:pt x="153479" y="126132"/>
                  </a:lnTo>
                  <a:lnTo>
                    <a:pt x="149572" y="122225"/>
                  </a:lnTo>
                  <a:lnTo>
                    <a:pt x="143433" y="117760"/>
                  </a:lnTo>
                  <a:lnTo>
                    <a:pt x="133945" y="113295"/>
                  </a:lnTo>
                  <a:lnTo>
                    <a:pt x="122225" y="108272"/>
                  </a:lnTo>
                  <a:lnTo>
                    <a:pt x="109388" y="103249"/>
                  </a:lnTo>
                  <a:lnTo>
                    <a:pt x="98784" y="99901"/>
                  </a:lnTo>
                  <a:lnTo>
                    <a:pt x="83715" y="98226"/>
                  </a:lnTo>
                  <a:lnTo>
                    <a:pt x="71995" y="99901"/>
                  </a:lnTo>
                  <a:lnTo>
                    <a:pt x="61391" y="104366"/>
                  </a:lnTo>
                  <a:lnTo>
                    <a:pt x="54136" y="10883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6" name="e2daa738-b56b-4e7f-b465-88a1538ad1bc"/>
            <p:cNvSpPr/>
            <p:nvPr/>
          </p:nvSpPr>
          <p:spPr>
            <a:xfrm>
              <a:off x="8626320" y="1599120"/>
              <a:ext cx="196200" cy="199080"/>
            </a:xfrm>
            <a:custGeom>
              <a:avLst/>
              <a:gdLst>
                <a:gd name="textAreaLeft" fmla="*/ 0 w 196200"/>
                <a:gd name="textAreaRight" fmla="*/ 196560 w 196200"/>
                <a:gd name="textAreaTop" fmla="*/ 0 h 199080"/>
                <a:gd name="textAreaBottom" fmla="*/ 199440 h 199080"/>
              </a:gdLst>
              <a:ahLst/>
              <a:rect l="textAreaLeft" t="textAreaTop" r="textAreaRight" b="textAreaBottom"/>
              <a:pathLst>
                <a:path w="196453" h="199243">
                  <a:moveTo>
                    <a:pt x="17860" y="197569"/>
                  </a:moveTo>
                  <a:lnTo>
                    <a:pt x="22883" y="199243"/>
                  </a:lnTo>
                  <a:lnTo>
                    <a:pt x="26789" y="197569"/>
                  </a:lnTo>
                  <a:lnTo>
                    <a:pt x="25673" y="192546"/>
                  </a:lnTo>
                  <a:lnTo>
                    <a:pt x="23441" y="185291"/>
                  </a:lnTo>
                  <a:lnTo>
                    <a:pt x="17860" y="170780"/>
                  </a:lnTo>
                  <a:lnTo>
                    <a:pt x="15627" y="167431"/>
                  </a:lnTo>
                  <a:lnTo>
                    <a:pt x="13395" y="165199"/>
                  </a:lnTo>
                  <a:lnTo>
                    <a:pt x="11162" y="161850"/>
                  </a:lnTo>
                  <a:lnTo>
                    <a:pt x="8930" y="152920"/>
                  </a:lnTo>
                  <a:lnTo>
                    <a:pt x="6139" y="136177"/>
                  </a:lnTo>
                  <a:lnTo>
                    <a:pt x="3349" y="113853"/>
                  </a:lnTo>
                  <a:lnTo>
                    <a:pt x="1116" y="90971"/>
                  </a:lnTo>
                  <a:lnTo>
                    <a:pt x="0" y="72553"/>
                  </a:lnTo>
                  <a:lnTo>
                    <a:pt x="558" y="60275"/>
                  </a:lnTo>
                  <a:lnTo>
                    <a:pt x="2791" y="50787"/>
                  </a:lnTo>
                  <a:lnTo>
                    <a:pt x="8930" y="36835"/>
                  </a:lnTo>
                  <a:lnTo>
                    <a:pt x="16185" y="26789"/>
                  </a:lnTo>
                  <a:lnTo>
                    <a:pt x="26789" y="18975"/>
                  </a:lnTo>
                  <a:lnTo>
                    <a:pt x="44091" y="9487"/>
                  </a:lnTo>
                  <a:lnTo>
                    <a:pt x="62508" y="1116"/>
                  </a:lnTo>
                  <a:lnTo>
                    <a:pt x="76461" y="0"/>
                  </a:lnTo>
                  <a:lnTo>
                    <a:pt x="89297" y="1116"/>
                  </a:lnTo>
                  <a:lnTo>
                    <a:pt x="104366" y="0"/>
                  </a:lnTo>
                  <a:lnTo>
                    <a:pt x="116086" y="1116"/>
                  </a:lnTo>
                  <a:lnTo>
                    <a:pt x="117761" y="8371"/>
                  </a:lnTo>
                  <a:lnTo>
                    <a:pt x="116086" y="18975"/>
                  </a:lnTo>
                  <a:lnTo>
                    <a:pt x="117202" y="32370"/>
                  </a:lnTo>
                  <a:lnTo>
                    <a:pt x="116086" y="45764"/>
                  </a:lnTo>
                  <a:lnTo>
                    <a:pt x="108273" y="54694"/>
                  </a:lnTo>
                  <a:lnTo>
                    <a:pt x="98227" y="63624"/>
                  </a:lnTo>
                  <a:lnTo>
                    <a:pt x="89297" y="78134"/>
                  </a:lnTo>
                  <a:lnTo>
                    <a:pt x="80367" y="90413"/>
                  </a:lnTo>
                  <a:lnTo>
                    <a:pt x="71438" y="95994"/>
                  </a:lnTo>
                  <a:lnTo>
                    <a:pt x="62508" y="99342"/>
                  </a:lnTo>
                  <a:lnTo>
                    <a:pt x="51346" y="103249"/>
                  </a:lnTo>
                  <a:lnTo>
                    <a:pt x="46881" y="104923"/>
                  </a:lnTo>
                  <a:lnTo>
                    <a:pt x="44649" y="108272"/>
                  </a:lnTo>
                  <a:lnTo>
                    <a:pt x="50230" y="121108"/>
                  </a:lnTo>
                  <a:lnTo>
                    <a:pt x="62508" y="135061"/>
                  </a:lnTo>
                  <a:lnTo>
                    <a:pt x="78693" y="145107"/>
                  </a:lnTo>
                  <a:lnTo>
                    <a:pt x="98227" y="152920"/>
                  </a:lnTo>
                  <a:lnTo>
                    <a:pt x="120551" y="161850"/>
                  </a:lnTo>
                  <a:lnTo>
                    <a:pt x="142875" y="170780"/>
                  </a:lnTo>
                  <a:lnTo>
                    <a:pt x="162409" y="180826"/>
                  </a:lnTo>
                  <a:lnTo>
                    <a:pt x="178594" y="188639"/>
                  </a:lnTo>
                  <a:lnTo>
                    <a:pt x="189756" y="189755"/>
                  </a:lnTo>
                  <a:lnTo>
                    <a:pt x="196453" y="18863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7" name="0c6f600a-4d84-4334-90ae-335a62ab8236"/>
            <p:cNvSpPr/>
            <p:nvPr/>
          </p:nvSpPr>
          <p:spPr>
            <a:xfrm>
              <a:off x="8919720" y="1618200"/>
              <a:ext cx="144000" cy="190080"/>
            </a:xfrm>
            <a:custGeom>
              <a:avLst/>
              <a:gdLst>
                <a:gd name="textAreaLeft" fmla="*/ 0 w 144000"/>
                <a:gd name="textAreaRight" fmla="*/ 144360 w 144000"/>
                <a:gd name="textAreaTop" fmla="*/ 0 h 190080"/>
                <a:gd name="textAreaBottom" fmla="*/ 190440 h 190080"/>
              </a:gdLst>
              <a:ahLst/>
              <a:rect l="textAreaLeft" t="textAreaTop" r="textAreaRight" b="textAreaBottom"/>
              <a:pathLst>
                <a:path w="143991" h="190314">
                  <a:moveTo>
                    <a:pt x="10046" y="0"/>
                  </a:moveTo>
                  <a:lnTo>
                    <a:pt x="10604" y="3349"/>
                  </a:lnTo>
                  <a:lnTo>
                    <a:pt x="10046" y="8930"/>
                  </a:lnTo>
                  <a:lnTo>
                    <a:pt x="5581" y="17301"/>
                  </a:lnTo>
                  <a:lnTo>
                    <a:pt x="1116" y="26789"/>
                  </a:lnTo>
                  <a:lnTo>
                    <a:pt x="1116" y="44649"/>
                  </a:lnTo>
                  <a:lnTo>
                    <a:pt x="1116" y="50788"/>
                  </a:lnTo>
                  <a:lnTo>
                    <a:pt x="1116" y="54694"/>
                  </a:lnTo>
                  <a:lnTo>
                    <a:pt x="1116" y="62508"/>
                  </a:lnTo>
                  <a:lnTo>
                    <a:pt x="558" y="75902"/>
                  </a:lnTo>
                  <a:lnTo>
                    <a:pt x="0" y="93204"/>
                  </a:lnTo>
                  <a:lnTo>
                    <a:pt x="0" y="111063"/>
                  </a:lnTo>
                  <a:lnTo>
                    <a:pt x="1116" y="125016"/>
                  </a:lnTo>
                  <a:lnTo>
                    <a:pt x="3906" y="134504"/>
                  </a:lnTo>
                  <a:lnTo>
                    <a:pt x="7813" y="141201"/>
                  </a:lnTo>
                  <a:lnTo>
                    <a:pt x="18975" y="151805"/>
                  </a:lnTo>
                  <a:lnTo>
                    <a:pt x="36277" y="161851"/>
                  </a:lnTo>
                  <a:lnTo>
                    <a:pt x="54694" y="169664"/>
                  </a:lnTo>
                  <a:lnTo>
                    <a:pt x="68089" y="179710"/>
                  </a:lnTo>
                  <a:lnTo>
                    <a:pt x="81483" y="187524"/>
                  </a:lnTo>
                  <a:lnTo>
                    <a:pt x="99901" y="190314"/>
                  </a:lnTo>
                  <a:lnTo>
                    <a:pt x="117202" y="187524"/>
                  </a:lnTo>
                  <a:lnTo>
                    <a:pt x="127806" y="179710"/>
                  </a:lnTo>
                  <a:lnTo>
                    <a:pt x="135061" y="169664"/>
                  </a:lnTo>
                  <a:lnTo>
                    <a:pt x="140642" y="160176"/>
                  </a:lnTo>
                  <a:lnTo>
                    <a:pt x="143991" y="15180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8" name="e754fc68-2576-4583-b2c1-eb4c627a1075"/>
            <p:cNvSpPr/>
            <p:nvPr/>
          </p:nvSpPr>
          <p:spPr>
            <a:xfrm>
              <a:off x="8965440" y="1689480"/>
              <a:ext cx="80280" cy="9360"/>
            </a:xfrm>
            <a:custGeom>
              <a:avLst/>
              <a:gdLst>
                <a:gd name="textAreaLeft" fmla="*/ 0 w 80280"/>
                <a:gd name="textAreaRight" fmla="*/ 80640 w 80280"/>
                <a:gd name="textAreaTop" fmla="*/ 0 h 9360"/>
                <a:gd name="textAreaBottom" fmla="*/ 9720 h 9360"/>
              </a:gdLst>
              <a:ahLst/>
              <a:rect l="textAreaLeft" t="textAreaTop" r="textAreaRight" b="textAreaBottom"/>
              <a:pathLst>
                <a:path w="80368" h="9487">
                  <a:moveTo>
                    <a:pt x="0" y="0"/>
                  </a:moveTo>
                  <a:lnTo>
                    <a:pt x="2791" y="4464"/>
                  </a:lnTo>
                  <a:lnTo>
                    <a:pt x="8930" y="8929"/>
                  </a:lnTo>
                  <a:lnTo>
                    <a:pt x="21208" y="9487"/>
                  </a:lnTo>
                  <a:lnTo>
                    <a:pt x="35719" y="8929"/>
                  </a:lnTo>
                  <a:lnTo>
                    <a:pt x="49672" y="8929"/>
                  </a:lnTo>
                  <a:lnTo>
                    <a:pt x="62508" y="8929"/>
                  </a:lnTo>
                  <a:lnTo>
                    <a:pt x="73112" y="8929"/>
                  </a:lnTo>
                  <a:lnTo>
                    <a:pt x="80368" y="8929"/>
                  </a:lnTo>
                </a:path>
              </a:pathLst>
            </a:custGeom>
            <a:noFill/>
            <a:ln w="17640">
              <a:solidFill>
                <a:srgbClr val="0000ff"/>
              </a:solidFill>
              <a:round/>
            </a:ln>
          </p:spPr>
          <p:style>
            <a:lnRef idx="0"/>
            <a:fillRef idx="0"/>
            <a:effectRef idx="0"/>
            <a:fontRef idx="minor"/>
          </p:style>
          <p:txBody>
            <a:bodyPr lIns="90000" rIns="90000" tIns="-37080" bIns="-37080" anchor="ctr" anchorCtr="1">
              <a:noAutofit/>
            </a:bodyPr>
            <a:p>
              <a:endParaRPr b="0" lang="en-US" sz="1800" spc="-1" strike="noStrike">
                <a:solidFill>
                  <a:srgbClr val="000000"/>
                </a:solidFill>
                <a:latin typeface="Arial"/>
              </a:endParaRPr>
            </a:p>
          </p:txBody>
        </p:sp>
        <p:sp>
          <p:nvSpPr>
            <p:cNvPr id="149" name="96ca5eb7-c781-4f1f-9de4-251a0973aa66"/>
            <p:cNvSpPr/>
            <p:nvPr/>
          </p:nvSpPr>
          <p:spPr>
            <a:xfrm>
              <a:off x="8947800" y="1635480"/>
              <a:ext cx="133920" cy="45000"/>
            </a:xfrm>
            <a:custGeom>
              <a:avLst/>
              <a:gdLst>
                <a:gd name="textAreaLeft" fmla="*/ 0 w 133920"/>
                <a:gd name="textAreaRight" fmla="*/ 134280 w 133920"/>
                <a:gd name="textAreaTop" fmla="*/ 0 h 45000"/>
                <a:gd name="textAreaBottom" fmla="*/ 45360 h 45000"/>
              </a:gdLst>
              <a:ahLst/>
              <a:rect l="textAreaLeft" t="textAreaTop" r="textAreaRight" b="textAreaBottom"/>
              <a:pathLst>
                <a:path w="133945" h="45207">
                  <a:moveTo>
                    <a:pt x="0" y="559"/>
                  </a:moveTo>
                  <a:lnTo>
                    <a:pt x="8372" y="559"/>
                  </a:lnTo>
                  <a:lnTo>
                    <a:pt x="17859" y="559"/>
                  </a:lnTo>
                  <a:lnTo>
                    <a:pt x="25673" y="0"/>
                  </a:lnTo>
                  <a:lnTo>
                    <a:pt x="35719" y="559"/>
                  </a:lnTo>
                  <a:lnTo>
                    <a:pt x="50788" y="2791"/>
                  </a:lnTo>
                  <a:lnTo>
                    <a:pt x="71438" y="9488"/>
                  </a:lnTo>
                  <a:lnTo>
                    <a:pt x="87064" y="17860"/>
                  </a:lnTo>
                  <a:lnTo>
                    <a:pt x="105482" y="28464"/>
                  </a:lnTo>
                  <a:lnTo>
                    <a:pt x="122225" y="38510"/>
                  </a:lnTo>
                  <a:lnTo>
                    <a:pt x="133945" y="45207"/>
                  </a:lnTo>
                </a:path>
              </a:pathLst>
            </a:custGeom>
            <a:noFill/>
            <a:ln w="17640">
              <a:solidFill>
                <a:srgbClr val="0000ff"/>
              </a:solidFill>
              <a:round/>
            </a:ln>
          </p:spPr>
          <p:style>
            <a:lnRef idx="0"/>
            <a:fillRef idx="0"/>
            <a:effectRef idx="0"/>
            <a:fontRef idx="minor"/>
          </p:style>
          <p:txBody>
            <a:bodyPr lIns="90000" rIns="90000" tIns="-1440" bIns="-1440" anchor="ctr" anchorCtr="1">
              <a:noAutofit/>
            </a:bodyPr>
            <a:p>
              <a:endParaRPr b="0" lang="en-US" sz="1800" spc="-1" strike="noStrike">
                <a:solidFill>
                  <a:srgbClr val="000000"/>
                </a:solidFill>
                <a:latin typeface="Arial"/>
              </a:endParaRPr>
            </a:p>
          </p:txBody>
        </p:sp>
        <p:sp>
          <p:nvSpPr>
            <p:cNvPr id="150" name="74980ef2-f631-47b3-84a9-b396144bf582"/>
            <p:cNvSpPr/>
            <p:nvPr/>
          </p:nvSpPr>
          <p:spPr>
            <a:xfrm>
              <a:off x="1793880" y="2279160"/>
              <a:ext cx="2322000" cy="71280"/>
            </a:xfrm>
            <a:custGeom>
              <a:avLst/>
              <a:gdLst>
                <a:gd name="textAreaLeft" fmla="*/ 0 w 2322000"/>
                <a:gd name="textAreaRight" fmla="*/ 2322360 w 2322000"/>
                <a:gd name="textAreaTop" fmla="*/ 0 h 71280"/>
                <a:gd name="textAreaBottom" fmla="*/ 71640 h 71280"/>
              </a:gdLst>
              <a:ahLst/>
              <a:rect l="textAreaLeft" t="textAreaTop" r="textAreaRight" b="textAreaBottom"/>
              <a:pathLst>
                <a:path w="2321719" h="71438">
                  <a:moveTo>
                    <a:pt x="2321719" y="26789"/>
                  </a:moveTo>
                  <a:lnTo>
                    <a:pt x="2312789" y="26789"/>
                  </a:lnTo>
                  <a:lnTo>
                    <a:pt x="2294931" y="17859"/>
                  </a:lnTo>
                  <a:lnTo>
                    <a:pt x="2277071" y="17859"/>
                  </a:lnTo>
                  <a:lnTo>
                    <a:pt x="2259211" y="8930"/>
                  </a:lnTo>
                  <a:lnTo>
                    <a:pt x="2241353" y="8930"/>
                  </a:lnTo>
                  <a:lnTo>
                    <a:pt x="2214563" y="8930"/>
                  </a:lnTo>
                  <a:lnTo>
                    <a:pt x="2187775" y="0"/>
                  </a:lnTo>
                  <a:lnTo>
                    <a:pt x="2169915" y="0"/>
                  </a:lnTo>
                  <a:lnTo>
                    <a:pt x="2143125" y="0"/>
                  </a:lnTo>
                  <a:lnTo>
                    <a:pt x="2099035" y="0"/>
                  </a:lnTo>
                  <a:lnTo>
                    <a:pt x="2064991" y="0"/>
                  </a:lnTo>
                  <a:lnTo>
                    <a:pt x="2039318" y="558"/>
                  </a:lnTo>
                  <a:lnTo>
                    <a:pt x="2014761" y="3349"/>
                  </a:lnTo>
                  <a:lnTo>
                    <a:pt x="1995227" y="5581"/>
                  </a:lnTo>
                  <a:lnTo>
                    <a:pt x="1980159" y="6697"/>
                  </a:lnTo>
                  <a:lnTo>
                    <a:pt x="1968438" y="7813"/>
                  </a:lnTo>
                  <a:lnTo>
                    <a:pt x="1946672" y="8930"/>
                  </a:lnTo>
                  <a:lnTo>
                    <a:pt x="1934952" y="8930"/>
                  </a:lnTo>
                  <a:lnTo>
                    <a:pt x="1908721" y="8930"/>
                  </a:lnTo>
                  <a:lnTo>
                    <a:pt x="1885839" y="8930"/>
                  </a:lnTo>
                  <a:lnTo>
                    <a:pt x="1847888" y="8930"/>
                  </a:lnTo>
                  <a:lnTo>
                    <a:pt x="1818866" y="8930"/>
                  </a:lnTo>
                  <a:lnTo>
                    <a:pt x="1796542" y="8930"/>
                  </a:lnTo>
                  <a:lnTo>
                    <a:pt x="1763614" y="8930"/>
                  </a:lnTo>
                  <a:lnTo>
                    <a:pt x="1737941" y="8930"/>
                  </a:lnTo>
                  <a:lnTo>
                    <a:pt x="1718407" y="9488"/>
                  </a:lnTo>
                  <a:lnTo>
                    <a:pt x="1684363" y="12278"/>
                  </a:lnTo>
                  <a:lnTo>
                    <a:pt x="1658690" y="14511"/>
                  </a:lnTo>
                  <a:lnTo>
                    <a:pt x="1629668" y="15627"/>
                  </a:lnTo>
                  <a:lnTo>
                    <a:pt x="1607902" y="16185"/>
                  </a:lnTo>
                  <a:lnTo>
                    <a:pt x="1581113" y="16743"/>
                  </a:lnTo>
                  <a:lnTo>
                    <a:pt x="1559905" y="17301"/>
                  </a:lnTo>
                  <a:lnTo>
                    <a:pt x="1528093" y="17301"/>
                  </a:lnTo>
                  <a:lnTo>
                    <a:pt x="1504095" y="17859"/>
                  </a:lnTo>
                  <a:lnTo>
                    <a:pt x="1476189" y="17859"/>
                  </a:lnTo>
                  <a:lnTo>
                    <a:pt x="1454423" y="17859"/>
                  </a:lnTo>
                  <a:lnTo>
                    <a:pt x="1428192" y="17859"/>
                  </a:lnTo>
                  <a:lnTo>
                    <a:pt x="1407542" y="17859"/>
                  </a:lnTo>
                  <a:lnTo>
                    <a:pt x="1379079" y="17859"/>
                  </a:lnTo>
                  <a:lnTo>
                    <a:pt x="1357313" y="17859"/>
                  </a:lnTo>
                  <a:lnTo>
                    <a:pt x="1330524" y="20650"/>
                  </a:lnTo>
                  <a:lnTo>
                    <a:pt x="1309874" y="22882"/>
                  </a:lnTo>
                  <a:lnTo>
                    <a:pt x="1281410" y="23999"/>
                  </a:lnTo>
                  <a:lnTo>
                    <a:pt x="1259086" y="25115"/>
                  </a:lnTo>
                  <a:lnTo>
                    <a:pt x="1232297" y="25673"/>
                  </a:lnTo>
                  <a:lnTo>
                    <a:pt x="1212205" y="26231"/>
                  </a:lnTo>
                  <a:lnTo>
                    <a:pt x="1196020" y="26789"/>
                  </a:lnTo>
                  <a:lnTo>
                    <a:pt x="1163650" y="29580"/>
                  </a:lnTo>
                  <a:lnTo>
                    <a:pt x="1139094" y="31812"/>
                  </a:lnTo>
                  <a:lnTo>
                    <a:pt x="1110630" y="32928"/>
                  </a:lnTo>
                  <a:lnTo>
                    <a:pt x="1088864" y="34044"/>
                  </a:lnTo>
                  <a:lnTo>
                    <a:pt x="1062633" y="37393"/>
                  </a:lnTo>
                  <a:lnTo>
                    <a:pt x="1041983" y="40184"/>
                  </a:lnTo>
                  <a:lnTo>
                    <a:pt x="1016310" y="41858"/>
                  </a:lnTo>
                  <a:lnTo>
                    <a:pt x="996219" y="42974"/>
                  </a:lnTo>
                  <a:lnTo>
                    <a:pt x="971104" y="43532"/>
                  </a:lnTo>
                  <a:lnTo>
                    <a:pt x="951570" y="44090"/>
                  </a:lnTo>
                  <a:lnTo>
                    <a:pt x="926455" y="44090"/>
                  </a:lnTo>
                  <a:lnTo>
                    <a:pt x="906922" y="44648"/>
                  </a:lnTo>
                  <a:lnTo>
                    <a:pt x="881807" y="44648"/>
                  </a:lnTo>
                  <a:lnTo>
                    <a:pt x="862273" y="44648"/>
                  </a:lnTo>
                  <a:lnTo>
                    <a:pt x="837159" y="44648"/>
                  </a:lnTo>
                  <a:lnTo>
                    <a:pt x="817625" y="44648"/>
                  </a:lnTo>
                  <a:lnTo>
                    <a:pt x="792510" y="47439"/>
                  </a:lnTo>
                  <a:lnTo>
                    <a:pt x="772976" y="49671"/>
                  </a:lnTo>
                  <a:lnTo>
                    <a:pt x="747862" y="50788"/>
                  </a:lnTo>
                  <a:lnTo>
                    <a:pt x="728328" y="51904"/>
                  </a:lnTo>
                  <a:lnTo>
                    <a:pt x="703213" y="55252"/>
                  </a:lnTo>
                  <a:lnTo>
                    <a:pt x="683680" y="58043"/>
                  </a:lnTo>
                  <a:lnTo>
                    <a:pt x="658565" y="59717"/>
                  </a:lnTo>
                  <a:lnTo>
                    <a:pt x="639031" y="60833"/>
                  </a:lnTo>
                  <a:lnTo>
                    <a:pt x="613916" y="64182"/>
                  </a:lnTo>
                  <a:lnTo>
                    <a:pt x="594383" y="66973"/>
                  </a:lnTo>
                  <a:lnTo>
                    <a:pt x="578756" y="68647"/>
                  </a:lnTo>
                  <a:lnTo>
                    <a:pt x="549734" y="69763"/>
                  </a:lnTo>
                  <a:lnTo>
                    <a:pt x="527410" y="70321"/>
                  </a:lnTo>
                  <a:lnTo>
                    <a:pt x="510109" y="70879"/>
                  </a:lnTo>
                  <a:lnTo>
                    <a:pt x="496714" y="70879"/>
                  </a:lnTo>
                  <a:lnTo>
                    <a:pt x="456531" y="70879"/>
                  </a:lnTo>
                  <a:lnTo>
                    <a:pt x="425835" y="71438"/>
                  </a:lnTo>
                  <a:lnTo>
                    <a:pt x="402394" y="71438"/>
                  </a:lnTo>
                  <a:lnTo>
                    <a:pt x="384535" y="71438"/>
                  </a:lnTo>
                  <a:lnTo>
                    <a:pt x="370582" y="71438"/>
                  </a:lnTo>
                  <a:lnTo>
                    <a:pt x="358304" y="71438"/>
                  </a:lnTo>
                  <a:lnTo>
                    <a:pt x="316446" y="71438"/>
                  </a:lnTo>
                  <a:lnTo>
                    <a:pt x="284634" y="71438"/>
                  </a:lnTo>
                  <a:lnTo>
                    <a:pt x="261194" y="70879"/>
                  </a:lnTo>
                  <a:lnTo>
                    <a:pt x="243334" y="70321"/>
                  </a:lnTo>
                  <a:lnTo>
                    <a:pt x="229940" y="69205"/>
                  </a:lnTo>
                  <a:lnTo>
                    <a:pt x="219336" y="67531"/>
                  </a:lnTo>
                  <a:lnTo>
                    <a:pt x="196453" y="62508"/>
                  </a:lnTo>
                  <a:lnTo>
                    <a:pt x="152363" y="62508"/>
                  </a:lnTo>
                  <a:lnTo>
                    <a:pt x="118319" y="62508"/>
                  </a:lnTo>
                  <a:lnTo>
                    <a:pt x="93204" y="63066"/>
                  </a:lnTo>
                  <a:lnTo>
                    <a:pt x="74786" y="63624"/>
                  </a:lnTo>
                  <a:lnTo>
                    <a:pt x="60834" y="64740"/>
                  </a:lnTo>
                  <a:lnTo>
                    <a:pt x="49672" y="66415"/>
                  </a:lnTo>
                  <a:lnTo>
                    <a:pt x="26789" y="71438"/>
                  </a:lnTo>
                  <a:lnTo>
                    <a:pt x="0" y="71438"/>
                  </a:lnTo>
                </a:path>
              </a:pathLst>
            </a:custGeom>
            <a:noFill/>
            <a:ln w="106920">
              <a:solidFill>
                <a:srgbClr val="ffff00">
                  <a:alpha val="50000"/>
                </a:srgbClr>
              </a:solidFill>
              <a:round/>
            </a:ln>
          </p:spPr>
          <p:style>
            <a:lnRef idx="0"/>
            <a:fillRef idx="0"/>
            <a:effectRef idx="0"/>
            <a:fontRef idx="minor"/>
          </p:style>
          <p:txBody>
            <a:bodyPr lIns="90000" rIns="90000" tIns="24840" bIns="24840" anchor="ctr" anchorCtr="1">
              <a:noAutofit/>
            </a:bodyPr>
            <a:p>
              <a:endParaRPr b="0" lang="en-US" sz="1800" spc="-1" strike="noStrike">
                <a:solidFill>
                  <a:srgbClr val="000000"/>
                </a:solidFill>
                <a:latin typeface="Arial"/>
              </a:endParaRPr>
            </a:p>
          </p:txBody>
        </p:sp>
        <p:sp>
          <p:nvSpPr>
            <p:cNvPr id="151" name="99659ae3-2267-442f-ab65-74e6f7c87b67"/>
            <p:cNvSpPr/>
            <p:nvPr/>
          </p:nvSpPr>
          <p:spPr>
            <a:xfrm>
              <a:off x="6509520" y="2127240"/>
              <a:ext cx="153360" cy="258840"/>
            </a:xfrm>
            <a:custGeom>
              <a:avLst/>
              <a:gdLst>
                <a:gd name="textAreaLeft" fmla="*/ 0 w 153360"/>
                <a:gd name="textAreaRight" fmla="*/ 153720 w 153360"/>
                <a:gd name="textAreaTop" fmla="*/ 0 h 258840"/>
                <a:gd name="textAreaBottom" fmla="*/ 259200 h 258840"/>
              </a:gdLst>
              <a:ahLst/>
              <a:rect l="textAreaLeft" t="textAreaTop" r="textAreaRight" b="textAreaBottom"/>
              <a:pathLst>
                <a:path w="153479" h="258961">
                  <a:moveTo>
                    <a:pt x="35719" y="258961"/>
                  </a:moveTo>
                  <a:lnTo>
                    <a:pt x="35719" y="257287"/>
                  </a:lnTo>
                  <a:lnTo>
                    <a:pt x="35719" y="250032"/>
                  </a:lnTo>
                  <a:lnTo>
                    <a:pt x="35719" y="242776"/>
                  </a:lnTo>
                  <a:lnTo>
                    <a:pt x="36277" y="232730"/>
                  </a:lnTo>
                  <a:lnTo>
                    <a:pt x="36277" y="222684"/>
                  </a:lnTo>
                  <a:lnTo>
                    <a:pt x="35719" y="214313"/>
                  </a:lnTo>
                  <a:lnTo>
                    <a:pt x="34603" y="209848"/>
                  </a:lnTo>
                  <a:lnTo>
                    <a:pt x="32370" y="207057"/>
                  </a:lnTo>
                  <a:lnTo>
                    <a:pt x="29580" y="203709"/>
                  </a:lnTo>
                  <a:lnTo>
                    <a:pt x="26789" y="196453"/>
                  </a:lnTo>
                  <a:lnTo>
                    <a:pt x="24557" y="183059"/>
                  </a:lnTo>
                  <a:lnTo>
                    <a:pt x="21766" y="165758"/>
                  </a:lnTo>
                  <a:lnTo>
                    <a:pt x="19534" y="148456"/>
                  </a:lnTo>
                  <a:lnTo>
                    <a:pt x="17860" y="133946"/>
                  </a:lnTo>
                  <a:lnTo>
                    <a:pt x="17302" y="125016"/>
                  </a:lnTo>
                  <a:lnTo>
                    <a:pt x="17302" y="118877"/>
                  </a:lnTo>
                  <a:lnTo>
                    <a:pt x="17860" y="107157"/>
                  </a:lnTo>
                  <a:lnTo>
                    <a:pt x="17302" y="88739"/>
                  </a:lnTo>
                  <a:lnTo>
                    <a:pt x="17860" y="71438"/>
                  </a:lnTo>
                  <a:lnTo>
                    <a:pt x="22325" y="61950"/>
                  </a:lnTo>
                  <a:lnTo>
                    <a:pt x="26789" y="53578"/>
                  </a:lnTo>
                  <a:lnTo>
                    <a:pt x="25673" y="40184"/>
                  </a:lnTo>
                  <a:lnTo>
                    <a:pt x="25115" y="33487"/>
                  </a:lnTo>
                  <a:lnTo>
                    <a:pt x="26789" y="26789"/>
                  </a:lnTo>
                  <a:lnTo>
                    <a:pt x="31812" y="21766"/>
                  </a:lnTo>
                  <a:lnTo>
                    <a:pt x="39068" y="16743"/>
                  </a:lnTo>
                  <a:lnTo>
                    <a:pt x="53578" y="8930"/>
                  </a:lnTo>
                  <a:lnTo>
                    <a:pt x="62508" y="3349"/>
                  </a:lnTo>
                  <a:lnTo>
                    <a:pt x="71438" y="0"/>
                  </a:lnTo>
                  <a:lnTo>
                    <a:pt x="98227" y="0"/>
                  </a:lnTo>
                  <a:lnTo>
                    <a:pt x="125016" y="8930"/>
                  </a:lnTo>
                  <a:lnTo>
                    <a:pt x="140085" y="17302"/>
                  </a:lnTo>
                  <a:lnTo>
                    <a:pt x="151805" y="26789"/>
                  </a:lnTo>
                  <a:lnTo>
                    <a:pt x="153479" y="35719"/>
                  </a:lnTo>
                  <a:lnTo>
                    <a:pt x="151805" y="44649"/>
                  </a:lnTo>
                  <a:lnTo>
                    <a:pt x="152363" y="53020"/>
                  </a:lnTo>
                  <a:lnTo>
                    <a:pt x="151805" y="62508"/>
                  </a:lnTo>
                  <a:lnTo>
                    <a:pt x="148456" y="75903"/>
                  </a:lnTo>
                  <a:lnTo>
                    <a:pt x="142875" y="89297"/>
                  </a:lnTo>
                  <a:lnTo>
                    <a:pt x="125016" y="107157"/>
                  </a:lnTo>
                  <a:lnTo>
                    <a:pt x="113854" y="111063"/>
                  </a:lnTo>
                  <a:lnTo>
                    <a:pt x="98227" y="116086"/>
                  </a:lnTo>
                  <a:lnTo>
                    <a:pt x="85949" y="122225"/>
                  </a:lnTo>
                  <a:lnTo>
                    <a:pt x="71438" y="130039"/>
                  </a:lnTo>
                  <a:lnTo>
                    <a:pt x="56927" y="137852"/>
                  </a:lnTo>
                  <a:lnTo>
                    <a:pt x="44649" y="142875"/>
                  </a:lnTo>
                  <a:lnTo>
                    <a:pt x="29022" y="144550"/>
                  </a:lnTo>
                  <a:lnTo>
                    <a:pt x="17860" y="142875"/>
                  </a:lnTo>
                  <a:lnTo>
                    <a:pt x="7256" y="142875"/>
                  </a:lnTo>
                  <a:lnTo>
                    <a:pt x="0" y="1428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2" name="8942b9fe-39d9-445e-9183-45a63c8a14cc"/>
            <p:cNvSpPr/>
            <p:nvPr/>
          </p:nvSpPr>
          <p:spPr>
            <a:xfrm>
              <a:off x="6749640" y="2161440"/>
              <a:ext cx="171720" cy="260640"/>
            </a:xfrm>
            <a:custGeom>
              <a:avLst/>
              <a:gdLst>
                <a:gd name="textAreaLeft" fmla="*/ 0 w 171720"/>
                <a:gd name="textAreaRight" fmla="*/ 172080 w 171720"/>
                <a:gd name="textAreaTop" fmla="*/ 0 h 260640"/>
                <a:gd name="textAreaBottom" fmla="*/ 261000 h 260640"/>
              </a:gdLst>
              <a:ahLst/>
              <a:rect l="textAreaLeft" t="textAreaTop" r="textAreaRight" b="textAreaBottom"/>
              <a:pathLst>
                <a:path w="171896" h="260635">
                  <a:moveTo>
                    <a:pt x="10046" y="260635"/>
                  </a:moveTo>
                  <a:lnTo>
                    <a:pt x="5581" y="257286"/>
                  </a:lnTo>
                  <a:lnTo>
                    <a:pt x="1116" y="251705"/>
                  </a:lnTo>
                  <a:lnTo>
                    <a:pt x="1116" y="233846"/>
                  </a:lnTo>
                  <a:lnTo>
                    <a:pt x="1116" y="221010"/>
                  </a:lnTo>
                  <a:lnTo>
                    <a:pt x="1116" y="207057"/>
                  </a:lnTo>
                  <a:lnTo>
                    <a:pt x="1116" y="194779"/>
                  </a:lnTo>
                  <a:lnTo>
                    <a:pt x="1116" y="180268"/>
                  </a:lnTo>
                  <a:lnTo>
                    <a:pt x="1116" y="158502"/>
                  </a:lnTo>
                  <a:lnTo>
                    <a:pt x="1116" y="135619"/>
                  </a:lnTo>
                  <a:lnTo>
                    <a:pt x="0" y="117202"/>
                  </a:lnTo>
                  <a:lnTo>
                    <a:pt x="1116" y="99901"/>
                  </a:lnTo>
                  <a:lnTo>
                    <a:pt x="9487" y="81483"/>
                  </a:lnTo>
                  <a:lnTo>
                    <a:pt x="18975" y="64182"/>
                  </a:lnTo>
                  <a:lnTo>
                    <a:pt x="36835" y="37393"/>
                  </a:lnTo>
                  <a:lnTo>
                    <a:pt x="45206" y="22882"/>
                  </a:lnTo>
                  <a:lnTo>
                    <a:pt x="54694" y="10604"/>
                  </a:lnTo>
                  <a:lnTo>
                    <a:pt x="68089" y="4465"/>
                  </a:lnTo>
                  <a:lnTo>
                    <a:pt x="81483" y="1674"/>
                  </a:lnTo>
                  <a:lnTo>
                    <a:pt x="91529" y="0"/>
                  </a:lnTo>
                  <a:lnTo>
                    <a:pt x="99342" y="1674"/>
                  </a:lnTo>
                  <a:lnTo>
                    <a:pt x="108272" y="8929"/>
                  </a:lnTo>
                  <a:lnTo>
                    <a:pt x="117202" y="19533"/>
                  </a:lnTo>
                  <a:lnTo>
                    <a:pt x="126132" y="30696"/>
                  </a:lnTo>
                  <a:lnTo>
                    <a:pt x="135061" y="46323"/>
                  </a:lnTo>
                  <a:lnTo>
                    <a:pt x="143991" y="70879"/>
                  </a:lnTo>
                  <a:lnTo>
                    <a:pt x="152921" y="99901"/>
                  </a:lnTo>
                  <a:lnTo>
                    <a:pt x="162966" y="131713"/>
                  </a:lnTo>
                  <a:lnTo>
                    <a:pt x="170780" y="162408"/>
                  </a:lnTo>
                  <a:lnTo>
                    <a:pt x="171896" y="186965"/>
                  </a:lnTo>
                  <a:lnTo>
                    <a:pt x="170780" y="207057"/>
                  </a:lnTo>
                  <a:lnTo>
                    <a:pt x="170780" y="223242"/>
                  </a:lnTo>
                  <a:lnTo>
                    <a:pt x="170780" y="23384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3" name="c28a3ab3-eb66-4b31-8cf5-86dfa0d5c02a"/>
            <p:cNvSpPr/>
            <p:nvPr/>
          </p:nvSpPr>
          <p:spPr>
            <a:xfrm>
              <a:off x="6768360" y="2288160"/>
              <a:ext cx="160560" cy="9720"/>
            </a:xfrm>
            <a:custGeom>
              <a:avLst/>
              <a:gdLst>
                <a:gd name="textAreaLeft" fmla="*/ 0 w 160560"/>
                <a:gd name="textAreaRight" fmla="*/ 160920 w 160560"/>
                <a:gd name="textAreaTop" fmla="*/ 0 h 9720"/>
                <a:gd name="textAreaBottom" fmla="*/ 10080 h 9720"/>
              </a:gdLst>
              <a:ahLst/>
              <a:rect l="textAreaLeft" t="textAreaTop" r="textAreaRight" b="textAreaBottom"/>
              <a:pathLst>
                <a:path w="160735" h="10046">
                  <a:moveTo>
                    <a:pt x="0" y="0"/>
                  </a:moveTo>
                  <a:lnTo>
                    <a:pt x="2791" y="4465"/>
                  </a:lnTo>
                  <a:lnTo>
                    <a:pt x="8930" y="8929"/>
                  </a:lnTo>
                  <a:lnTo>
                    <a:pt x="21766" y="10046"/>
                  </a:lnTo>
                  <a:lnTo>
                    <a:pt x="35719" y="8929"/>
                  </a:lnTo>
                  <a:lnTo>
                    <a:pt x="44649" y="4465"/>
                  </a:lnTo>
                  <a:lnTo>
                    <a:pt x="53578" y="0"/>
                  </a:lnTo>
                  <a:lnTo>
                    <a:pt x="80367" y="0"/>
                  </a:lnTo>
                  <a:lnTo>
                    <a:pt x="97111" y="4465"/>
                  </a:lnTo>
                  <a:lnTo>
                    <a:pt x="116086" y="8929"/>
                  </a:lnTo>
                  <a:lnTo>
                    <a:pt x="127806" y="9487"/>
                  </a:lnTo>
                  <a:lnTo>
                    <a:pt x="140643" y="9487"/>
                  </a:lnTo>
                  <a:lnTo>
                    <a:pt x="152363" y="8929"/>
                  </a:lnTo>
                  <a:lnTo>
                    <a:pt x="160735" y="8929"/>
                  </a:lnTo>
                </a:path>
              </a:pathLst>
            </a:custGeom>
            <a:noFill/>
            <a:ln w="17640">
              <a:solidFill>
                <a:srgbClr val="0000ff"/>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154" name="f162814f-3c52-44d2-8735-8cddfc27edf0"/>
            <p:cNvSpPr/>
            <p:nvPr/>
          </p:nvSpPr>
          <p:spPr>
            <a:xfrm>
              <a:off x="7045200" y="2198160"/>
              <a:ext cx="258840" cy="214920"/>
            </a:xfrm>
            <a:custGeom>
              <a:avLst/>
              <a:gdLst>
                <a:gd name="textAreaLeft" fmla="*/ 0 w 258840"/>
                <a:gd name="textAreaRight" fmla="*/ 259200 w 258840"/>
                <a:gd name="textAreaTop" fmla="*/ 0 h 214920"/>
                <a:gd name="textAreaBottom" fmla="*/ 215280 h 214920"/>
              </a:gdLst>
              <a:ahLst/>
              <a:rect l="textAreaLeft" t="textAreaTop" r="textAreaRight" b="textAreaBottom"/>
              <a:pathLst>
                <a:path w="258961" h="214870">
                  <a:moveTo>
                    <a:pt x="0" y="558"/>
                  </a:moveTo>
                  <a:lnTo>
                    <a:pt x="8371" y="558"/>
                  </a:lnTo>
                  <a:lnTo>
                    <a:pt x="17859" y="558"/>
                  </a:lnTo>
                  <a:lnTo>
                    <a:pt x="23998" y="0"/>
                  </a:lnTo>
                  <a:lnTo>
                    <a:pt x="27905" y="0"/>
                  </a:lnTo>
                  <a:lnTo>
                    <a:pt x="35718" y="558"/>
                  </a:lnTo>
                  <a:lnTo>
                    <a:pt x="48555" y="2232"/>
                  </a:lnTo>
                  <a:lnTo>
                    <a:pt x="65298" y="5023"/>
                  </a:lnTo>
                  <a:lnTo>
                    <a:pt x="82599" y="7813"/>
                  </a:lnTo>
                  <a:lnTo>
                    <a:pt x="98226" y="9488"/>
                  </a:lnTo>
                  <a:lnTo>
                    <a:pt x="121667" y="10046"/>
                  </a:lnTo>
                  <a:lnTo>
                    <a:pt x="142875" y="9488"/>
                  </a:lnTo>
                  <a:lnTo>
                    <a:pt x="165757" y="9488"/>
                  </a:lnTo>
                  <a:lnTo>
                    <a:pt x="187523" y="9488"/>
                  </a:lnTo>
                  <a:lnTo>
                    <a:pt x="207057" y="9488"/>
                  </a:lnTo>
                  <a:lnTo>
                    <a:pt x="223242" y="9488"/>
                  </a:lnTo>
                  <a:lnTo>
                    <a:pt x="233288" y="9488"/>
                  </a:lnTo>
                  <a:lnTo>
                    <a:pt x="241101" y="9488"/>
                  </a:lnTo>
                  <a:lnTo>
                    <a:pt x="252263" y="8929"/>
                  </a:lnTo>
                  <a:lnTo>
                    <a:pt x="257286" y="8929"/>
                  </a:lnTo>
                  <a:lnTo>
                    <a:pt x="258961" y="9488"/>
                  </a:lnTo>
                  <a:lnTo>
                    <a:pt x="257286" y="11162"/>
                  </a:lnTo>
                  <a:lnTo>
                    <a:pt x="252263" y="13952"/>
                  </a:lnTo>
                  <a:lnTo>
                    <a:pt x="241101" y="18417"/>
                  </a:lnTo>
                  <a:lnTo>
                    <a:pt x="232171" y="18975"/>
                  </a:lnTo>
                  <a:lnTo>
                    <a:pt x="223242" y="18417"/>
                  </a:lnTo>
                  <a:lnTo>
                    <a:pt x="215428" y="18417"/>
                  </a:lnTo>
                  <a:lnTo>
                    <a:pt x="205382" y="18417"/>
                  </a:lnTo>
                  <a:lnTo>
                    <a:pt x="191988" y="17859"/>
                  </a:lnTo>
                  <a:lnTo>
                    <a:pt x="178593" y="18417"/>
                  </a:lnTo>
                  <a:lnTo>
                    <a:pt x="169664" y="20092"/>
                  </a:lnTo>
                  <a:lnTo>
                    <a:pt x="165757" y="22324"/>
                  </a:lnTo>
                  <a:lnTo>
                    <a:pt x="160734" y="27347"/>
                  </a:lnTo>
                  <a:lnTo>
                    <a:pt x="147339" y="44648"/>
                  </a:lnTo>
                  <a:lnTo>
                    <a:pt x="133945" y="71995"/>
                  </a:lnTo>
                  <a:lnTo>
                    <a:pt x="128922" y="92645"/>
                  </a:lnTo>
                  <a:lnTo>
                    <a:pt x="123899" y="117202"/>
                  </a:lnTo>
                  <a:lnTo>
                    <a:pt x="119992" y="141758"/>
                  </a:lnTo>
                  <a:lnTo>
                    <a:pt x="116086" y="161292"/>
                  </a:lnTo>
                  <a:lnTo>
                    <a:pt x="113295" y="174687"/>
                  </a:lnTo>
                  <a:lnTo>
                    <a:pt x="110504" y="183616"/>
                  </a:lnTo>
                  <a:lnTo>
                    <a:pt x="107156" y="197011"/>
                  </a:lnTo>
                  <a:lnTo>
                    <a:pt x="106598" y="208173"/>
                  </a:lnTo>
                  <a:lnTo>
                    <a:pt x="107156" y="21487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5" name="4d13c816-9da4-4872-9682-fa206a223588"/>
            <p:cNvSpPr/>
            <p:nvPr/>
          </p:nvSpPr>
          <p:spPr>
            <a:xfrm>
              <a:off x="7419960" y="2198520"/>
              <a:ext cx="27720" cy="196200"/>
            </a:xfrm>
            <a:custGeom>
              <a:avLst/>
              <a:gdLst>
                <a:gd name="textAreaLeft" fmla="*/ 0 w 27720"/>
                <a:gd name="textAreaRight" fmla="*/ 28080 w 27720"/>
                <a:gd name="textAreaTop" fmla="*/ 0 h 196200"/>
                <a:gd name="textAreaBottom" fmla="*/ 196560 h 196200"/>
              </a:gdLst>
              <a:ahLst/>
              <a:rect l="textAreaLeft" t="textAreaTop" r="textAreaRight" b="textAreaBottom"/>
              <a:pathLst>
                <a:path w="27906" h="196453">
                  <a:moveTo>
                    <a:pt x="18418" y="0"/>
                  </a:moveTo>
                  <a:lnTo>
                    <a:pt x="22883" y="8371"/>
                  </a:lnTo>
                  <a:lnTo>
                    <a:pt x="27348" y="17859"/>
                  </a:lnTo>
                  <a:lnTo>
                    <a:pt x="27906" y="26231"/>
                  </a:lnTo>
                  <a:lnTo>
                    <a:pt x="27348" y="35719"/>
                  </a:lnTo>
                  <a:lnTo>
                    <a:pt x="27906" y="46881"/>
                  </a:lnTo>
                  <a:lnTo>
                    <a:pt x="27906" y="53578"/>
                  </a:lnTo>
                  <a:lnTo>
                    <a:pt x="27348" y="62508"/>
                  </a:lnTo>
                  <a:lnTo>
                    <a:pt x="26231" y="76460"/>
                  </a:lnTo>
                  <a:lnTo>
                    <a:pt x="23999" y="93203"/>
                  </a:lnTo>
                  <a:lnTo>
                    <a:pt x="21208" y="110505"/>
                  </a:lnTo>
                  <a:lnTo>
                    <a:pt x="18418" y="125015"/>
                  </a:lnTo>
                  <a:lnTo>
                    <a:pt x="13953" y="145665"/>
                  </a:lnTo>
                  <a:lnTo>
                    <a:pt x="9488" y="160734"/>
                  </a:lnTo>
                  <a:lnTo>
                    <a:pt x="4465" y="170780"/>
                  </a:lnTo>
                  <a:lnTo>
                    <a:pt x="558" y="178594"/>
                  </a:lnTo>
                  <a:lnTo>
                    <a:pt x="0" y="188639"/>
                  </a:lnTo>
                  <a:lnTo>
                    <a:pt x="558" y="19645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6" name="216fa8ab-ec24-433f-9089-c455e9dfe249"/>
            <p:cNvSpPr/>
            <p:nvPr/>
          </p:nvSpPr>
          <p:spPr>
            <a:xfrm>
              <a:off x="7438320" y="2288160"/>
              <a:ext cx="142560" cy="36720"/>
            </a:xfrm>
            <a:custGeom>
              <a:avLst/>
              <a:gdLst>
                <a:gd name="textAreaLeft" fmla="*/ 0 w 142560"/>
                <a:gd name="textAreaRight" fmla="*/ 142920 w 142560"/>
                <a:gd name="textAreaTop" fmla="*/ 0 h 36720"/>
                <a:gd name="textAreaBottom" fmla="*/ 37080 h 36720"/>
              </a:gdLst>
              <a:ahLst/>
              <a:rect l="textAreaLeft" t="textAreaTop" r="textAreaRight" b="textAreaBottom"/>
              <a:pathLst>
                <a:path w="142875" h="36835">
                  <a:moveTo>
                    <a:pt x="0" y="0"/>
                  </a:moveTo>
                  <a:lnTo>
                    <a:pt x="7255" y="3906"/>
                  </a:lnTo>
                  <a:lnTo>
                    <a:pt x="17859" y="8929"/>
                  </a:lnTo>
                  <a:lnTo>
                    <a:pt x="44648" y="17859"/>
                  </a:lnTo>
                  <a:lnTo>
                    <a:pt x="71437" y="26789"/>
                  </a:lnTo>
                  <a:lnTo>
                    <a:pt x="84832" y="32370"/>
                  </a:lnTo>
                  <a:lnTo>
                    <a:pt x="98226" y="35718"/>
                  </a:lnTo>
                  <a:lnTo>
                    <a:pt x="112179" y="36835"/>
                  </a:lnTo>
                  <a:lnTo>
                    <a:pt x="125015" y="35718"/>
                  </a:lnTo>
                  <a:lnTo>
                    <a:pt x="135619" y="31254"/>
                  </a:lnTo>
                  <a:lnTo>
                    <a:pt x="142875" y="26789"/>
                  </a:lnTo>
                </a:path>
              </a:pathLst>
            </a:custGeom>
            <a:noFill/>
            <a:ln w="17640">
              <a:solidFill>
                <a:srgbClr val="0000ff"/>
              </a:solidFill>
              <a:round/>
            </a:ln>
          </p:spPr>
          <p:style>
            <a:lnRef idx="0"/>
            <a:fillRef idx="0"/>
            <a:effectRef idx="0"/>
            <a:fontRef idx="minor"/>
          </p:style>
          <p:txBody>
            <a:bodyPr lIns="90000" rIns="90000" tIns="-9720" bIns="-9720" anchor="ctr" anchorCtr="1">
              <a:noAutofit/>
            </a:bodyPr>
            <a:p>
              <a:endParaRPr b="0" lang="en-US" sz="1800" spc="-1" strike="noStrike">
                <a:solidFill>
                  <a:srgbClr val="000000"/>
                </a:solidFill>
                <a:latin typeface="Arial"/>
              </a:endParaRPr>
            </a:p>
          </p:txBody>
        </p:sp>
        <p:sp>
          <p:nvSpPr>
            <p:cNvPr id="157" name="94bcd9c3-582c-48c6-b5ba-a373eec61209"/>
            <p:cNvSpPr/>
            <p:nvPr/>
          </p:nvSpPr>
          <p:spPr>
            <a:xfrm>
              <a:off x="7581240" y="2215440"/>
              <a:ext cx="18720" cy="224280"/>
            </a:xfrm>
            <a:custGeom>
              <a:avLst/>
              <a:gdLst>
                <a:gd name="textAreaLeft" fmla="*/ 0 w 18720"/>
                <a:gd name="textAreaRight" fmla="*/ 19080 w 18720"/>
                <a:gd name="textAreaTop" fmla="*/ 0 h 224280"/>
                <a:gd name="textAreaBottom" fmla="*/ 224640 h 224280"/>
              </a:gdLst>
              <a:ahLst/>
              <a:rect l="textAreaLeft" t="textAreaTop" r="textAreaRight" b="textAreaBottom"/>
              <a:pathLst>
                <a:path w="18975" h="224358">
                  <a:moveTo>
                    <a:pt x="0" y="1116"/>
                  </a:moveTo>
                  <a:lnTo>
                    <a:pt x="8930" y="0"/>
                  </a:lnTo>
                  <a:lnTo>
                    <a:pt x="17859" y="1116"/>
                  </a:lnTo>
                  <a:lnTo>
                    <a:pt x="18975" y="6697"/>
                  </a:lnTo>
                  <a:lnTo>
                    <a:pt x="17859" y="18976"/>
                  </a:lnTo>
                  <a:lnTo>
                    <a:pt x="17859" y="30138"/>
                  </a:lnTo>
                  <a:lnTo>
                    <a:pt x="17859" y="43532"/>
                  </a:lnTo>
                  <a:lnTo>
                    <a:pt x="17859" y="72554"/>
                  </a:lnTo>
                  <a:lnTo>
                    <a:pt x="18417" y="104366"/>
                  </a:lnTo>
                  <a:lnTo>
                    <a:pt x="17859" y="135062"/>
                  </a:lnTo>
                  <a:lnTo>
                    <a:pt x="13394" y="159618"/>
                  </a:lnTo>
                  <a:lnTo>
                    <a:pt x="8930" y="179710"/>
                  </a:lnTo>
                  <a:lnTo>
                    <a:pt x="8371" y="194779"/>
                  </a:lnTo>
                  <a:lnTo>
                    <a:pt x="8930" y="206499"/>
                  </a:lnTo>
                  <a:lnTo>
                    <a:pt x="8930" y="217103"/>
                  </a:lnTo>
                  <a:lnTo>
                    <a:pt x="8930" y="22435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8" name="4a795698-90b3-4300-aa37-61907a7dd0e4"/>
            <p:cNvSpPr/>
            <p:nvPr/>
          </p:nvSpPr>
          <p:spPr>
            <a:xfrm>
              <a:off x="7731360" y="2216520"/>
              <a:ext cx="199080" cy="232200"/>
            </a:xfrm>
            <a:custGeom>
              <a:avLst/>
              <a:gdLst>
                <a:gd name="textAreaLeft" fmla="*/ 0 w 199080"/>
                <a:gd name="textAreaRight" fmla="*/ 199440 w 199080"/>
                <a:gd name="textAreaTop" fmla="*/ 0 h 232200"/>
                <a:gd name="textAreaBottom" fmla="*/ 232560 h 232200"/>
              </a:gdLst>
              <a:ahLst/>
              <a:rect l="textAreaLeft" t="textAreaTop" r="textAreaRight" b="textAreaBottom"/>
              <a:pathLst>
                <a:path w="199244" h="232172">
                  <a:moveTo>
                    <a:pt x="73112" y="0"/>
                  </a:moveTo>
                  <a:lnTo>
                    <a:pt x="73670" y="3349"/>
                  </a:lnTo>
                  <a:lnTo>
                    <a:pt x="73112" y="8930"/>
                  </a:lnTo>
                  <a:lnTo>
                    <a:pt x="69763" y="17301"/>
                  </a:lnTo>
                  <a:lnTo>
                    <a:pt x="64182" y="26789"/>
                  </a:lnTo>
                  <a:lnTo>
                    <a:pt x="56369" y="34045"/>
                  </a:lnTo>
                  <a:lnTo>
                    <a:pt x="46323" y="44649"/>
                  </a:lnTo>
                  <a:lnTo>
                    <a:pt x="40184" y="54136"/>
                  </a:lnTo>
                  <a:lnTo>
                    <a:pt x="32928" y="65857"/>
                  </a:lnTo>
                  <a:lnTo>
                    <a:pt x="19534" y="89297"/>
                  </a:lnTo>
                  <a:lnTo>
                    <a:pt x="8930" y="107715"/>
                  </a:lnTo>
                  <a:lnTo>
                    <a:pt x="1675" y="125016"/>
                  </a:lnTo>
                  <a:lnTo>
                    <a:pt x="0" y="142875"/>
                  </a:lnTo>
                  <a:lnTo>
                    <a:pt x="1675" y="160735"/>
                  </a:lnTo>
                  <a:lnTo>
                    <a:pt x="4465" y="179710"/>
                  </a:lnTo>
                  <a:lnTo>
                    <a:pt x="10604" y="196453"/>
                  </a:lnTo>
                  <a:lnTo>
                    <a:pt x="20650" y="206499"/>
                  </a:lnTo>
                  <a:lnTo>
                    <a:pt x="37393" y="214313"/>
                  </a:lnTo>
                  <a:lnTo>
                    <a:pt x="50788" y="219894"/>
                  </a:lnTo>
                  <a:lnTo>
                    <a:pt x="67531" y="225475"/>
                  </a:lnTo>
                  <a:lnTo>
                    <a:pt x="84832" y="230498"/>
                  </a:lnTo>
                  <a:lnTo>
                    <a:pt x="99901" y="232172"/>
                  </a:lnTo>
                  <a:lnTo>
                    <a:pt x="112737" y="230498"/>
                  </a:lnTo>
                  <a:lnTo>
                    <a:pt x="123900" y="225475"/>
                  </a:lnTo>
                  <a:lnTo>
                    <a:pt x="144550" y="214313"/>
                  </a:lnTo>
                  <a:lnTo>
                    <a:pt x="164083" y="206499"/>
                  </a:lnTo>
                  <a:lnTo>
                    <a:pt x="180268" y="196453"/>
                  </a:lnTo>
                  <a:lnTo>
                    <a:pt x="191430" y="179710"/>
                  </a:lnTo>
                  <a:lnTo>
                    <a:pt x="198128" y="160735"/>
                  </a:lnTo>
                  <a:lnTo>
                    <a:pt x="199244" y="141759"/>
                  </a:lnTo>
                  <a:lnTo>
                    <a:pt x="198128" y="125016"/>
                  </a:lnTo>
                  <a:lnTo>
                    <a:pt x="198686" y="114970"/>
                  </a:lnTo>
                  <a:lnTo>
                    <a:pt x="198128" y="107156"/>
                  </a:lnTo>
                  <a:lnTo>
                    <a:pt x="195337" y="99343"/>
                  </a:lnTo>
                  <a:lnTo>
                    <a:pt x="189198" y="89297"/>
                  </a:lnTo>
                  <a:lnTo>
                    <a:pt x="177478" y="75344"/>
                  </a:lnTo>
                  <a:lnTo>
                    <a:pt x="162409" y="62508"/>
                  </a:lnTo>
                  <a:lnTo>
                    <a:pt x="147340" y="57485"/>
                  </a:lnTo>
                  <a:lnTo>
                    <a:pt x="126690" y="53578"/>
                  </a:lnTo>
                  <a:lnTo>
                    <a:pt x="112179" y="50788"/>
                  </a:lnTo>
                  <a:lnTo>
                    <a:pt x="94320" y="47997"/>
                  </a:lnTo>
                  <a:lnTo>
                    <a:pt x="77577" y="45765"/>
                  </a:lnTo>
                  <a:lnTo>
                    <a:pt x="64182" y="44649"/>
                  </a:lnTo>
                  <a:lnTo>
                    <a:pt x="56369" y="45765"/>
                  </a:lnTo>
                  <a:lnTo>
                    <a:pt x="51346" y="48555"/>
                  </a:lnTo>
                  <a:lnTo>
                    <a:pt x="46323" y="5357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9" name="d5ca68f4-73f6-4002-be25-dc2318b5ffbb"/>
            <p:cNvSpPr/>
            <p:nvPr/>
          </p:nvSpPr>
          <p:spPr>
            <a:xfrm>
              <a:off x="8070120" y="2225520"/>
              <a:ext cx="111600" cy="267840"/>
            </a:xfrm>
            <a:custGeom>
              <a:avLst/>
              <a:gdLst>
                <a:gd name="textAreaLeft" fmla="*/ 0 w 111600"/>
                <a:gd name="textAreaRight" fmla="*/ 111960 w 111600"/>
                <a:gd name="textAreaTop" fmla="*/ 0 h 267840"/>
                <a:gd name="textAreaBottom" fmla="*/ 268200 h 267840"/>
              </a:gdLst>
              <a:ahLst/>
              <a:rect l="textAreaLeft" t="textAreaTop" r="textAreaRight" b="textAreaBottom"/>
              <a:pathLst>
                <a:path w="111621" h="267891">
                  <a:moveTo>
                    <a:pt x="82600" y="8930"/>
                  </a:moveTo>
                  <a:lnTo>
                    <a:pt x="84274" y="3907"/>
                  </a:lnTo>
                  <a:lnTo>
                    <a:pt x="82600" y="0"/>
                  </a:lnTo>
                  <a:lnTo>
                    <a:pt x="70880" y="3349"/>
                  </a:lnTo>
                  <a:lnTo>
                    <a:pt x="55811" y="8930"/>
                  </a:lnTo>
                  <a:lnTo>
                    <a:pt x="29022" y="17859"/>
                  </a:lnTo>
                  <a:lnTo>
                    <a:pt x="18976" y="21766"/>
                  </a:lnTo>
                  <a:lnTo>
                    <a:pt x="11162" y="26789"/>
                  </a:lnTo>
                  <a:lnTo>
                    <a:pt x="5581" y="34044"/>
                  </a:lnTo>
                  <a:lnTo>
                    <a:pt x="2233" y="44648"/>
                  </a:lnTo>
                  <a:lnTo>
                    <a:pt x="0" y="61950"/>
                  </a:lnTo>
                  <a:lnTo>
                    <a:pt x="2233" y="80367"/>
                  </a:lnTo>
                  <a:lnTo>
                    <a:pt x="12837" y="92645"/>
                  </a:lnTo>
                  <a:lnTo>
                    <a:pt x="20650" y="98785"/>
                  </a:lnTo>
                  <a:lnTo>
                    <a:pt x="29022" y="107156"/>
                  </a:lnTo>
                  <a:lnTo>
                    <a:pt x="39626" y="119434"/>
                  </a:lnTo>
                  <a:lnTo>
                    <a:pt x="51346" y="133945"/>
                  </a:lnTo>
                  <a:lnTo>
                    <a:pt x="63624" y="148456"/>
                  </a:lnTo>
                  <a:lnTo>
                    <a:pt x="73670" y="160734"/>
                  </a:lnTo>
                  <a:lnTo>
                    <a:pt x="89855" y="176361"/>
                  </a:lnTo>
                  <a:lnTo>
                    <a:pt x="100459" y="187523"/>
                  </a:lnTo>
                  <a:lnTo>
                    <a:pt x="106598" y="197569"/>
                  </a:lnTo>
                  <a:lnTo>
                    <a:pt x="109389" y="205383"/>
                  </a:lnTo>
                  <a:lnTo>
                    <a:pt x="111621" y="213754"/>
                  </a:lnTo>
                  <a:lnTo>
                    <a:pt x="109389" y="223242"/>
                  </a:lnTo>
                  <a:lnTo>
                    <a:pt x="101017" y="236637"/>
                  </a:lnTo>
                  <a:lnTo>
                    <a:pt x="93762" y="243892"/>
                  </a:lnTo>
                  <a:lnTo>
                    <a:pt x="82600" y="250031"/>
                  </a:lnTo>
                  <a:lnTo>
                    <a:pt x="64182" y="255612"/>
                  </a:lnTo>
                  <a:lnTo>
                    <a:pt x="40742" y="260635"/>
                  </a:lnTo>
                  <a:lnTo>
                    <a:pt x="17860" y="265100"/>
                  </a:lnTo>
                  <a:lnTo>
                    <a:pt x="2233" y="26789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0" name="5088cf29-a9c3-4a1c-85fa-7b11e3dec8db"/>
            <p:cNvSpPr/>
            <p:nvPr/>
          </p:nvSpPr>
          <p:spPr>
            <a:xfrm>
              <a:off x="5473440" y="2286360"/>
              <a:ext cx="1348560" cy="519480"/>
            </a:xfrm>
            <a:custGeom>
              <a:avLst/>
              <a:gdLst>
                <a:gd name="textAreaLeft" fmla="*/ 0 w 1348560"/>
                <a:gd name="textAreaRight" fmla="*/ 1348920 w 1348560"/>
                <a:gd name="textAreaTop" fmla="*/ 0 h 519480"/>
                <a:gd name="textAreaBottom" fmla="*/ 519840 h 519480"/>
              </a:gdLst>
              <a:ahLst/>
              <a:rect l="textAreaLeft" t="textAreaTop" r="textAreaRight" b="textAreaBottom"/>
              <a:pathLst>
                <a:path w="1348382" h="519597">
                  <a:moveTo>
                    <a:pt x="1348382" y="519597"/>
                  </a:moveTo>
                  <a:lnTo>
                    <a:pt x="1342243" y="516248"/>
                  </a:lnTo>
                  <a:lnTo>
                    <a:pt x="1330523" y="510667"/>
                  </a:lnTo>
                  <a:lnTo>
                    <a:pt x="1312664" y="503970"/>
                  </a:lnTo>
                  <a:lnTo>
                    <a:pt x="1285875" y="492808"/>
                  </a:lnTo>
                  <a:lnTo>
                    <a:pt x="1268015" y="483320"/>
                  </a:lnTo>
                  <a:lnTo>
                    <a:pt x="1246807" y="471599"/>
                  </a:lnTo>
                  <a:lnTo>
                    <a:pt x="1225041" y="459321"/>
                  </a:lnTo>
                  <a:lnTo>
                    <a:pt x="1205507" y="448159"/>
                  </a:lnTo>
                  <a:lnTo>
                    <a:pt x="1173695" y="429742"/>
                  </a:lnTo>
                  <a:lnTo>
                    <a:pt x="1143000" y="412440"/>
                  </a:lnTo>
                  <a:lnTo>
                    <a:pt x="1108955" y="394581"/>
                  </a:lnTo>
                  <a:lnTo>
                    <a:pt x="1071562" y="376722"/>
                  </a:lnTo>
                  <a:lnTo>
                    <a:pt x="1028588" y="358862"/>
                  </a:lnTo>
                  <a:lnTo>
                    <a:pt x="982265" y="341003"/>
                  </a:lnTo>
                  <a:lnTo>
                    <a:pt x="934826" y="323143"/>
                  </a:lnTo>
                  <a:lnTo>
                    <a:pt x="884039" y="305284"/>
                  </a:lnTo>
                  <a:lnTo>
                    <a:pt x="827112" y="287425"/>
                  </a:lnTo>
                  <a:lnTo>
                    <a:pt x="767953" y="269565"/>
                  </a:lnTo>
                  <a:lnTo>
                    <a:pt x="651867" y="233847"/>
                  </a:lnTo>
                  <a:lnTo>
                    <a:pt x="593266" y="216545"/>
                  </a:lnTo>
                  <a:lnTo>
                    <a:pt x="535781" y="198128"/>
                  </a:lnTo>
                  <a:lnTo>
                    <a:pt x="481645" y="175804"/>
                  </a:lnTo>
                  <a:lnTo>
                    <a:pt x="428625" y="153479"/>
                  </a:lnTo>
                  <a:lnTo>
                    <a:pt x="321468" y="117761"/>
                  </a:lnTo>
                  <a:lnTo>
                    <a:pt x="223242" y="90972"/>
                  </a:lnTo>
                  <a:lnTo>
                    <a:pt x="176919" y="77019"/>
                  </a:lnTo>
                  <a:lnTo>
                    <a:pt x="133945" y="64183"/>
                  </a:lnTo>
                  <a:lnTo>
                    <a:pt x="95436" y="54137"/>
                  </a:lnTo>
                  <a:lnTo>
                    <a:pt x="62507" y="46323"/>
                  </a:lnTo>
                  <a:lnTo>
                    <a:pt x="36835" y="41300"/>
                  </a:lnTo>
                  <a:lnTo>
                    <a:pt x="17859" y="37393"/>
                  </a:lnTo>
                  <a:lnTo>
                    <a:pt x="5581" y="31254"/>
                  </a:lnTo>
                  <a:lnTo>
                    <a:pt x="0" y="28464"/>
                  </a:lnTo>
                  <a:lnTo>
                    <a:pt x="558" y="34045"/>
                  </a:lnTo>
                  <a:lnTo>
                    <a:pt x="3348" y="39626"/>
                  </a:lnTo>
                  <a:lnTo>
                    <a:pt x="8929" y="46323"/>
                  </a:lnTo>
                  <a:lnTo>
                    <a:pt x="19533" y="56369"/>
                  </a:lnTo>
                  <a:lnTo>
                    <a:pt x="33486" y="68089"/>
                  </a:lnTo>
                  <a:lnTo>
                    <a:pt x="48555" y="80368"/>
                  </a:lnTo>
                  <a:lnTo>
                    <a:pt x="62507" y="90972"/>
                  </a:lnTo>
                  <a:lnTo>
                    <a:pt x="84832" y="105482"/>
                  </a:lnTo>
                  <a:lnTo>
                    <a:pt x="107156" y="117761"/>
                  </a:lnTo>
                  <a:lnTo>
                    <a:pt x="133945" y="135620"/>
                  </a:lnTo>
                  <a:lnTo>
                    <a:pt x="160734" y="153479"/>
                  </a:lnTo>
                  <a:lnTo>
                    <a:pt x="205382" y="180268"/>
                  </a:lnTo>
                  <a:lnTo>
                    <a:pt x="224916" y="190314"/>
                  </a:lnTo>
                  <a:lnTo>
                    <a:pt x="241101" y="198128"/>
                  </a:lnTo>
                  <a:lnTo>
                    <a:pt x="253379" y="204267"/>
                  </a:lnTo>
                  <a:lnTo>
                    <a:pt x="258961" y="207058"/>
                  </a:lnTo>
                  <a:lnTo>
                    <a:pt x="253379" y="204825"/>
                  </a:lnTo>
                  <a:lnTo>
                    <a:pt x="241101" y="198128"/>
                  </a:lnTo>
                  <a:lnTo>
                    <a:pt x="223800" y="185849"/>
                  </a:lnTo>
                  <a:lnTo>
                    <a:pt x="205382" y="171339"/>
                  </a:lnTo>
                  <a:lnTo>
                    <a:pt x="193104" y="157386"/>
                  </a:lnTo>
                  <a:lnTo>
                    <a:pt x="178593" y="144550"/>
                  </a:lnTo>
                  <a:lnTo>
                    <a:pt x="156269" y="135062"/>
                  </a:lnTo>
                  <a:lnTo>
                    <a:pt x="133945" y="126690"/>
                  </a:lnTo>
                  <a:lnTo>
                    <a:pt x="119434" y="117761"/>
                  </a:lnTo>
                  <a:lnTo>
                    <a:pt x="107156" y="108831"/>
                  </a:lnTo>
                  <a:lnTo>
                    <a:pt x="93203" y="99343"/>
                  </a:lnTo>
                  <a:lnTo>
                    <a:pt x="80367" y="90972"/>
                  </a:lnTo>
                  <a:lnTo>
                    <a:pt x="70321" y="86507"/>
                  </a:lnTo>
                  <a:lnTo>
                    <a:pt x="62507" y="82042"/>
                  </a:lnTo>
                  <a:lnTo>
                    <a:pt x="55252" y="74228"/>
                  </a:lnTo>
                  <a:lnTo>
                    <a:pt x="53020" y="69764"/>
                  </a:lnTo>
                  <a:lnTo>
                    <a:pt x="53578" y="64183"/>
                  </a:lnTo>
                  <a:lnTo>
                    <a:pt x="58043" y="58043"/>
                  </a:lnTo>
                  <a:lnTo>
                    <a:pt x="64740" y="50230"/>
                  </a:lnTo>
                  <a:lnTo>
                    <a:pt x="80367" y="37393"/>
                  </a:lnTo>
                  <a:lnTo>
                    <a:pt x="91529" y="32929"/>
                  </a:lnTo>
                  <a:lnTo>
                    <a:pt x="98226" y="31812"/>
                  </a:lnTo>
                  <a:lnTo>
                    <a:pt x="107156" y="28464"/>
                  </a:lnTo>
                  <a:lnTo>
                    <a:pt x="121108" y="22325"/>
                  </a:lnTo>
                  <a:lnTo>
                    <a:pt x="138410" y="14511"/>
                  </a:lnTo>
                  <a:lnTo>
                    <a:pt x="155711" y="6698"/>
                  </a:lnTo>
                  <a:lnTo>
                    <a:pt x="169664" y="1675"/>
                  </a:lnTo>
                  <a:lnTo>
                    <a:pt x="179151" y="0"/>
                  </a:lnTo>
                  <a:lnTo>
                    <a:pt x="185291" y="0"/>
                  </a:lnTo>
                  <a:lnTo>
                    <a:pt x="196453" y="1675"/>
                  </a:lnTo>
                  <a:lnTo>
                    <a:pt x="211522" y="1675"/>
                  </a:lnTo>
                  <a:lnTo>
                    <a:pt x="223242" y="16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1" name="9e13ea49-e74e-4427-a50f-347fb68b23b0"/>
            <p:cNvSpPr/>
            <p:nvPr/>
          </p:nvSpPr>
          <p:spPr>
            <a:xfrm>
              <a:off x="6784560" y="2565000"/>
              <a:ext cx="296280" cy="115920"/>
            </a:xfrm>
            <a:custGeom>
              <a:avLst/>
              <a:gdLst>
                <a:gd name="textAreaLeft" fmla="*/ 0 w 296280"/>
                <a:gd name="textAreaRight" fmla="*/ 296640 w 296280"/>
                <a:gd name="textAreaTop" fmla="*/ 0 h 115920"/>
                <a:gd name="textAreaBottom" fmla="*/ 116280 h 115920"/>
              </a:gdLst>
              <a:ahLst/>
              <a:rect l="textAreaLeft" t="textAreaTop" r="textAreaRight" b="textAreaBottom"/>
              <a:pathLst>
                <a:path w="296354" h="116086">
                  <a:moveTo>
                    <a:pt x="64182" y="8930"/>
                  </a:moveTo>
                  <a:lnTo>
                    <a:pt x="55253" y="8930"/>
                  </a:lnTo>
                  <a:lnTo>
                    <a:pt x="47439" y="7255"/>
                  </a:lnTo>
                  <a:lnTo>
                    <a:pt x="37393" y="8930"/>
                  </a:lnTo>
                  <a:lnTo>
                    <a:pt x="23441" y="20650"/>
                  </a:lnTo>
                  <a:lnTo>
                    <a:pt x="10604" y="35719"/>
                  </a:lnTo>
                  <a:lnTo>
                    <a:pt x="4465" y="49113"/>
                  </a:lnTo>
                  <a:lnTo>
                    <a:pt x="1675" y="62508"/>
                  </a:lnTo>
                  <a:lnTo>
                    <a:pt x="0" y="77019"/>
                  </a:lnTo>
                  <a:lnTo>
                    <a:pt x="1675" y="89297"/>
                  </a:lnTo>
                  <a:lnTo>
                    <a:pt x="7256" y="94320"/>
                  </a:lnTo>
                  <a:lnTo>
                    <a:pt x="19534" y="98227"/>
                  </a:lnTo>
                  <a:lnTo>
                    <a:pt x="31254" y="102691"/>
                  </a:lnTo>
                  <a:lnTo>
                    <a:pt x="45765" y="108272"/>
                  </a:lnTo>
                  <a:lnTo>
                    <a:pt x="60276" y="113295"/>
                  </a:lnTo>
                  <a:lnTo>
                    <a:pt x="73112" y="116086"/>
                  </a:lnTo>
                  <a:lnTo>
                    <a:pt x="93204" y="113854"/>
                  </a:lnTo>
                  <a:lnTo>
                    <a:pt x="108831" y="107156"/>
                  </a:lnTo>
                  <a:lnTo>
                    <a:pt x="118877" y="98227"/>
                  </a:lnTo>
                  <a:lnTo>
                    <a:pt x="126690" y="89297"/>
                  </a:lnTo>
                  <a:lnTo>
                    <a:pt x="135620" y="83158"/>
                  </a:lnTo>
                  <a:lnTo>
                    <a:pt x="144550" y="80367"/>
                  </a:lnTo>
                  <a:lnTo>
                    <a:pt x="152921" y="83716"/>
                  </a:lnTo>
                  <a:lnTo>
                    <a:pt x="162409" y="89297"/>
                  </a:lnTo>
                  <a:lnTo>
                    <a:pt x="174129" y="93762"/>
                  </a:lnTo>
                  <a:lnTo>
                    <a:pt x="189198" y="98227"/>
                  </a:lnTo>
                  <a:lnTo>
                    <a:pt x="211522" y="104366"/>
                  </a:lnTo>
                  <a:lnTo>
                    <a:pt x="233847" y="107156"/>
                  </a:lnTo>
                  <a:lnTo>
                    <a:pt x="242218" y="104924"/>
                  </a:lnTo>
                  <a:lnTo>
                    <a:pt x="248915" y="99901"/>
                  </a:lnTo>
                  <a:lnTo>
                    <a:pt x="260636" y="89297"/>
                  </a:lnTo>
                  <a:lnTo>
                    <a:pt x="270681" y="82042"/>
                  </a:lnTo>
                  <a:lnTo>
                    <a:pt x="278495" y="71438"/>
                  </a:lnTo>
                  <a:lnTo>
                    <a:pt x="284076" y="61950"/>
                  </a:lnTo>
                  <a:lnTo>
                    <a:pt x="289657" y="49113"/>
                  </a:lnTo>
                  <a:lnTo>
                    <a:pt x="294680" y="36835"/>
                  </a:lnTo>
                  <a:lnTo>
                    <a:pt x="296354" y="26789"/>
                  </a:lnTo>
                  <a:lnTo>
                    <a:pt x="294680" y="20650"/>
                  </a:lnTo>
                  <a:lnTo>
                    <a:pt x="290215" y="15627"/>
                  </a:lnTo>
                  <a:lnTo>
                    <a:pt x="278495" y="8930"/>
                  </a:lnTo>
                  <a:lnTo>
                    <a:pt x="266775" y="2232"/>
                  </a:lnTo>
                  <a:lnTo>
                    <a:pt x="251706" y="0"/>
                  </a:lnTo>
                  <a:lnTo>
                    <a:pt x="229940" y="6139"/>
                  </a:lnTo>
                  <a:lnTo>
                    <a:pt x="207057" y="17859"/>
                  </a:lnTo>
                  <a:lnTo>
                    <a:pt x="186966" y="35161"/>
                  </a:lnTo>
                  <a:lnTo>
                    <a:pt x="171339" y="53578"/>
                  </a:lnTo>
                  <a:lnTo>
                    <a:pt x="164641" y="69205"/>
                  </a:lnTo>
                  <a:lnTo>
                    <a:pt x="162409" y="8036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2" name="cf0f5787-afbf-4c88-b7f4-18518aca3f10"/>
            <p:cNvSpPr/>
            <p:nvPr/>
          </p:nvSpPr>
          <p:spPr>
            <a:xfrm>
              <a:off x="7151400" y="2565000"/>
              <a:ext cx="626040" cy="160560"/>
            </a:xfrm>
            <a:custGeom>
              <a:avLst/>
              <a:gdLst>
                <a:gd name="textAreaLeft" fmla="*/ 0 w 626040"/>
                <a:gd name="textAreaRight" fmla="*/ 626400 w 626040"/>
                <a:gd name="textAreaTop" fmla="*/ 0 h 160560"/>
                <a:gd name="textAreaBottom" fmla="*/ 160560 h 160560"/>
              </a:gdLst>
              <a:ahLst/>
              <a:rect l="textAreaLeft" t="textAreaTop" r="textAreaRight" b="textAreaBottom"/>
              <a:pathLst>
                <a:path w="626194" h="160734">
                  <a:moveTo>
                    <a:pt x="1116" y="0"/>
                  </a:moveTo>
                  <a:lnTo>
                    <a:pt x="0" y="2791"/>
                  </a:lnTo>
                  <a:lnTo>
                    <a:pt x="1116" y="8930"/>
                  </a:lnTo>
                  <a:lnTo>
                    <a:pt x="9487" y="21766"/>
                  </a:lnTo>
                  <a:lnTo>
                    <a:pt x="18975" y="35719"/>
                  </a:lnTo>
                  <a:lnTo>
                    <a:pt x="23998" y="45765"/>
                  </a:lnTo>
                  <a:lnTo>
                    <a:pt x="27905" y="53578"/>
                  </a:lnTo>
                  <a:lnTo>
                    <a:pt x="36835" y="71438"/>
                  </a:lnTo>
                  <a:lnTo>
                    <a:pt x="45764" y="89297"/>
                  </a:lnTo>
                  <a:lnTo>
                    <a:pt x="49671" y="100459"/>
                  </a:lnTo>
                  <a:lnTo>
                    <a:pt x="51903" y="105482"/>
                  </a:lnTo>
                  <a:lnTo>
                    <a:pt x="54694" y="107156"/>
                  </a:lnTo>
                  <a:lnTo>
                    <a:pt x="58601" y="105482"/>
                  </a:lnTo>
                  <a:lnTo>
                    <a:pt x="63624" y="100459"/>
                  </a:lnTo>
                  <a:lnTo>
                    <a:pt x="72553" y="89297"/>
                  </a:lnTo>
                  <a:lnTo>
                    <a:pt x="75902" y="82042"/>
                  </a:lnTo>
                  <a:lnTo>
                    <a:pt x="77576" y="78135"/>
                  </a:lnTo>
                  <a:lnTo>
                    <a:pt x="81483" y="71438"/>
                  </a:lnTo>
                  <a:lnTo>
                    <a:pt x="88738" y="61392"/>
                  </a:lnTo>
                  <a:lnTo>
                    <a:pt x="98784" y="48555"/>
                  </a:lnTo>
                  <a:lnTo>
                    <a:pt x="108272" y="35719"/>
                  </a:lnTo>
                  <a:lnTo>
                    <a:pt x="117202" y="26789"/>
                  </a:lnTo>
                  <a:lnTo>
                    <a:pt x="124457" y="23440"/>
                  </a:lnTo>
                  <a:lnTo>
                    <a:pt x="131154" y="22882"/>
                  </a:lnTo>
                  <a:lnTo>
                    <a:pt x="143991" y="26789"/>
                  </a:lnTo>
                  <a:lnTo>
                    <a:pt x="157943" y="35161"/>
                  </a:lnTo>
                  <a:lnTo>
                    <a:pt x="170780" y="44648"/>
                  </a:lnTo>
                  <a:lnTo>
                    <a:pt x="180826" y="53020"/>
                  </a:lnTo>
                  <a:lnTo>
                    <a:pt x="188639" y="62508"/>
                  </a:lnTo>
                  <a:lnTo>
                    <a:pt x="198127" y="75902"/>
                  </a:lnTo>
                  <a:lnTo>
                    <a:pt x="206499" y="89297"/>
                  </a:lnTo>
                  <a:lnTo>
                    <a:pt x="210963" y="99901"/>
                  </a:lnTo>
                  <a:lnTo>
                    <a:pt x="215428" y="107156"/>
                  </a:lnTo>
                  <a:lnTo>
                    <a:pt x="223800" y="108831"/>
                  </a:lnTo>
                  <a:lnTo>
                    <a:pt x="233288" y="107156"/>
                  </a:lnTo>
                  <a:lnTo>
                    <a:pt x="242217" y="103808"/>
                  </a:lnTo>
                  <a:lnTo>
                    <a:pt x="251147" y="98227"/>
                  </a:lnTo>
                  <a:lnTo>
                    <a:pt x="269006" y="89297"/>
                  </a:lnTo>
                  <a:lnTo>
                    <a:pt x="276262" y="85948"/>
                  </a:lnTo>
                  <a:lnTo>
                    <a:pt x="286866" y="80367"/>
                  </a:lnTo>
                  <a:lnTo>
                    <a:pt x="296912" y="74786"/>
                  </a:lnTo>
                  <a:lnTo>
                    <a:pt x="308632" y="66973"/>
                  </a:lnTo>
                  <a:lnTo>
                    <a:pt x="320910" y="59717"/>
                  </a:lnTo>
                  <a:lnTo>
                    <a:pt x="331514" y="53578"/>
                  </a:lnTo>
                  <a:lnTo>
                    <a:pt x="346025" y="47439"/>
                  </a:lnTo>
                  <a:lnTo>
                    <a:pt x="358303" y="44648"/>
                  </a:lnTo>
                  <a:lnTo>
                    <a:pt x="372256" y="44648"/>
                  </a:lnTo>
                  <a:lnTo>
                    <a:pt x="385092" y="44648"/>
                  </a:lnTo>
                  <a:lnTo>
                    <a:pt x="395138" y="40184"/>
                  </a:lnTo>
                  <a:lnTo>
                    <a:pt x="402952" y="35719"/>
                  </a:lnTo>
                  <a:lnTo>
                    <a:pt x="413556" y="36835"/>
                  </a:lnTo>
                  <a:lnTo>
                    <a:pt x="418579" y="36835"/>
                  </a:lnTo>
                  <a:lnTo>
                    <a:pt x="420811" y="35719"/>
                  </a:lnTo>
                  <a:lnTo>
                    <a:pt x="420811" y="31812"/>
                  </a:lnTo>
                  <a:lnTo>
                    <a:pt x="419137" y="26231"/>
                  </a:lnTo>
                  <a:lnTo>
                    <a:pt x="416346" y="21208"/>
                  </a:lnTo>
                  <a:lnTo>
                    <a:pt x="411881" y="17859"/>
                  </a:lnTo>
                  <a:lnTo>
                    <a:pt x="399603" y="20092"/>
                  </a:lnTo>
                  <a:lnTo>
                    <a:pt x="385092" y="26789"/>
                  </a:lnTo>
                  <a:lnTo>
                    <a:pt x="370582" y="35161"/>
                  </a:lnTo>
                  <a:lnTo>
                    <a:pt x="358303" y="44648"/>
                  </a:lnTo>
                  <a:lnTo>
                    <a:pt x="352164" y="53578"/>
                  </a:lnTo>
                  <a:lnTo>
                    <a:pt x="349374" y="62508"/>
                  </a:lnTo>
                  <a:lnTo>
                    <a:pt x="348816" y="70879"/>
                  </a:lnTo>
                  <a:lnTo>
                    <a:pt x="349374" y="80367"/>
                  </a:lnTo>
                  <a:lnTo>
                    <a:pt x="352164" y="94878"/>
                  </a:lnTo>
                  <a:lnTo>
                    <a:pt x="358303" y="107156"/>
                  </a:lnTo>
                  <a:lnTo>
                    <a:pt x="368349" y="112737"/>
                  </a:lnTo>
                  <a:lnTo>
                    <a:pt x="385092" y="116086"/>
                  </a:lnTo>
                  <a:lnTo>
                    <a:pt x="398487" y="118876"/>
                  </a:lnTo>
                  <a:lnTo>
                    <a:pt x="415230" y="121667"/>
                  </a:lnTo>
                  <a:lnTo>
                    <a:pt x="432531" y="123899"/>
                  </a:lnTo>
                  <a:lnTo>
                    <a:pt x="447600" y="125016"/>
                  </a:lnTo>
                  <a:lnTo>
                    <a:pt x="472715" y="122225"/>
                  </a:lnTo>
                  <a:lnTo>
                    <a:pt x="492249" y="116086"/>
                  </a:lnTo>
                  <a:lnTo>
                    <a:pt x="498388" y="112179"/>
                  </a:lnTo>
                  <a:lnTo>
                    <a:pt x="502295" y="107714"/>
                  </a:lnTo>
                  <a:lnTo>
                    <a:pt x="510108" y="98227"/>
                  </a:lnTo>
                  <a:lnTo>
                    <a:pt x="524619" y="89297"/>
                  </a:lnTo>
                  <a:lnTo>
                    <a:pt x="536897" y="80367"/>
                  </a:lnTo>
                  <a:lnTo>
                    <a:pt x="544152" y="70879"/>
                  </a:lnTo>
                  <a:lnTo>
                    <a:pt x="545827" y="62508"/>
                  </a:lnTo>
                  <a:lnTo>
                    <a:pt x="539688" y="56927"/>
                  </a:lnTo>
                  <a:lnTo>
                    <a:pt x="527967" y="53578"/>
                  </a:lnTo>
                  <a:lnTo>
                    <a:pt x="514573" y="53020"/>
                  </a:lnTo>
                  <a:lnTo>
                    <a:pt x="501178" y="53578"/>
                  </a:lnTo>
                  <a:lnTo>
                    <a:pt x="483319" y="62508"/>
                  </a:lnTo>
                  <a:lnTo>
                    <a:pt x="477738" y="69763"/>
                  </a:lnTo>
                  <a:lnTo>
                    <a:pt x="474389" y="80367"/>
                  </a:lnTo>
                  <a:lnTo>
                    <a:pt x="472157" y="98227"/>
                  </a:lnTo>
                  <a:lnTo>
                    <a:pt x="474389" y="116086"/>
                  </a:lnTo>
                  <a:lnTo>
                    <a:pt x="483319" y="125574"/>
                  </a:lnTo>
                  <a:lnTo>
                    <a:pt x="490574" y="129480"/>
                  </a:lnTo>
                  <a:lnTo>
                    <a:pt x="501178" y="133945"/>
                  </a:lnTo>
                  <a:lnTo>
                    <a:pt x="516247" y="141201"/>
                  </a:lnTo>
                  <a:lnTo>
                    <a:pt x="535223" y="150130"/>
                  </a:lnTo>
                  <a:lnTo>
                    <a:pt x="555315" y="157386"/>
                  </a:lnTo>
                  <a:lnTo>
                    <a:pt x="572616" y="160734"/>
                  </a:lnTo>
                  <a:lnTo>
                    <a:pt x="588801" y="159060"/>
                  </a:lnTo>
                  <a:lnTo>
                    <a:pt x="603870" y="153479"/>
                  </a:lnTo>
                  <a:lnTo>
                    <a:pt x="617264" y="147340"/>
                  </a:lnTo>
                  <a:lnTo>
                    <a:pt x="626194" y="1428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3" name="4c4c7204-4f06-4b48-9cc0-a912274fe6e9"/>
            <p:cNvSpPr/>
            <p:nvPr/>
          </p:nvSpPr>
          <p:spPr>
            <a:xfrm>
              <a:off x="7882560" y="2565000"/>
              <a:ext cx="191160" cy="232200"/>
            </a:xfrm>
            <a:custGeom>
              <a:avLst/>
              <a:gdLst>
                <a:gd name="textAreaLeft" fmla="*/ 0 w 191160"/>
                <a:gd name="textAreaRight" fmla="*/ 191520 w 191160"/>
                <a:gd name="textAreaTop" fmla="*/ 0 h 232200"/>
                <a:gd name="textAreaBottom" fmla="*/ 232560 h 232200"/>
              </a:gdLst>
              <a:ahLst/>
              <a:rect l="textAreaLeft" t="textAreaTop" r="textAreaRight" b="textAreaBottom"/>
              <a:pathLst>
                <a:path w="191430" h="232172">
                  <a:moveTo>
                    <a:pt x="55810" y="0"/>
                  </a:moveTo>
                  <a:lnTo>
                    <a:pt x="52462" y="2232"/>
                  </a:lnTo>
                  <a:lnTo>
                    <a:pt x="46881" y="8930"/>
                  </a:lnTo>
                  <a:lnTo>
                    <a:pt x="42974" y="22882"/>
                  </a:lnTo>
                  <a:lnTo>
                    <a:pt x="37951" y="44648"/>
                  </a:lnTo>
                  <a:lnTo>
                    <a:pt x="34044" y="60833"/>
                  </a:lnTo>
                  <a:lnTo>
                    <a:pt x="29021" y="80367"/>
                  </a:lnTo>
                  <a:lnTo>
                    <a:pt x="23998" y="99901"/>
                  </a:lnTo>
                  <a:lnTo>
                    <a:pt x="20092" y="116086"/>
                  </a:lnTo>
                  <a:lnTo>
                    <a:pt x="17301" y="127806"/>
                  </a:lnTo>
                  <a:lnTo>
                    <a:pt x="15069" y="136736"/>
                  </a:lnTo>
                  <a:lnTo>
                    <a:pt x="11162" y="151805"/>
                  </a:lnTo>
                  <a:lnTo>
                    <a:pt x="6139" y="166315"/>
                  </a:lnTo>
                  <a:lnTo>
                    <a:pt x="2232" y="178594"/>
                  </a:lnTo>
                  <a:lnTo>
                    <a:pt x="0" y="191988"/>
                  </a:lnTo>
                  <a:lnTo>
                    <a:pt x="0" y="196453"/>
                  </a:lnTo>
                  <a:lnTo>
                    <a:pt x="2232" y="196453"/>
                  </a:lnTo>
                  <a:lnTo>
                    <a:pt x="8929" y="189756"/>
                  </a:lnTo>
                  <a:lnTo>
                    <a:pt x="18417" y="178594"/>
                  </a:lnTo>
                  <a:lnTo>
                    <a:pt x="29021" y="165199"/>
                  </a:lnTo>
                  <a:lnTo>
                    <a:pt x="37951" y="151805"/>
                  </a:lnTo>
                  <a:lnTo>
                    <a:pt x="51345" y="125016"/>
                  </a:lnTo>
                  <a:lnTo>
                    <a:pt x="64740" y="98227"/>
                  </a:lnTo>
                  <a:lnTo>
                    <a:pt x="82599" y="74786"/>
                  </a:lnTo>
                  <a:lnTo>
                    <a:pt x="100459" y="53578"/>
                  </a:lnTo>
                  <a:lnTo>
                    <a:pt x="114969" y="33486"/>
                  </a:lnTo>
                  <a:lnTo>
                    <a:pt x="127248" y="17859"/>
                  </a:lnTo>
                  <a:lnTo>
                    <a:pt x="137294" y="11720"/>
                  </a:lnTo>
                  <a:lnTo>
                    <a:pt x="145107" y="8930"/>
                  </a:lnTo>
                  <a:lnTo>
                    <a:pt x="153479" y="3349"/>
                  </a:lnTo>
                  <a:lnTo>
                    <a:pt x="162967" y="0"/>
                  </a:lnTo>
                  <a:lnTo>
                    <a:pt x="177477" y="2791"/>
                  </a:lnTo>
                  <a:lnTo>
                    <a:pt x="184733" y="5581"/>
                  </a:lnTo>
                  <a:lnTo>
                    <a:pt x="189756" y="8930"/>
                  </a:lnTo>
                  <a:lnTo>
                    <a:pt x="191430" y="13395"/>
                  </a:lnTo>
                  <a:lnTo>
                    <a:pt x="190314" y="17859"/>
                  </a:lnTo>
                  <a:lnTo>
                    <a:pt x="189756" y="26789"/>
                  </a:lnTo>
                  <a:lnTo>
                    <a:pt x="189756" y="43532"/>
                  </a:lnTo>
                  <a:lnTo>
                    <a:pt x="190314" y="65298"/>
                  </a:lnTo>
                  <a:lnTo>
                    <a:pt x="190314" y="88181"/>
                  </a:lnTo>
                  <a:lnTo>
                    <a:pt x="189756" y="107156"/>
                  </a:lnTo>
                  <a:lnTo>
                    <a:pt x="188639" y="121109"/>
                  </a:lnTo>
                  <a:lnTo>
                    <a:pt x="186407" y="132271"/>
                  </a:lnTo>
                  <a:lnTo>
                    <a:pt x="180826" y="151805"/>
                  </a:lnTo>
                  <a:lnTo>
                    <a:pt x="175803" y="175803"/>
                  </a:lnTo>
                  <a:lnTo>
                    <a:pt x="173571" y="187523"/>
                  </a:lnTo>
                  <a:lnTo>
                    <a:pt x="171896" y="196453"/>
                  </a:lnTo>
                  <a:lnTo>
                    <a:pt x="171896" y="207057"/>
                  </a:lnTo>
                  <a:lnTo>
                    <a:pt x="171896" y="214313"/>
                  </a:lnTo>
                  <a:lnTo>
                    <a:pt x="167431" y="225475"/>
                  </a:lnTo>
                  <a:lnTo>
                    <a:pt x="164641" y="230498"/>
                  </a:lnTo>
                  <a:lnTo>
                    <a:pt x="162967" y="232172"/>
                  </a:lnTo>
                  <a:lnTo>
                    <a:pt x="162967" y="230498"/>
                  </a:lnTo>
                  <a:lnTo>
                    <a:pt x="162967" y="225475"/>
                  </a:lnTo>
                  <a:lnTo>
                    <a:pt x="162967" y="214313"/>
                  </a:lnTo>
                  <a:lnTo>
                    <a:pt x="159618" y="205383"/>
                  </a:lnTo>
                  <a:lnTo>
                    <a:pt x="154037" y="196453"/>
                  </a:lnTo>
                  <a:lnTo>
                    <a:pt x="149014" y="186965"/>
                  </a:lnTo>
                  <a:lnTo>
                    <a:pt x="145107" y="17859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4" name="27794389-45fb-45ea-88c7-22c434e381bb"/>
            <p:cNvSpPr/>
            <p:nvPr/>
          </p:nvSpPr>
          <p:spPr>
            <a:xfrm>
              <a:off x="7884360" y="2636280"/>
              <a:ext cx="411120" cy="9360"/>
            </a:xfrm>
            <a:custGeom>
              <a:avLst/>
              <a:gdLst>
                <a:gd name="textAreaLeft" fmla="*/ 0 w 411120"/>
                <a:gd name="textAreaRight" fmla="*/ 411480 w 411120"/>
                <a:gd name="textAreaTop" fmla="*/ 0 h 9360"/>
                <a:gd name="textAreaBottom" fmla="*/ 9720 h 9360"/>
              </a:gdLst>
              <a:ahLst/>
              <a:rect l="textAreaLeft" t="textAreaTop" r="textAreaRight" b="textAreaBottom"/>
              <a:pathLst>
                <a:path w="411324" h="9487">
                  <a:moveTo>
                    <a:pt x="9488" y="8929"/>
                  </a:moveTo>
                  <a:lnTo>
                    <a:pt x="7255" y="8929"/>
                  </a:lnTo>
                  <a:lnTo>
                    <a:pt x="2791" y="8929"/>
                  </a:lnTo>
                  <a:lnTo>
                    <a:pt x="0" y="8929"/>
                  </a:lnTo>
                  <a:lnTo>
                    <a:pt x="558" y="8929"/>
                  </a:lnTo>
                  <a:lnTo>
                    <a:pt x="7814" y="8929"/>
                  </a:lnTo>
                  <a:lnTo>
                    <a:pt x="19534" y="8929"/>
                  </a:lnTo>
                  <a:lnTo>
                    <a:pt x="30696" y="8929"/>
                  </a:lnTo>
                  <a:lnTo>
                    <a:pt x="36277" y="8929"/>
                  </a:lnTo>
                  <a:lnTo>
                    <a:pt x="32928" y="8929"/>
                  </a:lnTo>
                  <a:lnTo>
                    <a:pt x="23999" y="8929"/>
                  </a:lnTo>
                  <a:lnTo>
                    <a:pt x="14511" y="8929"/>
                  </a:lnTo>
                  <a:lnTo>
                    <a:pt x="9488" y="8929"/>
                  </a:lnTo>
                  <a:lnTo>
                    <a:pt x="11720" y="8929"/>
                  </a:lnTo>
                  <a:lnTo>
                    <a:pt x="17301" y="8929"/>
                  </a:lnTo>
                  <a:lnTo>
                    <a:pt x="27347" y="8929"/>
                  </a:lnTo>
                  <a:lnTo>
                    <a:pt x="43532" y="8929"/>
                  </a:lnTo>
                  <a:lnTo>
                    <a:pt x="64182" y="8929"/>
                  </a:lnTo>
                  <a:lnTo>
                    <a:pt x="87065" y="8929"/>
                  </a:lnTo>
                  <a:lnTo>
                    <a:pt x="107714" y="8929"/>
                  </a:lnTo>
                  <a:lnTo>
                    <a:pt x="144549" y="8929"/>
                  </a:lnTo>
                  <a:lnTo>
                    <a:pt x="179152" y="8929"/>
                  </a:lnTo>
                  <a:lnTo>
                    <a:pt x="215429" y="9487"/>
                  </a:lnTo>
                  <a:lnTo>
                    <a:pt x="250589" y="8929"/>
                  </a:lnTo>
                  <a:lnTo>
                    <a:pt x="282960" y="4464"/>
                  </a:lnTo>
                  <a:lnTo>
                    <a:pt x="313097" y="0"/>
                  </a:lnTo>
                  <a:lnTo>
                    <a:pt x="366675" y="0"/>
                  </a:lnTo>
                  <a:lnTo>
                    <a:pt x="392348" y="4464"/>
                  </a:lnTo>
                  <a:lnTo>
                    <a:pt x="403510" y="7255"/>
                  </a:lnTo>
                  <a:lnTo>
                    <a:pt x="411324" y="8929"/>
                  </a:lnTo>
                </a:path>
              </a:pathLst>
            </a:custGeom>
            <a:noFill/>
            <a:ln w="17640">
              <a:solidFill>
                <a:srgbClr val="0000ff"/>
              </a:solidFill>
              <a:round/>
            </a:ln>
          </p:spPr>
          <p:style>
            <a:lnRef idx="0"/>
            <a:fillRef idx="0"/>
            <a:effectRef idx="0"/>
            <a:fontRef idx="minor"/>
          </p:style>
          <p:txBody>
            <a:bodyPr lIns="90000" rIns="90000" tIns="-37080" bIns="-37080" anchor="ctr" anchorCtr="1">
              <a:noAutofit/>
            </a:bodyPr>
            <a:p>
              <a:endParaRPr b="0" lang="en-US" sz="1800" spc="-1" strike="noStrike">
                <a:solidFill>
                  <a:srgbClr val="000000"/>
                </a:solidFill>
                <a:latin typeface="Arial"/>
              </a:endParaRPr>
            </a:p>
          </p:txBody>
        </p:sp>
        <p:sp>
          <p:nvSpPr>
            <p:cNvPr id="165" name="6dd7c3d7-f154-4dd8-b0cb-591b9512f5a5"/>
            <p:cNvSpPr/>
            <p:nvPr/>
          </p:nvSpPr>
          <p:spPr>
            <a:xfrm>
              <a:off x="8259840" y="2716200"/>
              <a:ext cx="169560" cy="107640"/>
            </a:xfrm>
            <a:custGeom>
              <a:avLst/>
              <a:gdLst>
                <a:gd name="textAreaLeft" fmla="*/ 0 w 169560"/>
                <a:gd name="textAreaRight" fmla="*/ 169920 w 169560"/>
                <a:gd name="textAreaTop" fmla="*/ 0 h 107640"/>
                <a:gd name="textAreaBottom" fmla="*/ 108000 h 107640"/>
              </a:gdLst>
              <a:ahLst/>
              <a:rect l="textAreaLeft" t="textAreaTop" r="textAreaRight" b="textAreaBottom"/>
              <a:pathLst>
                <a:path w="169664" h="107714">
                  <a:moveTo>
                    <a:pt x="8930" y="558"/>
                  </a:moveTo>
                  <a:lnTo>
                    <a:pt x="9488" y="3906"/>
                  </a:lnTo>
                  <a:lnTo>
                    <a:pt x="8930" y="9487"/>
                  </a:lnTo>
                  <a:lnTo>
                    <a:pt x="3907" y="17859"/>
                  </a:lnTo>
                  <a:lnTo>
                    <a:pt x="0" y="27347"/>
                  </a:lnTo>
                  <a:lnTo>
                    <a:pt x="3349" y="35718"/>
                  </a:lnTo>
                  <a:lnTo>
                    <a:pt x="8930" y="45206"/>
                  </a:lnTo>
                  <a:lnTo>
                    <a:pt x="12836" y="58601"/>
                  </a:lnTo>
                  <a:lnTo>
                    <a:pt x="17859" y="71995"/>
                  </a:lnTo>
                  <a:lnTo>
                    <a:pt x="29022" y="82041"/>
                  </a:lnTo>
                  <a:lnTo>
                    <a:pt x="44649" y="89855"/>
                  </a:lnTo>
                  <a:lnTo>
                    <a:pt x="66415" y="100459"/>
                  </a:lnTo>
                  <a:lnTo>
                    <a:pt x="78135" y="105482"/>
                  </a:lnTo>
                  <a:lnTo>
                    <a:pt x="89297" y="107714"/>
                  </a:lnTo>
                  <a:lnTo>
                    <a:pt x="108273" y="105482"/>
                  </a:lnTo>
                  <a:lnTo>
                    <a:pt x="125016" y="98784"/>
                  </a:lnTo>
                  <a:lnTo>
                    <a:pt x="139526" y="90413"/>
                  </a:lnTo>
                  <a:lnTo>
                    <a:pt x="151805" y="80925"/>
                  </a:lnTo>
                  <a:lnTo>
                    <a:pt x="163525" y="71995"/>
                  </a:lnTo>
                  <a:lnTo>
                    <a:pt x="169664" y="63066"/>
                  </a:lnTo>
                  <a:lnTo>
                    <a:pt x="169106" y="58601"/>
                  </a:lnTo>
                  <a:lnTo>
                    <a:pt x="166315" y="54136"/>
                  </a:lnTo>
                  <a:lnTo>
                    <a:pt x="160734" y="45206"/>
                  </a:lnTo>
                  <a:lnTo>
                    <a:pt x="161851" y="36276"/>
                  </a:lnTo>
                  <a:lnTo>
                    <a:pt x="160734" y="27347"/>
                  </a:lnTo>
                  <a:lnTo>
                    <a:pt x="155711" y="17859"/>
                  </a:lnTo>
                  <a:lnTo>
                    <a:pt x="150689" y="13394"/>
                  </a:lnTo>
                  <a:lnTo>
                    <a:pt x="142875" y="9487"/>
                  </a:lnTo>
                  <a:lnTo>
                    <a:pt x="130039" y="5581"/>
                  </a:lnTo>
                  <a:lnTo>
                    <a:pt x="113854" y="2232"/>
                  </a:lnTo>
                  <a:lnTo>
                    <a:pt x="96552" y="0"/>
                  </a:lnTo>
                  <a:lnTo>
                    <a:pt x="80367" y="558"/>
                  </a:lnTo>
                  <a:lnTo>
                    <a:pt x="65298" y="5581"/>
                  </a:lnTo>
                  <a:lnTo>
                    <a:pt x="49671" y="13394"/>
                  </a:lnTo>
                  <a:lnTo>
                    <a:pt x="36277" y="21766"/>
                  </a:lnTo>
                  <a:lnTo>
                    <a:pt x="26789" y="2734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6" name="037c96c0-616a-4180-b6f7-186b2e6e040e"/>
            <p:cNvSpPr/>
            <p:nvPr/>
          </p:nvSpPr>
          <p:spPr>
            <a:xfrm>
              <a:off x="6294960" y="3207960"/>
              <a:ext cx="535680" cy="295200"/>
            </a:xfrm>
            <a:custGeom>
              <a:avLst/>
              <a:gdLst>
                <a:gd name="textAreaLeft" fmla="*/ 0 w 535680"/>
                <a:gd name="textAreaRight" fmla="*/ 536040 w 535680"/>
                <a:gd name="textAreaTop" fmla="*/ 0 h 295200"/>
                <a:gd name="textAreaBottom" fmla="*/ 295560 h 295200"/>
              </a:gdLst>
              <a:ahLst/>
              <a:rect l="textAreaLeft" t="textAreaTop" r="textAreaRight" b="textAreaBottom"/>
              <a:pathLst>
                <a:path w="535781" h="295237">
                  <a:moveTo>
                    <a:pt x="535781" y="294679"/>
                  </a:moveTo>
                  <a:lnTo>
                    <a:pt x="527968" y="295237"/>
                  </a:lnTo>
                  <a:lnTo>
                    <a:pt x="517922" y="294679"/>
                  </a:lnTo>
                  <a:lnTo>
                    <a:pt x="510108" y="291331"/>
                  </a:lnTo>
                  <a:lnTo>
                    <a:pt x="500062" y="285750"/>
                  </a:lnTo>
                  <a:lnTo>
                    <a:pt x="490016" y="282959"/>
                  </a:lnTo>
                  <a:lnTo>
                    <a:pt x="483319" y="281285"/>
                  </a:lnTo>
                  <a:lnTo>
                    <a:pt x="473273" y="276820"/>
                  </a:lnTo>
                  <a:lnTo>
                    <a:pt x="458204" y="269564"/>
                  </a:lnTo>
                  <a:lnTo>
                    <a:pt x="439229" y="260077"/>
                  </a:lnTo>
                  <a:lnTo>
                    <a:pt x="419695" y="250031"/>
                  </a:lnTo>
                  <a:lnTo>
                    <a:pt x="401836" y="241101"/>
                  </a:lnTo>
                  <a:lnTo>
                    <a:pt x="373372" y="227148"/>
                  </a:lnTo>
                  <a:lnTo>
                    <a:pt x="348258" y="214312"/>
                  </a:lnTo>
                  <a:lnTo>
                    <a:pt x="325933" y="200917"/>
                  </a:lnTo>
                  <a:lnTo>
                    <a:pt x="303609" y="187523"/>
                  </a:lnTo>
                  <a:lnTo>
                    <a:pt x="276820" y="174128"/>
                  </a:lnTo>
                  <a:lnTo>
                    <a:pt x="250031" y="160734"/>
                  </a:lnTo>
                  <a:lnTo>
                    <a:pt x="227707" y="147339"/>
                  </a:lnTo>
                  <a:lnTo>
                    <a:pt x="205383" y="133945"/>
                  </a:lnTo>
                  <a:lnTo>
                    <a:pt x="178594" y="120550"/>
                  </a:lnTo>
                  <a:lnTo>
                    <a:pt x="151805" y="107156"/>
                  </a:lnTo>
                  <a:lnTo>
                    <a:pt x="128922" y="93203"/>
                  </a:lnTo>
                  <a:lnTo>
                    <a:pt x="107156" y="80367"/>
                  </a:lnTo>
                  <a:lnTo>
                    <a:pt x="83158" y="70321"/>
                  </a:lnTo>
                  <a:lnTo>
                    <a:pt x="62508" y="62507"/>
                  </a:lnTo>
                  <a:lnTo>
                    <a:pt x="51904" y="56926"/>
                  </a:lnTo>
                  <a:lnTo>
                    <a:pt x="44648" y="53578"/>
                  </a:lnTo>
                  <a:lnTo>
                    <a:pt x="35719" y="53578"/>
                  </a:lnTo>
                  <a:lnTo>
                    <a:pt x="26789" y="53578"/>
                  </a:lnTo>
                  <a:lnTo>
                    <a:pt x="17301" y="48555"/>
                  </a:lnTo>
                  <a:lnTo>
                    <a:pt x="12836" y="45206"/>
                  </a:lnTo>
                  <a:lnTo>
                    <a:pt x="8930" y="44648"/>
                  </a:lnTo>
                  <a:lnTo>
                    <a:pt x="2790" y="50787"/>
                  </a:lnTo>
                  <a:lnTo>
                    <a:pt x="0" y="62507"/>
                  </a:lnTo>
                  <a:lnTo>
                    <a:pt x="2790" y="78134"/>
                  </a:lnTo>
                  <a:lnTo>
                    <a:pt x="8930" y="98226"/>
                  </a:lnTo>
                  <a:lnTo>
                    <a:pt x="16743" y="123899"/>
                  </a:lnTo>
                  <a:lnTo>
                    <a:pt x="26789" y="151804"/>
                  </a:lnTo>
                  <a:lnTo>
                    <a:pt x="41300" y="180826"/>
                  </a:lnTo>
                  <a:lnTo>
                    <a:pt x="47997" y="194778"/>
                  </a:lnTo>
                  <a:lnTo>
                    <a:pt x="53578" y="205382"/>
                  </a:lnTo>
                  <a:lnTo>
                    <a:pt x="56927" y="212638"/>
                  </a:lnTo>
                  <a:lnTo>
                    <a:pt x="59159" y="217103"/>
                  </a:lnTo>
                  <a:lnTo>
                    <a:pt x="62508" y="223242"/>
                  </a:lnTo>
                  <a:lnTo>
                    <a:pt x="68089" y="234404"/>
                  </a:lnTo>
                  <a:lnTo>
                    <a:pt x="70321" y="239427"/>
                  </a:lnTo>
                  <a:lnTo>
                    <a:pt x="71437" y="241101"/>
                  </a:lnTo>
                  <a:lnTo>
                    <a:pt x="71995" y="239427"/>
                  </a:lnTo>
                  <a:lnTo>
                    <a:pt x="71995" y="234404"/>
                  </a:lnTo>
                  <a:lnTo>
                    <a:pt x="71437" y="223242"/>
                  </a:lnTo>
                  <a:lnTo>
                    <a:pt x="73112" y="217103"/>
                  </a:lnTo>
                  <a:lnTo>
                    <a:pt x="73112" y="212638"/>
                  </a:lnTo>
                  <a:lnTo>
                    <a:pt x="71437" y="205382"/>
                  </a:lnTo>
                  <a:lnTo>
                    <a:pt x="66414" y="194220"/>
                  </a:lnTo>
                  <a:lnTo>
                    <a:pt x="58601" y="179151"/>
                  </a:lnTo>
                  <a:lnTo>
                    <a:pt x="50787" y="164083"/>
                  </a:lnTo>
                  <a:lnTo>
                    <a:pt x="44648" y="151804"/>
                  </a:lnTo>
                  <a:lnTo>
                    <a:pt x="39625" y="136735"/>
                  </a:lnTo>
                  <a:lnTo>
                    <a:pt x="35719" y="125015"/>
                  </a:lnTo>
                  <a:lnTo>
                    <a:pt x="26789" y="98226"/>
                  </a:lnTo>
                  <a:lnTo>
                    <a:pt x="22324" y="88738"/>
                  </a:lnTo>
                  <a:lnTo>
                    <a:pt x="17859" y="80367"/>
                  </a:lnTo>
                  <a:lnTo>
                    <a:pt x="11720" y="71437"/>
                  </a:lnTo>
                  <a:lnTo>
                    <a:pt x="8930" y="62507"/>
                  </a:lnTo>
                  <a:lnTo>
                    <a:pt x="12836" y="54694"/>
                  </a:lnTo>
                  <a:lnTo>
                    <a:pt x="17859" y="50229"/>
                  </a:lnTo>
                  <a:lnTo>
                    <a:pt x="26789" y="44648"/>
                  </a:lnTo>
                  <a:lnTo>
                    <a:pt x="41300" y="38509"/>
                  </a:lnTo>
                  <a:lnTo>
                    <a:pt x="59717" y="30695"/>
                  </a:lnTo>
                  <a:lnTo>
                    <a:pt x="79809" y="23440"/>
                  </a:lnTo>
                  <a:lnTo>
                    <a:pt x="98226" y="17859"/>
                  </a:lnTo>
                  <a:lnTo>
                    <a:pt x="130596" y="12836"/>
                  </a:lnTo>
                  <a:lnTo>
                    <a:pt x="160734" y="8929"/>
                  </a:lnTo>
                  <a:lnTo>
                    <a:pt x="191430" y="3906"/>
                  </a:lnTo>
                  <a:lnTo>
                    <a:pt x="204825" y="1674"/>
                  </a:lnTo>
                  <a:lnTo>
                    <a:pt x="214312"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7" name="b9012d9a-9104-43af-97e8-8ece22efab2e"/>
            <p:cNvSpPr/>
            <p:nvPr/>
          </p:nvSpPr>
          <p:spPr>
            <a:xfrm>
              <a:off x="6938280" y="3341880"/>
              <a:ext cx="187200" cy="162360"/>
            </a:xfrm>
            <a:custGeom>
              <a:avLst/>
              <a:gdLst>
                <a:gd name="textAreaLeft" fmla="*/ 0 w 187200"/>
                <a:gd name="textAreaRight" fmla="*/ 187560 w 187200"/>
                <a:gd name="textAreaTop" fmla="*/ 0 h 162360"/>
                <a:gd name="textAreaBottom" fmla="*/ 162720 h 162360"/>
              </a:gdLst>
              <a:ahLst/>
              <a:rect l="textAreaLeft" t="textAreaTop" r="textAreaRight" b="textAreaBottom"/>
              <a:pathLst>
                <a:path w="187524" h="162409">
                  <a:moveTo>
                    <a:pt x="98227" y="0"/>
                  </a:moveTo>
                  <a:lnTo>
                    <a:pt x="89297" y="0"/>
                  </a:lnTo>
                  <a:lnTo>
                    <a:pt x="80926" y="3907"/>
                  </a:lnTo>
                  <a:lnTo>
                    <a:pt x="71438" y="8930"/>
                  </a:lnTo>
                  <a:lnTo>
                    <a:pt x="63624" y="12836"/>
                  </a:lnTo>
                  <a:lnTo>
                    <a:pt x="53578" y="17859"/>
                  </a:lnTo>
                  <a:lnTo>
                    <a:pt x="39626" y="26231"/>
                  </a:lnTo>
                  <a:lnTo>
                    <a:pt x="26789" y="35719"/>
                  </a:lnTo>
                  <a:lnTo>
                    <a:pt x="21766" y="44648"/>
                  </a:lnTo>
                  <a:lnTo>
                    <a:pt x="17860" y="53578"/>
                  </a:lnTo>
                  <a:lnTo>
                    <a:pt x="13395" y="60833"/>
                  </a:lnTo>
                  <a:lnTo>
                    <a:pt x="8930" y="71437"/>
                  </a:lnTo>
                  <a:lnTo>
                    <a:pt x="6139" y="81483"/>
                  </a:lnTo>
                  <a:lnTo>
                    <a:pt x="3349" y="93762"/>
                  </a:lnTo>
                  <a:lnTo>
                    <a:pt x="1117" y="106598"/>
                  </a:lnTo>
                  <a:lnTo>
                    <a:pt x="0" y="116086"/>
                  </a:lnTo>
                  <a:lnTo>
                    <a:pt x="2791" y="126690"/>
                  </a:lnTo>
                  <a:lnTo>
                    <a:pt x="8930" y="133945"/>
                  </a:lnTo>
                  <a:lnTo>
                    <a:pt x="17302" y="143433"/>
                  </a:lnTo>
                  <a:lnTo>
                    <a:pt x="26789" y="151805"/>
                  </a:lnTo>
                  <a:lnTo>
                    <a:pt x="33487" y="157386"/>
                  </a:lnTo>
                  <a:lnTo>
                    <a:pt x="37951" y="159618"/>
                  </a:lnTo>
                  <a:lnTo>
                    <a:pt x="44649" y="160734"/>
                  </a:lnTo>
                  <a:lnTo>
                    <a:pt x="56369" y="161850"/>
                  </a:lnTo>
                  <a:lnTo>
                    <a:pt x="70880" y="162409"/>
                  </a:lnTo>
                  <a:lnTo>
                    <a:pt x="85390" y="162409"/>
                  </a:lnTo>
                  <a:lnTo>
                    <a:pt x="98227" y="160734"/>
                  </a:lnTo>
                  <a:lnTo>
                    <a:pt x="117761" y="153479"/>
                  </a:lnTo>
                  <a:lnTo>
                    <a:pt x="133946" y="142875"/>
                  </a:lnTo>
                  <a:lnTo>
                    <a:pt x="148456" y="130038"/>
                  </a:lnTo>
                  <a:lnTo>
                    <a:pt x="160735" y="116086"/>
                  </a:lnTo>
                  <a:lnTo>
                    <a:pt x="171339" y="102133"/>
                  </a:lnTo>
                  <a:lnTo>
                    <a:pt x="178594" y="89297"/>
                  </a:lnTo>
                  <a:lnTo>
                    <a:pt x="179710" y="79809"/>
                  </a:lnTo>
                  <a:lnTo>
                    <a:pt x="178594" y="71437"/>
                  </a:lnTo>
                  <a:lnTo>
                    <a:pt x="184175" y="62508"/>
                  </a:lnTo>
                  <a:lnTo>
                    <a:pt x="186966" y="58043"/>
                  </a:lnTo>
                  <a:lnTo>
                    <a:pt x="187524" y="53578"/>
                  </a:lnTo>
                  <a:lnTo>
                    <a:pt x="185291" y="49113"/>
                  </a:lnTo>
                  <a:lnTo>
                    <a:pt x="180268" y="44090"/>
                  </a:lnTo>
                  <a:lnTo>
                    <a:pt x="169664" y="35719"/>
                  </a:lnTo>
                  <a:lnTo>
                    <a:pt x="161851" y="29579"/>
                  </a:lnTo>
                  <a:lnTo>
                    <a:pt x="151805" y="26789"/>
                  </a:lnTo>
                  <a:lnTo>
                    <a:pt x="137294" y="30696"/>
                  </a:lnTo>
                  <a:lnTo>
                    <a:pt x="130039" y="34044"/>
                  </a:lnTo>
                  <a:lnTo>
                    <a:pt x="125016" y="3571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8" name="a4b6b860-820d-4c7d-b646-7ef9161daaab"/>
            <p:cNvSpPr/>
            <p:nvPr/>
          </p:nvSpPr>
          <p:spPr>
            <a:xfrm>
              <a:off x="7160760" y="3109680"/>
              <a:ext cx="18360" cy="428400"/>
            </a:xfrm>
            <a:custGeom>
              <a:avLst/>
              <a:gdLst>
                <a:gd name="textAreaLeft" fmla="*/ 0 w 18360"/>
                <a:gd name="textAreaRight" fmla="*/ 18720 w 18360"/>
                <a:gd name="textAreaTop" fmla="*/ 0 h 428400"/>
                <a:gd name="textAreaBottom" fmla="*/ 428760 h 428400"/>
              </a:gdLst>
              <a:ahLst/>
              <a:rect l="textAreaLeft" t="textAreaTop" r="textAreaRight" b="textAreaBottom"/>
              <a:pathLst>
                <a:path w="18418" h="428625">
                  <a:moveTo>
                    <a:pt x="9488" y="0"/>
                  </a:moveTo>
                  <a:lnTo>
                    <a:pt x="5023" y="2790"/>
                  </a:lnTo>
                  <a:lnTo>
                    <a:pt x="559" y="8930"/>
                  </a:lnTo>
                  <a:lnTo>
                    <a:pt x="0" y="18417"/>
                  </a:lnTo>
                  <a:lnTo>
                    <a:pt x="0" y="25673"/>
                  </a:lnTo>
                  <a:lnTo>
                    <a:pt x="559" y="35719"/>
                  </a:lnTo>
                  <a:lnTo>
                    <a:pt x="2233" y="50788"/>
                  </a:lnTo>
                  <a:lnTo>
                    <a:pt x="5023" y="69205"/>
                  </a:lnTo>
                  <a:lnTo>
                    <a:pt x="9488" y="107156"/>
                  </a:lnTo>
                  <a:lnTo>
                    <a:pt x="10046" y="142875"/>
                  </a:lnTo>
                  <a:lnTo>
                    <a:pt x="9488" y="178594"/>
                  </a:lnTo>
                  <a:lnTo>
                    <a:pt x="9488" y="250031"/>
                  </a:lnTo>
                  <a:lnTo>
                    <a:pt x="9488" y="286308"/>
                  </a:lnTo>
                  <a:lnTo>
                    <a:pt x="9488" y="321469"/>
                  </a:lnTo>
                  <a:lnTo>
                    <a:pt x="8930" y="354397"/>
                  </a:lnTo>
                  <a:lnTo>
                    <a:pt x="9488" y="383977"/>
                  </a:lnTo>
                  <a:lnTo>
                    <a:pt x="13953" y="410207"/>
                  </a:lnTo>
                  <a:lnTo>
                    <a:pt x="16744" y="421370"/>
                  </a:lnTo>
                  <a:lnTo>
                    <a:pt x="18418" y="42862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9" name="560440d5-327e-462e-ba1c-ea5c3a53848e"/>
            <p:cNvSpPr/>
            <p:nvPr/>
          </p:nvSpPr>
          <p:spPr>
            <a:xfrm>
              <a:off x="7286400" y="3340440"/>
              <a:ext cx="321480" cy="207000"/>
            </a:xfrm>
            <a:custGeom>
              <a:avLst/>
              <a:gdLst>
                <a:gd name="textAreaLeft" fmla="*/ 0 w 321480"/>
                <a:gd name="textAreaRight" fmla="*/ 321840 w 321480"/>
                <a:gd name="textAreaTop" fmla="*/ 0 h 207000"/>
                <a:gd name="textAreaBottom" fmla="*/ 207360 h 207000"/>
              </a:gdLst>
              <a:ahLst/>
              <a:rect l="textAreaLeft" t="textAreaTop" r="textAreaRight" b="textAreaBottom"/>
              <a:pathLst>
                <a:path w="321469" h="207058">
                  <a:moveTo>
                    <a:pt x="0" y="28464"/>
                  </a:moveTo>
                  <a:lnTo>
                    <a:pt x="8372" y="23441"/>
                  </a:lnTo>
                  <a:lnTo>
                    <a:pt x="13395" y="20092"/>
                  </a:lnTo>
                  <a:lnTo>
                    <a:pt x="17860" y="19534"/>
                  </a:lnTo>
                  <a:lnTo>
                    <a:pt x="23441" y="26790"/>
                  </a:lnTo>
                  <a:lnTo>
                    <a:pt x="26789" y="37394"/>
                  </a:lnTo>
                  <a:lnTo>
                    <a:pt x="26789" y="45207"/>
                  </a:lnTo>
                  <a:lnTo>
                    <a:pt x="26789" y="55253"/>
                  </a:lnTo>
                  <a:lnTo>
                    <a:pt x="31254" y="69764"/>
                  </a:lnTo>
                  <a:lnTo>
                    <a:pt x="35719" y="90972"/>
                  </a:lnTo>
                  <a:lnTo>
                    <a:pt x="36277" y="107715"/>
                  </a:lnTo>
                  <a:lnTo>
                    <a:pt x="35719" y="127807"/>
                  </a:lnTo>
                  <a:lnTo>
                    <a:pt x="35719" y="147898"/>
                  </a:lnTo>
                  <a:lnTo>
                    <a:pt x="35719" y="162409"/>
                  </a:lnTo>
                  <a:lnTo>
                    <a:pt x="36835" y="170781"/>
                  </a:lnTo>
                  <a:lnTo>
                    <a:pt x="38509" y="175246"/>
                  </a:lnTo>
                  <a:lnTo>
                    <a:pt x="44649" y="180269"/>
                  </a:lnTo>
                  <a:lnTo>
                    <a:pt x="57485" y="186408"/>
                  </a:lnTo>
                  <a:lnTo>
                    <a:pt x="71438" y="189198"/>
                  </a:lnTo>
                  <a:lnTo>
                    <a:pt x="79809" y="188082"/>
                  </a:lnTo>
                  <a:lnTo>
                    <a:pt x="89297" y="180269"/>
                  </a:lnTo>
                  <a:lnTo>
                    <a:pt x="97110" y="171897"/>
                  </a:lnTo>
                  <a:lnTo>
                    <a:pt x="106598" y="160177"/>
                  </a:lnTo>
                  <a:lnTo>
                    <a:pt x="125016" y="135620"/>
                  </a:lnTo>
                  <a:lnTo>
                    <a:pt x="151805" y="90972"/>
                  </a:lnTo>
                  <a:lnTo>
                    <a:pt x="161851" y="68089"/>
                  </a:lnTo>
                  <a:lnTo>
                    <a:pt x="169664" y="46323"/>
                  </a:lnTo>
                  <a:lnTo>
                    <a:pt x="178036" y="26231"/>
                  </a:lnTo>
                  <a:lnTo>
                    <a:pt x="187524" y="10605"/>
                  </a:lnTo>
                  <a:lnTo>
                    <a:pt x="200360" y="3907"/>
                  </a:lnTo>
                  <a:lnTo>
                    <a:pt x="214313" y="1675"/>
                  </a:lnTo>
                  <a:lnTo>
                    <a:pt x="227707" y="0"/>
                  </a:lnTo>
                  <a:lnTo>
                    <a:pt x="241102" y="1675"/>
                  </a:lnTo>
                  <a:lnTo>
                    <a:pt x="253380" y="7256"/>
                  </a:lnTo>
                  <a:lnTo>
                    <a:pt x="267891" y="19534"/>
                  </a:lnTo>
                  <a:lnTo>
                    <a:pt x="279053" y="30696"/>
                  </a:lnTo>
                  <a:lnTo>
                    <a:pt x="291331" y="44649"/>
                  </a:lnTo>
                  <a:lnTo>
                    <a:pt x="303610" y="59718"/>
                  </a:lnTo>
                  <a:lnTo>
                    <a:pt x="312539" y="73112"/>
                  </a:lnTo>
                  <a:lnTo>
                    <a:pt x="320353" y="96553"/>
                  </a:lnTo>
                  <a:lnTo>
                    <a:pt x="321469" y="117761"/>
                  </a:lnTo>
                  <a:lnTo>
                    <a:pt x="318120" y="136736"/>
                  </a:lnTo>
                  <a:lnTo>
                    <a:pt x="312539" y="153480"/>
                  </a:lnTo>
                  <a:lnTo>
                    <a:pt x="309191" y="167990"/>
                  </a:lnTo>
                  <a:lnTo>
                    <a:pt x="303610" y="180269"/>
                  </a:lnTo>
                  <a:lnTo>
                    <a:pt x="291331" y="190314"/>
                  </a:lnTo>
                  <a:lnTo>
                    <a:pt x="276820" y="198128"/>
                  </a:lnTo>
                  <a:lnTo>
                    <a:pt x="263426" y="204267"/>
                  </a:lnTo>
                  <a:lnTo>
                    <a:pt x="250031" y="207058"/>
                  </a:lnTo>
                  <a:lnTo>
                    <a:pt x="236079" y="204267"/>
                  </a:lnTo>
                  <a:lnTo>
                    <a:pt x="223242" y="198128"/>
                  </a:lnTo>
                  <a:lnTo>
                    <a:pt x="212638" y="190314"/>
                  </a:lnTo>
                  <a:lnTo>
                    <a:pt x="205383" y="180269"/>
                  </a:lnTo>
                  <a:lnTo>
                    <a:pt x="204267" y="165758"/>
                  </a:lnTo>
                  <a:lnTo>
                    <a:pt x="204825" y="158502"/>
                  </a:lnTo>
                  <a:lnTo>
                    <a:pt x="205383" y="15348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0" name="5116dd1c-0c6c-4bb1-aa91-f1200952fe53"/>
            <p:cNvSpPr/>
            <p:nvPr/>
          </p:nvSpPr>
          <p:spPr>
            <a:xfrm>
              <a:off x="7695720" y="3339720"/>
              <a:ext cx="370440" cy="192600"/>
            </a:xfrm>
            <a:custGeom>
              <a:avLst/>
              <a:gdLst>
                <a:gd name="textAreaLeft" fmla="*/ 0 w 370440"/>
                <a:gd name="textAreaRight" fmla="*/ 370800 w 370440"/>
                <a:gd name="textAreaTop" fmla="*/ 0 h 192600"/>
                <a:gd name="textAreaBottom" fmla="*/ 192960 h 192600"/>
              </a:gdLst>
              <a:ahLst/>
              <a:rect l="textAreaLeft" t="textAreaTop" r="textAreaRight" b="textAreaBottom"/>
              <a:pathLst>
                <a:path w="370582" h="192547">
                  <a:moveTo>
                    <a:pt x="99901" y="11163"/>
                  </a:moveTo>
                  <a:lnTo>
                    <a:pt x="102692" y="11163"/>
                  </a:lnTo>
                  <a:lnTo>
                    <a:pt x="107157" y="10604"/>
                  </a:lnTo>
                  <a:lnTo>
                    <a:pt x="110505" y="10604"/>
                  </a:lnTo>
                  <a:lnTo>
                    <a:pt x="108831" y="11163"/>
                  </a:lnTo>
                  <a:lnTo>
                    <a:pt x="99901" y="13395"/>
                  </a:lnTo>
                  <a:lnTo>
                    <a:pt x="84832" y="16744"/>
                  </a:lnTo>
                  <a:lnTo>
                    <a:pt x="70880" y="19534"/>
                  </a:lnTo>
                  <a:lnTo>
                    <a:pt x="64183" y="20092"/>
                  </a:lnTo>
                  <a:lnTo>
                    <a:pt x="68647" y="17302"/>
                  </a:lnTo>
                  <a:lnTo>
                    <a:pt x="80368" y="11163"/>
                  </a:lnTo>
                  <a:lnTo>
                    <a:pt x="93204" y="5581"/>
                  </a:lnTo>
                  <a:lnTo>
                    <a:pt x="99901" y="2233"/>
                  </a:lnTo>
                  <a:lnTo>
                    <a:pt x="99343" y="2791"/>
                  </a:lnTo>
                  <a:lnTo>
                    <a:pt x="94320" y="5023"/>
                  </a:lnTo>
                  <a:lnTo>
                    <a:pt x="82042" y="11163"/>
                  </a:lnTo>
                  <a:lnTo>
                    <a:pt x="74787" y="15069"/>
                  </a:lnTo>
                  <a:lnTo>
                    <a:pt x="64183" y="20092"/>
                  </a:lnTo>
                  <a:lnTo>
                    <a:pt x="54695" y="25673"/>
                  </a:lnTo>
                  <a:lnTo>
                    <a:pt x="41858" y="31812"/>
                  </a:lnTo>
                  <a:lnTo>
                    <a:pt x="29580" y="39068"/>
                  </a:lnTo>
                  <a:lnTo>
                    <a:pt x="19534" y="46881"/>
                  </a:lnTo>
                  <a:lnTo>
                    <a:pt x="8372" y="64183"/>
                  </a:lnTo>
                  <a:lnTo>
                    <a:pt x="1675" y="82600"/>
                  </a:lnTo>
                  <a:lnTo>
                    <a:pt x="0" y="101576"/>
                  </a:lnTo>
                  <a:lnTo>
                    <a:pt x="1675" y="118319"/>
                  </a:lnTo>
                  <a:lnTo>
                    <a:pt x="10604" y="145108"/>
                  </a:lnTo>
                  <a:lnTo>
                    <a:pt x="28464" y="162967"/>
                  </a:lnTo>
                  <a:lnTo>
                    <a:pt x="39626" y="169106"/>
                  </a:lnTo>
                  <a:lnTo>
                    <a:pt x="46323" y="171339"/>
                  </a:lnTo>
                  <a:lnTo>
                    <a:pt x="55253" y="171897"/>
                  </a:lnTo>
                  <a:lnTo>
                    <a:pt x="69206" y="171339"/>
                  </a:lnTo>
                  <a:lnTo>
                    <a:pt x="86507" y="169664"/>
                  </a:lnTo>
                  <a:lnTo>
                    <a:pt x="103808" y="166874"/>
                  </a:lnTo>
                  <a:lnTo>
                    <a:pt x="117761" y="162967"/>
                  </a:lnTo>
                  <a:lnTo>
                    <a:pt x="127248" y="157944"/>
                  </a:lnTo>
                  <a:lnTo>
                    <a:pt x="133946" y="151247"/>
                  </a:lnTo>
                  <a:lnTo>
                    <a:pt x="144550" y="136178"/>
                  </a:lnTo>
                  <a:lnTo>
                    <a:pt x="154596" y="118319"/>
                  </a:lnTo>
                  <a:lnTo>
                    <a:pt x="162409" y="100459"/>
                  </a:lnTo>
                  <a:lnTo>
                    <a:pt x="171339" y="73670"/>
                  </a:lnTo>
                  <a:lnTo>
                    <a:pt x="171897" y="61950"/>
                  </a:lnTo>
                  <a:lnTo>
                    <a:pt x="171339" y="57485"/>
                  </a:lnTo>
                  <a:lnTo>
                    <a:pt x="171339" y="55811"/>
                  </a:lnTo>
                  <a:lnTo>
                    <a:pt x="171339" y="57485"/>
                  </a:lnTo>
                  <a:lnTo>
                    <a:pt x="170781" y="61950"/>
                  </a:lnTo>
                  <a:lnTo>
                    <a:pt x="171339" y="73670"/>
                  </a:lnTo>
                  <a:lnTo>
                    <a:pt x="174687" y="84832"/>
                  </a:lnTo>
                  <a:lnTo>
                    <a:pt x="180269" y="100459"/>
                  </a:lnTo>
                  <a:lnTo>
                    <a:pt x="183617" y="112180"/>
                  </a:lnTo>
                  <a:lnTo>
                    <a:pt x="186966" y="126690"/>
                  </a:lnTo>
                  <a:lnTo>
                    <a:pt x="191989" y="141201"/>
                  </a:lnTo>
                  <a:lnTo>
                    <a:pt x="198128" y="154038"/>
                  </a:lnTo>
                  <a:lnTo>
                    <a:pt x="218778" y="175246"/>
                  </a:lnTo>
                  <a:lnTo>
                    <a:pt x="231056" y="184175"/>
                  </a:lnTo>
                  <a:lnTo>
                    <a:pt x="242776" y="189756"/>
                  </a:lnTo>
                  <a:lnTo>
                    <a:pt x="254497" y="192547"/>
                  </a:lnTo>
                  <a:lnTo>
                    <a:pt x="265659" y="192547"/>
                  </a:lnTo>
                  <a:lnTo>
                    <a:pt x="287425" y="189756"/>
                  </a:lnTo>
                  <a:lnTo>
                    <a:pt x="306400" y="186966"/>
                  </a:lnTo>
                  <a:lnTo>
                    <a:pt x="323144" y="180827"/>
                  </a:lnTo>
                  <a:lnTo>
                    <a:pt x="337654" y="170223"/>
                  </a:lnTo>
                  <a:lnTo>
                    <a:pt x="349933" y="154038"/>
                  </a:lnTo>
                  <a:lnTo>
                    <a:pt x="360537" y="132271"/>
                  </a:lnTo>
                  <a:lnTo>
                    <a:pt x="367792" y="109389"/>
                  </a:lnTo>
                  <a:lnTo>
                    <a:pt x="370582" y="91530"/>
                  </a:lnTo>
                  <a:lnTo>
                    <a:pt x="367792" y="73670"/>
                  </a:lnTo>
                  <a:lnTo>
                    <a:pt x="361095" y="50788"/>
                  </a:lnTo>
                  <a:lnTo>
                    <a:pt x="349933" y="29022"/>
                  </a:lnTo>
                  <a:lnTo>
                    <a:pt x="333189" y="12837"/>
                  </a:lnTo>
                  <a:lnTo>
                    <a:pt x="314214" y="2233"/>
                  </a:lnTo>
                  <a:lnTo>
                    <a:pt x="297471" y="0"/>
                  </a:lnTo>
                  <a:lnTo>
                    <a:pt x="278495" y="2233"/>
                  </a:lnTo>
                  <a:lnTo>
                    <a:pt x="266217" y="3907"/>
                  </a:lnTo>
                  <a:lnTo>
                    <a:pt x="251706" y="5581"/>
                  </a:lnTo>
                  <a:lnTo>
                    <a:pt x="224917" y="11163"/>
                  </a:lnTo>
                  <a:lnTo>
                    <a:pt x="206499" y="17860"/>
                  </a:lnTo>
                  <a:lnTo>
                    <a:pt x="189198" y="29022"/>
                  </a:lnTo>
                  <a:lnTo>
                    <a:pt x="169664" y="49672"/>
                  </a:lnTo>
                  <a:lnTo>
                    <a:pt x="153479" y="73670"/>
                  </a:lnTo>
                  <a:lnTo>
                    <a:pt x="146782" y="96553"/>
                  </a:lnTo>
                  <a:lnTo>
                    <a:pt x="144550" y="118319"/>
                  </a:lnTo>
                  <a:lnTo>
                    <a:pt x="142875" y="138411"/>
                  </a:lnTo>
                  <a:lnTo>
                    <a:pt x="144550" y="154038"/>
                  </a:lnTo>
                  <a:lnTo>
                    <a:pt x="153479" y="161293"/>
                  </a:lnTo>
                  <a:lnTo>
                    <a:pt x="162409" y="16296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1" name="39858700-3a91-4162-8f04-588b26b2cea1"/>
            <p:cNvSpPr/>
            <p:nvPr/>
          </p:nvSpPr>
          <p:spPr>
            <a:xfrm>
              <a:off x="8036640" y="3322080"/>
              <a:ext cx="749880" cy="189720"/>
            </a:xfrm>
            <a:custGeom>
              <a:avLst/>
              <a:gdLst>
                <a:gd name="textAreaLeft" fmla="*/ 0 w 749880"/>
                <a:gd name="textAreaRight" fmla="*/ 750240 w 749880"/>
                <a:gd name="textAreaTop" fmla="*/ 0 h 189720"/>
                <a:gd name="textAreaBottom" fmla="*/ 190080 h 189720"/>
              </a:gdLst>
              <a:ahLst/>
              <a:rect l="textAreaLeft" t="textAreaTop" r="textAreaRight" b="textAreaBottom"/>
              <a:pathLst>
                <a:path w="750094" h="189756">
                  <a:moveTo>
                    <a:pt x="0" y="64740"/>
                  </a:moveTo>
                  <a:lnTo>
                    <a:pt x="3349" y="56369"/>
                  </a:lnTo>
                  <a:lnTo>
                    <a:pt x="8930" y="46881"/>
                  </a:lnTo>
                  <a:lnTo>
                    <a:pt x="14511" y="43532"/>
                  </a:lnTo>
                  <a:lnTo>
                    <a:pt x="18975" y="41858"/>
                  </a:lnTo>
                  <a:lnTo>
                    <a:pt x="26789" y="37951"/>
                  </a:lnTo>
                  <a:lnTo>
                    <a:pt x="40183" y="30138"/>
                  </a:lnTo>
                  <a:lnTo>
                    <a:pt x="56927" y="19534"/>
                  </a:lnTo>
                  <a:lnTo>
                    <a:pt x="74786" y="9488"/>
                  </a:lnTo>
                  <a:lnTo>
                    <a:pt x="89297" y="2232"/>
                  </a:lnTo>
                  <a:lnTo>
                    <a:pt x="100459" y="0"/>
                  </a:lnTo>
                  <a:lnTo>
                    <a:pt x="108830" y="0"/>
                  </a:lnTo>
                  <a:lnTo>
                    <a:pt x="125016" y="2232"/>
                  </a:lnTo>
                  <a:lnTo>
                    <a:pt x="144549" y="5581"/>
                  </a:lnTo>
                  <a:lnTo>
                    <a:pt x="160734" y="11162"/>
                  </a:lnTo>
                  <a:lnTo>
                    <a:pt x="165199" y="14511"/>
                  </a:lnTo>
                  <a:lnTo>
                    <a:pt x="166873" y="18417"/>
                  </a:lnTo>
                  <a:lnTo>
                    <a:pt x="169664" y="29022"/>
                  </a:lnTo>
                  <a:lnTo>
                    <a:pt x="175245" y="45765"/>
                  </a:lnTo>
                  <a:lnTo>
                    <a:pt x="178594" y="64740"/>
                  </a:lnTo>
                  <a:lnTo>
                    <a:pt x="178594" y="82600"/>
                  </a:lnTo>
                  <a:lnTo>
                    <a:pt x="178594" y="100459"/>
                  </a:lnTo>
                  <a:lnTo>
                    <a:pt x="182500" y="119435"/>
                  </a:lnTo>
                  <a:lnTo>
                    <a:pt x="187523" y="136178"/>
                  </a:lnTo>
                  <a:lnTo>
                    <a:pt x="191430" y="150688"/>
                  </a:lnTo>
                  <a:lnTo>
                    <a:pt x="196453" y="162967"/>
                  </a:lnTo>
                  <a:lnTo>
                    <a:pt x="209289" y="173013"/>
                  </a:lnTo>
                  <a:lnTo>
                    <a:pt x="223242" y="180826"/>
                  </a:lnTo>
                  <a:lnTo>
                    <a:pt x="227707" y="184175"/>
                  </a:lnTo>
                  <a:lnTo>
                    <a:pt x="229939" y="187523"/>
                  </a:lnTo>
                  <a:lnTo>
                    <a:pt x="233846" y="189756"/>
                  </a:lnTo>
                  <a:lnTo>
                    <a:pt x="241101" y="189756"/>
                  </a:lnTo>
                  <a:lnTo>
                    <a:pt x="254496" y="187523"/>
                  </a:lnTo>
                  <a:lnTo>
                    <a:pt x="271797" y="183617"/>
                  </a:lnTo>
                  <a:lnTo>
                    <a:pt x="289657" y="178036"/>
                  </a:lnTo>
                  <a:lnTo>
                    <a:pt x="303609" y="171897"/>
                  </a:lnTo>
                  <a:lnTo>
                    <a:pt x="313097" y="164083"/>
                  </a:lnTo>
                  <a:lnTo>
                    <a:pt x="319794" y="154595"/>
                  </a:lnTo>
                  <a:lnTo>
                    <a:pt x="330398" y="136178"/>
                  </a:lnTo>
                  <a:lnTo>
                    <a:pt x="340444" y="122783"/>
                  </a:lnTo>
                  <a:lnTo>
                    <a:pt x="348258" y="109389"/>
                  </a:lnTo>
                  <a:lnTo>
                    <a:pt x="357745" y="91529"/>
                  </a:lnTo>
                  <a:lnTo>
                    <a:pt x="366117" y="73670"/>
                  </a:lnTo>
                  <a:lnTo>
                    <a:pt x="370024" y="58601"/>
                  </a:lnTo>
                  <a:lnTo>
                    <a:pt x="375047" y="46881"/>
                  </a:lnTo>
                  <a:lnTo>
                    <a:pt x="386767" y="40742"/>
                  </a:lnTo>
                  <a:lnTo>
                    <a:pt x="401836" y="37951"/>
                  </a:lnTo>
                  <a:lnTo>
                    <a:pt x="418021" y="35719"/>
                  </a:lnTo>
                  <a:lnTo>
                    <a:pt x="427509" y="35719"/>
                  </a:lnTo>
                  <a:lnTo>
                    <a:pt x="437555" y="37951"/>
                  </a:lnTo>
                  <a:lnTo>
                    <a:pt x="450391" y="44648"/>
                  </a:lnTo>
                  <a:lnTo>
                    <a:pt x="465460" y="54136"/>
                  </a:lnTo>
                  <a:lnTo>
                    <a:pt x="479971" y="64740"/>
                  </a:lnTo>
                  <a:lnTo>
                    <a:pt x="491133" y="73670"/>
                  </a:lnTo>
                  <a:lnTo>
                    <a:pt x="498946" y="80925"/>
                  </a:lnTo>
                  <a:lnTo>
                    <a:pt x="503411" y="87623"/>
                  </a:lnTo>
                  <a:lnTo>
                    <a:pt x="508992" y="100459"/>
                  </a:lnTo>
                  <a:lnTo>
                    <a:pt x="510666" y="113295"/>
                  </a:lnTo>
                  <a:lnTo>
                    <a:pt x="508992" y="127248"/>
                  </a:lnTo>
                  <a:lnTo>
                    <a:pt x="505643" y="145666"/>
                  </a:lnTo>
                  <a:lnTo>
                    <a:pt x="500062" y="162967"/>
                  </a:lnTo>
                  <a:lnTo>
                    <a:pt x="495039" y="169106"/>
                  </a:lnTo>
                  <a:lnTo>
                    <a:pt x="488900" y="174687"/>
                  </a:lnTo>
                  <a:lnTo>
                    <a:pt x="483877" y="178594"/>
                  </a:lnTo>
                  <a:lnTo>
                    <a:pt x="482203" y="180826"/>
                  </a:lnTo>
                  <a:lnTo>
                    <a:pt x="485552" y="180268"/>
                  </a:lnTo>
                  <a:lnTo>
                    <a:pt x="491691" y="177478"/>
                  </a:lnTo>
                  <a:lnTo>
                    <a:pt x="508992" y="171897"/>
                  </a:lnTo>
                  <a:lnTo>
                    <a:pt x="529084" y="171338"/>
                  </a:lnTo>
                  <a:lnTo>
                    <a:pt x="553641" y="171897"/>
                  </a:lnTo>
                  <a:lnTo>
                    <a:pt x="570384" y="173571"/>
                  </a:lnTo>
                  <a:lnTo>
                    <a:pt x="589359" y="176361"/>
                  </a:lnTo>
                  <a:lnTo>
                    <a:pt x="608893" y="179152"/>
                  </a:lnTo>
                  <a:lnTo>
                    <a:pt x="625078" y="180826"/>
                  </a:lnTo>
                  <a:lnTo>
                    <a:pt x="649635" y="182501"/>
                  </a:lnTo>
                  <a:lnTo>
                    <a:pt x="669726" y="180826"/>
                  </a:lnTo>
                  <a:lnTo>
                    <a:pt x="688702" y="173013"/>
                  </a:lnTo>
                  <a:lnTo>
                    <a:pt x="705445" y="162967"/>
                  </a:lnTo>
                  <a:lnTo>
                    <a:pt x="720514" y="154037"/>
                  </a:lnTo>
                  <a:lnTo>
                    <a:pt x="732234" y="145107"/>
                  </a:lnTo>
                  <a:lnTo>
                    <a:pt x="737815" y="137294"/>
                  </a:lnTo>
                  <a:lnTo>
                    <a:pt x="741164" y="127248"/>
                  </a:lnTo>
                  <a:lnTo>
                    <a:pt x="746745" y="114970"/>
                  </a:lnTo>
                  <a:lnTo>
                    <a:pt x="750094" y="100459"/>
                  </a:lnTo>
                  <a:lnTo>
                    <a:pt x="747861" y="82042"/>
                  </a:lnTo>
                  <a:lnTo>
                    <a:pt x="741164" y="64740"/>
                  </a:lnTo>
                  <a:lnTo>
                    <a:pt x="728886" y="54136"/>
                  </a:lnTo>
                  <a:lnTo>
                    <a:pt x="714375" y="46881"/>
                  </a:lnTo>
                  <a:lnTo>
                    <a:pt x="703213" y="40742"/>
                  </a:lnTo>
                  <a:lnTo>
                    <a:pt x="697074" y="38509"/>
                  </a:lnTo>
                  <a:lnTo>
                    <a:pt x="687586" y="37951"/>
                  </a:lnTo>
                  <a:lnTo>
                    <a:pt x="674191" y="38509"/>
                  </a:lnTo>
                  <a:lnTo>
                    <a:pt x="657448" y="40184"/>
                  </a:lnTo>
                  <a:lnTo>
                    <a:pt x="640147" y="42974"/>
                  </a:lnTo>
                  <a:lnTo>
                    <a:pt x="625078" y="46881"/>
                  </a:lnTo>
                  <a:lnTo>
                    <a:pt x="600521" y="58043"/>
                  </a:lnTo>
                  <a:lnTo>
                    <a:pt x="580430" y="73670"/>
                  </a:lnTo>
                  <a:lnTo>
                    <a:pt x="565361" y="95436"/>
                  </a:lnTo>
                  <a:lnTo>
                    <a:pt x="553641" y="118318"/>
                  </a:lnTo>
                  <a:lnTo>
                    <a:pt x="543595" y="137852"/>
                  </a:lnTo>
                  <a:lnTo>
                    <a:pt x="535781" y="154037"/>
                  </a:lnTo>
                  <a:lnTo>
                    <a:pt x="530200" y="165199"/>
                  </a:lnTo>
                  <a:lnTo>
                    <a:pt x="526851" y="17189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2" name="e9700a1c-919e-47c7-92aa-cc05e5452bab"/>
            <p:cNvSpPr/>
            <p:nvPr/>
          </p:nvSpPr>
          <p:spPr>
            <a:xfrm>
              <a:off x="6891840" y="3726000"/>
              <a:ext cx="172800" cy="223200"/>
            </a:xfrm>
            <a:custGeom>
              <a:avLst/>
              <a:gdLst>
                <a:gd name="textAreaLeft" fmla="*/ 0 w 172800"/>
                <a:gd name="textAreaRight" fmla="*/ 173160 w 172800"/>
                <a:gd name="textAreaTop" fmla="*/ 0 h 223200"/>
                <a:gd name="textAreaBottom" fmla="*/ 223560 h 223200"/>
              </a:gdLst>
              <a:ahLst/>
              <a:rect l="textAreaLeft" t="textAreaTop" r="textAreaRight" b="textAreaBottom"/>
              <a:pathLst>
                <a:path w="173012" h="223243">
                  <a:moveTo>
                    <a:pt x="37393" y="17860"/>
                  </a:moveTo>
                  <a:lnTo>
                    <a:pt x="37951" y="20650"/>
                  </a:lnTo>
                  <a:lnTo>
                    <a:pt x="37393" y="26789"/>
                  </a:lnTo>
                  <a:lnTo>
                    <a:pt x="34044" y="36277"/>
                  </a:lnTo>
                  <a:lnTo>
                    <a:pt x="31812" y="43533"/>
                  </a:lnTo>
                  <a:lnTo>
                    <a:pt x="28463" y="53579"/>
                  </a:lnTo>
                  <a:lnTo>
                    <a:pt x="23998" y="69205"/>
                  </a:lnTo>
                  <a:lnTo>
                    <a:pt x="18417" y="88739"/>
                  </a:lnTo>
                  <a:lnTo>
                    <a:pt x="13394" y="108273"/>
                  </a:lnTo>
                  <a:lnTo>
                    <a:pt x="10604" y="125016"/>
                  </a:lnTo>
                  <a:lnTo>
                    <a:pt x="12836" y="149573"/>
                  </a:lnTo>
                  <a:lnTo>
                    <a:pt x="19533" y="169664"/>
                  </a:lnTo>
                  <a:lnTo>
                    <a:pt x="27347" y="189756"/>
                  </a:lnTo>
                  <a:lnTo>
                    <a:pt x="37393" y="205383"/>
                  </a:lnTo>
                  <a:lnTo>
                    <a:pt x="43532" y="209848"/>
                  </a:lnTo>
                  <a:lnTo>
                    <a:pt x="50229" y="211522"/>
                  </a:lnTo>
                  <a:lnTo>
                    <a:pt x="64182" y="214313"/>
                  </a:lnTo>
                  <a:lnTo>
                    <a:pt x="82041" y="219894"/>
                  </a:lnTo>
                  <a:lnTo>
                    <a:pt x="99900" y="223243"/>
                  </a:lnTo>
                  <a:lnTo>
                    <a:pt x="113295" y="220452"/>
                  </a:lnTo>
                  <a:lnTo>
                    <a:pt x="126690" y="214313"/>
                  </a:lnTo>
                  <a:lnTo>
                    <a:pt x="145665" y="207616"/>
                  </a:lnTo>
                  <a:lnTo>
                    <a:pt x="155153" y="203151"/>
                  </a:lnTo>
                  <a:lnTo>
                    <a:pt x="162408" y="196454"/>
                  </a:lnTo>
                  <a:lnTo>
                    <a:pt x="169664" y="176920"/>
                  </a:lnTo>
                  <a:lnTo>
                    <a:pt x="171338" y="151805"/>
                  </a:lnTo>
                  <a:lnTo>
                    <a:pt x="173012" y="120551"/>
                  </a:lnTo>
                  <a:lnTo>
                    <a:pt x="171338" y="89297"/>
                  </a:lnTo>
                  <a:lnTo>
                    <a:pt x="163524" y="65299"/>
                  </a:lnTo>
                  <a:lnTo>
                    <a:pt x="153479" y="44649"/>
                  </a:lnTo>
                  <a:lnTo>
                    <a:pt x="145665" y="24557"/>
                  </a:lnTo>
                  <a:lnTo>
                    <a:pt x="135619" y="8930"/>
                  </a:lnTo>
                  <a:lnTo>
                    <a:pt x="119434" y="1675"/>
                  </a:lnTo>
                  <a:lnTo>
                    <a:pt x="99900" y="0"/>
                  </a:lnTo>
                  <a:lnTo>
                    <a:pt x="77018" y="2233"/>
                  </a:lnTo>
                  <a:lnTo>
                    <a:pt x="55252" y="8930"/>
                  </a:lnTo>
                  <a:lnTo>
                    <a:pt x="40741" y="19534"/>
                  </a:lnTo>
                  <a:lnTo>
                    <a:pt x="28463" y="35719"/>
                  </a:lnTo>
                  <a:lnTo>
                    <a:pt x="21208" y="47439"/>
                  </a:lnTo>
                  <a:lnTo>
                    <a:pt x="13394" y="61392"/>
                  </a:lnTo>
                  <a:lnTo>
                    <a:pt x="1674" y="89297"/>
                  </a:lnTo>
                  <a:lnTo>
                    <a:pt x="0" y="114970"/>
                  </a:lnTo>
                  <a:lnTo>
                    <a:pt x="1116" y="126132"/>
                  </a:lnTo>
                  <a:lnTo>
                    <a:pt x="1674" y="13394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3" name="28005956-349a-4aa5-bdf7-04eb9ddb62e6"/>
            <p:cNvSpPr/>
            <p:nvPr/>
          </p:nvSpPr>
          <p:spPr>
            <a:xfrm>
              <a:off x="7063200" y="3574440"/>
              <a:ext cx="1125000" cy="360000"/>
            </a:xfrm>
            <a:custGeom>
              <a:avLst/>
              <a:gdLst>
                <a:gd name="textAreaLeft" fmla="*/ 0 w 1125000"/>
                <a:gd name="textAreaRight" fmla="*/ 1125360 w 1125000"/>
                <a:gd name="textAreaTop" fmla="*/ 0 h 360000"/>
                <a:gd name="textAreaBottom" fmla="*/ 360360 h 360000"/>
              </a:gdLst>
              <a:ahLst/>
              <a:rect l="textAreaLeft" t="textAreaTop" r="textAreaRight" b="textAreaBottom"/>
              <a:pathLst>
                <a:path w="1125141" h="359978">
                  <a:moveTo>
                    <a:pt x="0" y="0"/>
                  </a:moveTo>
                  <a:lnTo>
                    <a:pt x="0" y="0"/>
                  </a:lnTo>
                  <a:lnTo>
                    <a:pt x="0" y="2232"/>
                  </a:lnTo>
                  <a:lnTo>
                    <a:pt x="0" y="8929"/>
                  </a:lnTo>
                  <a:lnTo>
                    <a:pt x="0" y="22324"/>
                  </a:lnTo>
                  <a:lnTo>
                    <a:pt x="0" y="40741"/>
                  </a:lnTo>
                  <a:lnTo>
                    <a:pt x="0" y="61391"/>
                  </a:lnTo>
                  <a:lnTo>
                    <a:pt x="0" y="80367"/>
                  </a:lnTo>
                  <a:lnTo>
                    <a:pt x="0" y="151804"/>
                  </a:lnTo>
                  <a:lnTo>
                    <a:pt x="3349" y="188639"/>
                  </a:lnTo>
                  <a:lnTo>
                    <a:pt x="8930" y="223242"/>
                  </a:lnTo>
                  <a:lnTo>
                    <a:pt x="17301" y="251705"/>
                  </a:lnTo>
                  <a:lnTo>
                    <a:pt x="26789" y="276820"/>
                  </a:lnTo>
                  <a:lnTo>
                    <a:pt x="35719" y="300819"/>
                  </a:lnTo>
                  <a:lnTo>
                    <a:pt x="44648" y="321468"/>
                  </a:lnTo>
                  <a:lnTo>
                    <a:pt x="53578" y="337653"/>
                  </a:lnTo>
                  <a:lnTo>
                    <a:pt x="62508" y="348258"/>
                  </a:lnTo>
                  <a:lnTo>
                    <a:pt x="70879" y="355513"/>
                  </a:lnTo>
                  <a:lnTo>
                    <a:pt x="80367" y="357187"/>
                  </a:lnTo>
                  <a:lnTo>
                    <a:pt x="93204" y="352722"/>
                  </a:lnTo>
                  <a:lnTo>
                    <a:pt x="99901" y="347699"/>
                  </a:lnTo>
                  <a:lnTo>
                    <a:pt x="107156" y="339328"/>
                  </a:lnTo>
                  <a:lnTo>
                    <a:pt x="116086" y="326491"/>
                  </a:lnTo>
                  <a:lnTo>
                    <a:pt x="125574" y="309748"/>
                  </a:lnTo>
                  <a:lnTo>
                    <a:pt x="135061" y="292447"/>
                  </a:lnTo>
                  <a:lnTo>
                    <a:pt x="142875" y="276820"/>
                  </a:lnTo>
                  <a:lnTo>
                    <a:pt x="154037" y="253380"/>
                  </a:lnTo>
                  <a:lnTo>
                    <a:pt x="160734" y="232172"/>
                  </a:lnTo>
                  <a:lnTo>
                    <a:pt x="161851" y="218777"/>
                  </a:lnTo>
                  <a:lnTo>
                    <a:pt x="160734" y="204266"/>
                  </a:lnTo>
                  <a:lnTo>
                    <a:pt x="160176" y="191988"/>
                  </a:lnTo>
                  <a:lnTo>
                    <a:pt x="160734" y="187523"/>
                  </a:lnTo>
                  <a:lnTo>
                    <a:pt x="164083" y="194220"/>
                  </a:lnTo>
                  <a:lnTo>
                    <a:pt x="169106" y="208731"/>
                  </a:lnTo>
                  <a:lnTo>
                    <a:pt x="174129" y="226032"/>
                  </a:lnTo>
                  <a:lnTo>
                    <a:pt x="178594" y="241101"/>
                  </a:lnTo>
                  <a:lnTo>
                    <a:pt x="183617" y="264542"/>
                  </a:lnTo>
                  <a:lnTo>
                    <a:pt x="187523" y="285750"/>
                  </a:lnTo>
                  <a:lnTo>
                    <a:pt x="190314" y="305841"/>
                  </a:lnTo>
                  <a:lnTo>
                    <a:pt x="196453" y="321468"/>
                  </a:lnTo>
                  <a:lnTo>
                    <a:pt x="204267" y="325933"/>
                  </a:lnTo>
                  <a:lnTo>
                    <a:pt x="213754" y="328724"/>
                  </a:lnTo>
                  <a:lnTo>
                    <a:pt x="223800" y="329840"/>
                  </a:lnTo>
                  <a:lnTo>
                    <a:pt x="232172" y="330398"/>
                  </a:lnTo>
                  <a:lnTo>
                    <a:pt x="237195" y="332631"/>
                  </a:lnTo>
                  <a:lnTo>
                    <a:pt x="240543" y="334305"/>
                  </a:lnTo>
                  <a:lnTo>
                    <a:pt x="244450" y="334305"/>
                  </a:lnTo>
                  <a:lnTo>
                    <a:pt x="250031" y="330398"/>
                  </a:lnTo>
                  <a:lnTo>
                    <a:pt x="260077" y="320352"/>
                  </a:lnTo>
                  <a:lnTo>
                    <a:pt x="271797" y="306400"/>
                  </a:lnTo>
                  <a:lnTo>
                    <a:pt x="284076" y="290773"/>
                  </a:lnTo>
                  <a:lnTo>
                    <a:pt x="294680" y="276820"/>
                  </a:lnTo>
                  <a:lnTo>
                    <a:pt x="309190" y="253938"/>
                  </a:lnTo>
                  <a:lnTo>
                    <a:pt x="321469" y="232172"/>
                  </a:lnTo>
                  <a:lnTo>
                    <a:pt x="334863" y="208173"/>
                  </a:lnTo>
                  <a:lnTo>
                    <a:pt x="348258" y="187523"/>
                  </a:lnTo>
                  <a:lnTo>
                    <a:pt x="361652" y="176361"/>
                  </a:lnTo>
                  <a:lnTo>
                    <a:pt x="375047" y="169664"/>
                  </a:lnTo>
                  <a:lnTo>
                    <a:pt x="388999" y="163525"/>
                  </a:lnTo>
                  <a:lnTo>
                    <a:pt x="401836" y="160734"/>
                  </a:lnTo>
                  <a:lnTo>
                    <a:pt x="411882" y="163525"/>
                  </a:lnTo>
                  <a:lnTo>
                    <a:pt x="419695" y="169664"/>
                  </a:lnTo>
                  <a:lnTo>
                    <a:pt x="428625" y="176919"/>
                  </a:lnTo>
                  <a:lnTo>
                    <a:pt x="437555" y="187523"/>
                  </a:lnTo>
                  <a:lnTo>
                    <a:pt x="445926" y="202592"/>
                  </a:lnTo>
                  <a:lnTo>
                    <a:pt x="455414" y="223242"/>
                  </a:lnTo>
                  <a:lnTo>
                    <a:pt x="462111" y="238311"/>
                  </a:lnTo>
                  <a:lnTo>
                    <a:pt x="468809" y="256170"/>
                  </a:lnTo>
                  <a:lnTo>
                    <a:pt x="476064" y="273471"/>
                  </a:lnTo>
                  <a:lnTo>
                    <a:pt x="482203" y="285750"/>
                  </a:lnTo>
                  <a:lnTo>
                    <a:pt x="487226" y="291889"/>
                  </a:lnTo>
                  <a:lnTo>
                    <a:pt x="490575" y="293005"/>
                  </a:lnTo>
                  <a:lnTo>
                    <a:pt x="494481" y="293005"/>
                  </a:lnTo>
                  <a:lnTo>
                    <a:pt x="500062" y="294679"/>
                  </a:lnTo>
                  <a:lnTo>
                    <a:pt x="517922" y="304725"/>
                  </a:lnTo>
                  <a:lnTo>
                    <a:pt x="527968" y="309748"/>
                  </a:lnTo>
                  <a:lnTo>
                    <a:pt x="535781" y="312539"/>
                  </a:lnTo>
                  <a:lnTo>
                    <a:pt x="545827" y="310306"/>
                  </a:lnTo>
                  <a:lnTo>
                    <a:pt x="553641" y="303609"/>
                  </a:lnTo>
                  <a:lnTo>
                    <a:pt x="562570" y="296354"/>
                  </a:lnTo>
                  <a:lnTo>
                    <a:pt x="571500" y="285750"/>
                  </a:lnTo>
                  <a:lnTo>
                    <a:pt x="580988" y="269007"/>
                  </a:lnTo>
                  <a:lnTo>
                    <a:pt x="589359" y="250031"/>
                  </a:lnTo>
                  <a:lnTo>
                    <a:pt x="594940" y="231613"/>
                  </a:lnTo>
                  <a:lnTo>
                    <a:pt x="598289" y="214312"/>
                  </a:lnTo>
                  <a:lnTo>
                    <a:pt x="598289" y="187523"/>
                  </a:lnTo>
                  <a:lnTo>
                    <a:pt x="594940" y="174687"/>
                  </a:lnTo>
                  <a:lnTo>
                    <a:pt x="592708" y="170222"/>
                  </a:lnTo>
                  <a:lnTo>
                    <a:pt x="589359" y="169664"/>
                  </a:lnTo>
                  <a:lnTo>
                    <a:pt x="585453" y="174687"/>
                  </a:lnTo>
                  <a:lnTo>
                    <a:pt x="580430" y="183616"/>
                  </a:lnTo>
                  <a:lnTo>
                    <a:pt x="571500" y="205383"/>
                  </a:lnTo>
                  <a:lnTo>
                    <a:pt x="564803" y="232172"/>
                  </a:lnTo>
                  <a:lnTo>
                    <a:pt x="563128" y="246682"/>
                  </a:lnTo>
                  <a:lnTo>
                    <a:pt x="562570" y="258961"/>
                  </a:lnTo>
                  <a:lnTo>
                    <a:pt x="569826" y="278494"/>
                  </a:lnTo>
                  <a:lnTo>
                    <a:pt x="580430" y="294679"/>
                  </a:lnTo>
                  <a:lnTo>
                    <a:pt x="589359" y="310306"/>
                  </a:lnTo>
                  <a:lnTo>
                    <a:pt x="598289" y="321468"/>
                  </a:lnTo>
                  <a:lnTo>
                    <a:pt x="606661" y="323143"/>
                  </a:lnTo>
                  <a:lnTo>
                    <a:pt x="616148" y="321468"/>
                  </a:lnTo>
                  <a:lnTo>
                    <a:pt x="628985" y="323143"/>
                  </a:lnTo>
                  <a:lnTo>
                    <a:pt x="642937" y="321468"/>
                  </a:lnTo>
                  <a:lnTo>
                    <a:pt x="656332" y="311423"/>
                  </a:lnTo>
                  <a:lnTo>
                    <a:pt x="669727" y="294679"/>
                  </a:lnTo>
                  <a:lnTo>
                    <a:pt x="684237" y="269565"/>
                  </a:lnTo>
                  <a:lnTo>
                    <a:pt x="696516" y="241101"/>
                  </a:lnTo>
                  <a:lnTo>
                    <a:pt x="702655" y="214312"/>
                  </a:lnTo>
                  <a:lnTo>
                    <a:pt x="705445" y="187523"/>
                  </a:lnTo>
                  <a:lnTo>
                    <a:pt x="706003" y="160176"/>
                  </a:lnTo>
                  <a:lnTo>
                    <a:pt x="705445" y="133945"/>
                  </a:lnTo>
                  <a:lnTo>
                    <a:pt x="705445" y="106598"/>
                  </a:lnTo>
                  <a:lnTo>
                    <a:pt x="705445" y="95436"/>
                  </a:lnTo>
                  <a:lnTo>
                    <a:pt x="705445" y="89297"/>
                  </a:lnTo>
                  <a:lnTo>
                    <a:pt x="705445" y="89855"/>
                  </a:lnTo>
                  <a:lnTo>
                    <a:pt x="704887" y="95436"/>
                  </a:lnTo>
                  <a:lnTo>
                    <a:pt x="704887" y="104924"/>
                  </a:lnTo>
                  <a:lnTo>
                    <a:pt x="705445" y="116086"/>
                  </a:lnTo>
                  <a:lnTo>
                    <a:pt x="707120" y="131154"/>
                  </a:lnTo>
                  <a:lnTo>
                    <a:pt x="708794" y="149572"/>
                  </a:lnTo>
                  <a:lnTo>
                    <a:pt x="711584" y="169106"/>
                  </a:lnTo>
                  <a:lnTo>
                    <a:pt x="714375" y="187523"/>
                  </a:lnTo>
                  <a:lnTo>
                    <a:pt x="732234" y="250031"/>
                  </a:lnTo>
                  <a:lnTo>
                    <a:pt x="745629" y="278494"/>
                  </a:lnTo>
                  <a:lnTo>
                    <a:pt x="759023" y="303609"/>
                  </a:lnTo>
                  <a:lnTo>
                    <a:pt x="769069" y="323701"/>
                  </a:lnTo>
                  <a:lnTo>
                    <a:pt x="776883" y="339328"/>
                  </a:lnTo>
                  <a:lnTo>
                    <a:pt x="785812" y="350490"/>
                  </a:lnTo>
                  <a:lnTo>
                    <a:pt x="794742" y="357187"/>
                  </a:lnTo>
                  <a:lnTo>
                    <a:pt x="803114" y="359978"/>
                  </a:lnTo>
                  <a:lnTo>
                    <a:pt x="812602" y="357187"/>
                  </a:lnTo>
                  <a:lnTo>
                    <a:pt x="825438" y="347699"/>
                  </a:lnTo>
                  <a:lnTo>
                    <a:pt x="839391" y="330398"/>
                  </a:lnTo>
                  <a:lnTo>
                    <a:pt x="846646" y="317562"/>
                  </a:lnTo>
                  <a:lnTo>
                    <a:pt x="853901" y="301935"/>
                  </a:lnTo>
                  <a:lnTo>
                    <a:pt x="866180" y="267890"/>
                  </a:lnTo>
                  <a:lnTo>
                    <a:pt x="872319" y="236078"/>
                  </a:lnTo>
                  <a:lnTo>
                    <a:pt x="875109" y="205383"/>
                  </a:lnTo>
                  <a:lnTo>
                    <a:pt x="875667" y="176361"/>
                  </a:lnTo>
                  <a:lnTo>
                    <a:pt x="875109" y="151804"/>
                  </a:lnTo>
                  <a:lnTo>
                    <a:pt x="875109" y="136177"/>
                  </a:lnTo>
                  <a:lnTo>
                    <a:pt x="875109" y="125015"/>
                  </a:lnTo>
                  <a:lnTo>
                    <a:pt x="875109" y="112179"/>
                  </a:lnTo>
                  <a:lnTo>
                    <a:pt x="875109" y="107714"/>
                  </a:lnTo>
                  <a:lnTo>
                    <a:pt x="875109" y="107156"/>
                  </a:lnTo>
                  <a:lnTo>
                    <a:pt x="875109" y="112179"/>
                  </a:lnTo>
                  <a:lnTo>
                    <a:pt x="875109" y="121109"/>
                  </a:lnTo>
                  <a:lnTo>
                    <a:pt x="875109" y="142875"/>
                  </a:lnTo>
                  <a:lnTo>
                    <a:pt x="874551" y="167989"/>
                  </a:lnTo>
                  <a:lnTo>
                    <a:pt x="875109" y="196453"/>
                  </a:lnTo>
                  <a:lnTo>
                    <a:pt x="878458" y="228265"/>
                  </a:lnTo>
                  <a:lnTo>
                    <a:pt x="884039" y="258961"/>
                  </a:lnTo>
                  <a:lnTo>
                    <a:pt x="892411" y="284075"/>
                  </a:lnTo>
                  <a:lnTo>
                    <a:pt x="901898" y="303609"/>
                  </a:lnTo>
                  <a:lnTo>
                    <a:pt x="910828" y="314771"/>
                  </a:lnTo>
                  <a:lnTo>
                    <a:pt x="919758" y="321468"/>
                  </a:lnTo>
                  <a:lnTo>
                    <a:pt x="937617" y="330398"/>
                  </a:lnTo>
                  <a:lnTo>
                    <a:pt x="945989" y="332072"/>
                  </a:lnTo>
                  <a:lnTo>
                    <a:pt x="955477" y="330398"/>
                  </a:lnTo>
                  <a:lnTo>
                    <a:pt x="968871" y="323143"/>
                  </a:lnTo>
                  <a:lnTo>
                    <a:pt x="982266" y="312539"/>
                  </a:lnTo>
                  <a:lnTo>
                    <a:pt x="992311" y="298028"/>
                  </a:lnTo>
                  <a:lnTo>
                    <a:pt x="996218" y="290773"/>
                  </a:lnTo>
                  <a:lnTo>
                    <a:pt x="1000125" y="285750"/>
                  </a:lnTo>
                  <a:lnTo>
                    <a:pt x="1009613" y="282401"/>
                  </a:lnTo>
                  <a:lnTo>
                    <a:pt x="1017984" y="285750"/>
                  </a:lnTo>
                  <a:lnTo>
                    <a:pt x="1020775" y="290773"/>
                  </a:lnTo>
                  <a:lnTo>
                    <a:pt x="1022449" y="298028"/>
                  </a:lnTo>
                  <a:lnTo>
                    <a:pt x="1026914" y="312539"/>
                  </a:lnTo>
                  <a:lnTo>
                    <a:pt x="1044773" y="330398"/>
                  </a:lnTo>
                  <a:lnTo>
                    <a:pt x="1058168" y="336537"/>
                  </a:lnTo>
                  <a:lnTo>
                    <a:pt x="1071562" y="339328"/>
                  </a:lnTo>
                  <a:lnTo>
                    <a:pt x="1081608" y="336537"/>
                  </a:lnTo>
                  <a:lnTo>
                    <a:pt x="1089422" y="330398"/>
                  </a:lnTo>
                  <a:lnTo>
                    <a:pt x="1098352" y="324817"/>
                  </a:lnTo>
                  <a:lnTo>
                    <a:pt x="1102816" y="320352"/>
                  </a:lnTo>
                  <a:lnTo>
                    <a:pt x="1107281" y="312539"/>
                  </a:lnTo>
                  <a:lnTo>
                    <a:pt x="1112862" y="299144"/>
                  </a:lnTo>
                  <a:lnTo>
                    <a:pt x="1118443" y="281843"/>
                  </a:lnTo>
                  <a:lnTo>
                    <a:pt x="1123466" y="264542"/>
                  </a:lnTo>
                  <a:lnTo>
                    <a:pt x="1125141" y="250031"/>
                  </a:lnTo>
                  <a:lnTo>
                    <a:pt x="1123466" y="241101"/>
                  </a:lnTo>
                  <a:lnTo>
                    <a:pt x="1119560" y="234404"/>
                  </a:lnTo>
                  <a:lnTo>
                    <a:pt x="1107281" y="223242"/>
                  </a:lnTo>
                  <a:lnTo>
                    <a:pt x="1091096" y="212638"/>
                  </a:lnTo>
                  <a:lnTo>
                    <a:pt x="1071562" y="205383"/>
                  </a:lnTo>
                  <a:lnTo>
                    <a:pt x="1049796" y="202592"/>
                  </a:lnTo>
                  <a:lnTo>
                    <a:pt x="1026914" y="205383"/>
                  </a:lnTo>
                  <a:lnTo>
                    <a:pt x="1004032" y="217103"/>
                  </a:lnTo>
                  <a:lnTo>
                    <a:pt x="982266" y="232172"/>
                  </a:lnTo>
                  <a:lnTo>
                    <a:pt x="962732" y="246682"/>
                  </a:lnTo>
                  <a:lnTo>
                    <a:pt x="946547" y="258961"/>
                  </a:lnTo>
                  <a:lnTo>
                    <a:pt x="936501" y="265100"/>
                  </a:lnTo>
                  <a:lnTo>
                    <a:pt x="928687" y="267890"/>
                  </a:lnTo>
                  <a:lnTo>
                    <a:pt x="919200" y="268448"/>
                  </a:lnTo>
                  <a:lnTo>
                    <a:pt x="910828" y="26789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4" name="683bec56-5318-4eb2-b0d0-79eb6aea5059"/>
            <p:cNvSpPr/>
            <p:nvPr/>
          </p:nvSpPr>
          <p:spPr>
            <a:xfrm>
              <a:off x="7750800" y="3699360"/>
              <a:ext cx="374760" cy="80280"/>
            </a:xfrm>
            <a:custGeom>
              <a:avLst/>
              <a:gdLst>
                <a:gd name="textAreaLeft" fmla="*/ 0 w 374760"/>
                <a:gd name="textAreaRight" fmla="*/ 375120 w 374760"/>
                <a:gd name="textAreaTop" fmla="*/ 0 h 80280"/>
                <a:gd name="textAreaBottom" fmla="*/ 80640 h 80280"/>
              </a:gdLst>
              <a:ahLst/>
              <a:rect l="textAreaLeft" t="textAreaTop" r="textAreaRight" b="textAreaBottom"/>
              <a:pathLst>
                <a:path w="375047" h="80368">
                  <a:moveTo>
                    <a:pt x="0" y="80368"/>
                  </a:moveTo>
                  <a:lnTo>
                    <a:pt x="6697" y="77019"/>
                  </a:lnTo>
                  <a:lnTo>
                    <a:pt x="17859" y="71438"/>
                  </a:lnTo>
                  <a:lnTo>
                    <a:pt x="37393" y="67531"/>
                  </a:lnTo>
                  <a:lnTo>
                    <a:pt x="62508" y="62508"/>
                  </a:lnTo>
                  <a:lnTo>
                    <a:pt x="92087" y="54137"/>
                  </a:lnTo>
                  <a:lnTo>
                    <a:pt x="125016" y="44649"/>
                  </a:lnTo>
                  <a:lnTo>
                    <a:pt x="160176" y="35161"/>
                  </a:lnTo>
                  <a:lnTo>
                    <a:pt x="196453" y="26789"/>
                  </a:lnTo>
                  <a:lnTo>
                    <a:pt x="232730" y="21766"/>
                  </a:lnTo>
                  <a:lnTo>
                    <a:pt x="267891" y="17860"/>
                  </a:lnTo>
                  <a:lnTo>
                    <a:pt x="300819" y="13395"/>
                  </a:lnTo>
                  <a:lnTo>
                    <a:pt x="330398" y="8930"/>
                  </a:lnTo>
                  <a:lnTo>
                    <a:pt x="356629" y="3907"/>
                  </a:lnTo>
                  <a:lnTo>
                    <a:pt x="367791" y="1675"/>
                  </a:lnTo>
                  <a:lnTo>
                    <a:pt x="375047" y="0"/>
                  </a:lnTo>
                </a:path>
              </a:pathLst>
            </a:custGeom>
            <a:noFill/>
            <a:ln w="17640">
              <a:solidFill>
                <a:srgbClr val="0000ff"/>
              </a:solidFill>
              <a:round/>
            </a:ln>
          </p:spPr>
          <p:style>
            <a:lnRef idx="0"/>
            <a:fillRef idx="0"/>
            <a:effectRef idx="0"/>
            <a:fontRef idx="minor"/>
          </p:style>
          <p:txBody>
            <a:bodyPr lIns="90000" rIns="90000" tIns="33840" bIns="33840" anchor="ctr" anchorCtr="1">
              <a:noAutofit/>
            </a:bodyPr>
            <a:p>
              <a:endParaRPr b="0" lang="en-US" sz="1800" spc="-1" strike="noStrike">
                <a:solidFill>
                  <a:srgbClr val="000000"/>
                </a:solidFill>
                <a:latin typeface="Arial"/>
              </a:endParaRPr>
            </a:p>
          </p:txBody>
        </p:sp>
        <p:sp>
          <p:nvSpPr>
            <p:cNvPr id="175" name="b6b6886f-81bb-43a5-8fac-0b39d436d8eb"/>
            <p:cNvSpPr/>
            <p:nvPr/>
          </p:nvSpPr>
          <p:spPr>
            <a:xfrm>
              <a:off x="1240200" y="3887640"/>
              <a:ext cx="2080800" cy="34560"/>
            </a:xfrm>
            <a:custGeom>
              <a:avLst/>
              <a:gdLst>
                <a:gd name="textAreaLeft" fmla="*/ 0 w 2080800"/>
                <a:gd name="textAreaRight" fmla="*/ 2081160 w 2080800"/>
                <a:gd name="textAreaTop" fmla="*/ 0 h 34560"/>
                <a:gd name="textAreaBottom" fmla="*/ 34920 h 34560"/>
              </a:gdLst>
              <a:ahLst/>
              <a:rect l="textAreaLeft" t="textAreaTop" r="textAreaRight" b="textAreaBottom"/>
              <a:pathLst>
                <a:path w="2080617" h="34602">
                  <a:moveTo>
                    <a:pt x="0" y="17301"/>
                  </a:moveTo>
                  <a:lnTo>
                    <a:pt x="15069" y="17301"/>
                  </a:lnTo>
                  <a:lnTo>
                    <a:pt x="45764" y="20092"/>
                  </a:lnTo>
                  <a:lnTo>
                    <a:pt x="69205" y="22882"/>
                  </a:lnTo>
                  <a:lnTo>
                    <a:pt x="96552" y="26789"/>
                  </a:lnTo>
                  <a:lnTo>
                    <a:pt x="126690" y="26789"/>
                  </a:lnTo>
                  <a:lnTo>
                    <a:pt x="150130" y="26231"/>
                  </a:lnTo>
                  <a:lnTo>
                    <a:pt x="183058" y="26231"/>
                  </a:lnTo>
                  <a:lnTo>
                    <a:pt x="208731" y="26231"/>
                  </a:lnTo>
                  <a:lnTo>
                    <a:pt x="237195" y="23440"/>
                  </a:lnTo>
                  <a:lnTo>
                    <a:pt x="258961" y="21208"/>
                  </a:lnTo>
                  <a:lnTo>
                    <a:pt x="285750" y="20092"/>
                  </a:lnTo>
                  <a:lnTo>
                    <a:pt x="306400" y="18975"/>
                  </a:lnTo>
                  <a:lnTo>
                    <a:pt x="332072" y="15627"/>
                  </a:lnTo>
                  <a:lnTo>
                    <a:pt x="352164" y="12836"/>
                  </a:lnTo>
                  <a:lnTo>
                    <a:pt x="380628" y="11162"/>
                  </a:lnTo>
                  <a:lnTo>
                    <a:pt x="402394" y="10046"/>
                  </a:lnTo>
                  <a:lnTo>
                    <a:pt x="431973" y="9488"/>
                  </a:lnTo>
                  <a:lnTo>
                    <a:pt x="454298" y="8930"/>
                  </a:lnTo>
                  <a:lnTo>
                    <a:pt x="484435" y="8930"/>
                  </a:lnTo>
                  <a:lnTo>
                    <a:pt x="507318" y="8371"/>
                  </a:lnTo>
                  <a:lnTo>
                    <a:pt x="537455" y="8371"/>
                  </a:lnTo>
                  <a:lnTo>
                    <a:pt x="560896" y="8371"/>
                  </a:lnTo>
                  <a:lnTo>
                    <a:pt x="591033" y="5581"/>
                  </a:lnTo>
                  <a:lnTo>
                    <a:pt x="614474" y="3348"/>
                  </a:lnTo>
                  <a:lnTo>
                    <a:pt x="647402" y="2232"/>
                  </a:lnTo>
                  <a:lnTo>
                    <a:pt x="673075" y="1116"/>
                  </a:lnTo>
                  <a:lnTo>
                    <a:pt x="704329" y="558"/>
                  </a:lnTo>
                  <a:lnTo>
                    <a:pt x="728885" y="0"/>
                  </a:lnTo>
                  <a:lnTo>
                    <a:pt x="762372" y="0"/>
                  </a:lnTo>
                  <a:lnTo>
                    <a:pt x="788603" y="0"/>
                  </a:lnTo>
                  <a:lnTo>
                    <a:pt x="823205" y="2790"/>
                  </a:lnTo>
                  <a:lnTo>
                    <a:pt x="849994" y="5023"/>
                  </a:lnTo>
                  <a:lnTo>
                    <a:pt x="885155" y="8930"/>
                  </a:lnTo>
                  <a:lnTo>
                    <a:pt x="911944" y="12278"/>
                  </a:lnTo>
                  <a:lnTo>
                    <a:pt x="947105" y="13952"/>
                  </a:lnTo>
                  <a:lnTo>
                    <a:pt x="974452" y="15069"/>
                  </a:lnTo>
                  <a:lnTo>
                    <a:pt x="1009612" y="15627"/>
                  </a:lnTo>
                  <a:lnTo>
                    <a:pt x="1036960" y="16185"/>
                  </a:lnTo>
                  <a:lnTo>
                    <a:pt x="1074911" y="16743"/>
                  </a:lnTo>
                  <a:lnTo>
                    <a:pt x="1104490" y="16743"/>
                  </a:lnTo>
                  <a:lnTo>
                    <a:pt x="1144116" y="16743"/>
                  </a:lnTo>
                  <a:lnTo>
                    <a:pt x="1174254" y="17301"/>
                  </a:lnTo>
                  <a:lnTo>
                    <a:pt x="1214437" y="17301"/>
                  </a:lnTo>
                  <a:lnTo>
                    <a:pt x="1245133" y="17301"/>
                  </a:lnTo>
                  <a:lnTo>
                    <a:pt x="1282526" y="17301"/>
                  </a:lnTo>
                  <a:lnTo>
                    <a:pt x="1310989" y="17301"/>
                  </a:lnTo>
                  <a:lnTo>
                    <a:pt x="1350057" y="20092"/>
                  </a:lnTo>
                  <a:lnTo>
                    <a:pt x="1380195" y="22324"/>
                  </a:lnTo>
                  <a:lnTo>
                    <a:pt x="1417029" y="23440"/>
                  </a:lnTo>
                  <a:lnTo>
                    <a:pt x="1445493" y="24556"/>
                  </a:lnTo>
                  <a:lnTo>
                    <a:pt x="1481212" y="27905"/>
                  </a:lnTo>
                  <a:lnTo>
                    <a:pt x="1509117" y="30696"/>
                  </a:lnTo>
                  <a:lnTo>
                    <a:pt x="1541487" y="32370"/>
                  </a:lnTo>
                  <a:lnTo>
                    <a:pt x="1567160" y="33486"/>
                  </a:lnTo>
                  <a:lnTo>
                    <a:pt x="1601204" y="34044"/>
                  </a:lnTo>
                  <a:lnTo>
                    <a:pt x="1627435" y="34602"/>
                  </a:lnTo>
                  <a:lnTo>
                    <a:pt x="1659247" y="34602"/>
                  </a:lnTo>
                  <a:lnTo>
                    <a:pt x="1683804" y="34602"/>
                  </a:lnTo>
                  <a:lnTo>
                    <a:pt x="1714500" y="31812"/>
                  </a:lnTo>
                  <a:lnTo>
                    <a:pt x="1738498" y="29579"/>
                  </a:lnTo>
                  <a:lnTo>
                    <a:pt x="1769194" y="28463"/>
                  </a:lnTo>
                  <a:lnTo>
                    <a:pt x="1792634" y="27905"/>
                  </a:lnTo>
                  <a:lnTo>
                    <a:pt x="1819982" y="27347"/>
                  </a:lnTo>
                  <a:lnTo>
                    <a:pt x="1841190" y="26789"/>
                  </a:lnTo>
                  <a:lnTo>
                    <a:pt x="1867421" y="26789"/>
                  </a:lnTo>
                  <a:lnTo>
                    <a:pt x="1887512" y="26231"/>
                  </a:lnTo>
                  <a:lnTo>
                    <a:pt x="1903139" y="26231"/>
                  </a:lnTo>
                  <a:lnTo>
                    <a:pt x="1915418" y="26231"/>
                  </a:lnTo>
                  <a:lnTo>
                    <a:pt x="1937742" y="26231"/>
                  </a:lnTo>
                  <a:lnTo>
                    <a:pt x="1949462" y="26231"/>
                  </a:lnTo>
                  <a:lnTo>
                    <a:pt x="1964531" y="26231"/>
                  </a:lnTo>
                  <a:lnTo>
                    <a:pt x="1991320" y="26231"/>
                  </a:lnTo>
                  <a:lnTo>
                    <a:pt x="2027039" y="26231"/>
                  </a:lnTo>
                  <a:lnTo>
                    <a:pt x="2053828" y="26231"/>
                  </a:lnTo>
                  <a:lnTo>
                    <a:pt x="2080617" y="17301"/>
                  </a:lnTo>
                </a:path>
              </a:pathLst>
            </a:custGeom>
            <a:noFill/>
            <a:ln w="106920">
              <a:solidFill>
                <a:srgbClr val="ffff00">
                  <a:alpha val="50000"/>
                </a:srgbClr>
              </a:solidFill>
              <a:round/>
            </a:ln>
          </p:spPr>
          <p:style>
            <a:lnRef idx="0"/>
            <a:fillRef idx="0"/>
            <a:effectRef idx="0"/>
            <a:fontRef idx="minor"/>
          </p:style>
          <p:txBody>
            <a:bodyPr lIns="90000" rIns="90000" tIns="-11880" bIns="-11880" anchor="ctr" anchorCtr="1">
              <a:noAutofit/>
            </a:bodyPr>
            <a:p>
              <a:endParaRPr b="0" lang="en-US" sz="1800" spc="-1" strike="noStrike">
                <a:solidFill>
                  <a:srgbClr val="000000"/>
                </a:solidFill>
                <a:latin typeface="Arial"/>
              </a:endParaRPr>
            </a:p>
          </p:txBody>
        </p:sp>
        <p:sp>
          <p:nvSpPr>
            <p:cNvPr id="176" name="8ca9968e-c0cf-4ab2-b49a-3e5aab5827ee"/>
            <p:cNvSpPr/>
            <p:nvPr/>
          </p:nvSpPr>
          <p:spPr>
            <a:xfrm>
              <a:off x="3463920" y="3797640"/>
              <a:ext cx="1723680" cy="69480"/>
            </a:xfrm>
            <a:custGeom>
              <a:avLst/>
              <a:gdLst>
                <a:gd name="textAreaLeft" fmla="*/ 0 w 1723680"/>
                <a:gd name="textAreaRight" fmla="*/ 1724040 w 1723680"/>
                <a:gd name="textAreaTop" fmla="*/ 0 h 69480"/>
                <a:gd name="textAreaBottom" fmla="*/ 69840 h 69480"/>
              </a:gdLst>
              <a:ahLst/>
              <a:rect l="textAreaLeft" t="textAreaTop" r="textAreaRight" b="textAreaBottom"/>
              <a:pathLst>
                <a:path w="1723430" h="69763">
                  <a:moveTo>
                    <a:pt x="0" y="26789"/>
                  </a:moveTo>
                  <a:lnTo>
                    <a:pt x="20650" y="38509"/>
                  </a:lnTo>
                  <a:lnTo>
                    <a:pt x="37393" y="47439"/>
                  </a:lnTo>
                  <a:lnTo>
                    <a:pt x="69205" y="55252"/>
                  </a:lnTo>
                  <a:lnTo>
                    <a:pt x="94320" y="61391"/>
                  </a:lnTo>
                  <a:lnTo>
                    <a:pt x="131155" y="64740"/>
                  </a:lnTo>
                  <a:lnTo>
                    <a:pt x="159060" y="66973"/>
                  </a:lnTo>
                  <a:lnTo>
                    <a:pt x="189198" y="65298"/>
                  </a:lnTo>
                  <a:lnTo>
                    <a:pt x="212638" y="64182"/>
                  </a:lnTo>
                  <a:lnTo>
                    <a:pt x="245566" y="63624"/>
                  </a:lnTo>
                  <a:lnTo>
                    <a:pt x="271239" y="63066"/>
                  </a:lnTo>
                  <a:lnTo>
                    <a:pt x="305842" y="63066"/>
                  </a:lnTo>
                  <a:lnTo>
                    <a:pt x="332073" y="62508"/>
                  </a:lnTo>
                  <a:lnTo>
                    <a:pt x="367233" y="62508"/>
                  </a:lnTo>
                  <a:lnTo>
                    <a:pt x="394022" y="62508"/>
                  </a:lnTo>
                  <a:lnTo>
                    <a:pt x="431974" y="65298"/>
                  </a:lnTo>
                  <a:lnTo>
                    <a:pt x="461553" y="67531"/>
                  </a:lnTo>
                  <a:lnTo>
                    <a:pt x="501179" y="68647"/>
                  </a:lnTo>
                  <a:lnTo>
                    <a:pt x="531316" y="69763"/>
                  </a:lnTo>
                  <a:lnTo>
                    <a:pt x="571500" y="67531"/>
                  </a:lnTo>
                  <a:lnTo>
                    <a:pt x="602196" y="65298"/>
                  </a:lnTo>
                  <a:lnTo>
                    <a:pt x="642379" y="64182"/>
                  </a:lnTo>
                  <a:lnTo>
                    <a:pt x="673075" y="63624"/>
                  </a:lnTo>
                  <a:lnTo>
                    <a:pt x="713259" y="60275"/>
                  </a:lnTo>
                  <a:lnTo>
                    <a:pt x="744513" y="58043"/>
                  </a:lnTo>
                  <a:lnTo>
                    <a:pt x="787487" y="56369"/>
                  </a:lnTo>
                  <a:lnTo>
                    <a:pt x="820973" y="55252"/>
                  </a:lnTo>
                  <a:lnTo>
                    <a:pt x="862273" y="54694"/>
                  </a:lnTo>
                  <a:lnTo>
                    <a:pt x="894643" y="54136"/>
                  </a:lnTo>
                  <a:lnTo>
                    <a:pt x="932594" y="50787"/>
                  </a:lnTo>
                  <a:lnTo>
                    <a:pt x="962174" y="48555"/>
                  </a:lnTo>
                  <a:lnTo>
                    <a:pt x="1001241" y="47439"/>
                  </a:lnTo>
                  <a:lnTo>
                    <a:pt x="1031937" y="46323"/>
                  </a:lnTo>
                  <a:lnTo>
                    <a:pt x="1071562" y="42974"/>
                  </a:lnTo>
                  <a:lnTo>
                    <a:pt x="1102258" y="40183"/>
                  </a:lnTo>
                  <a:lnTo>
                    <a:pt x="1142442" y="35719"/>
                  </a:lnTo>
                  <a:lnTo>
                    <a:pt x="1173138" y="32370"/>
                  </a:lnTo>
                  <a:lnTo>
                    <a:pt x="1213321" y="30696"/>
                  </a:lnTo>
                  <a:lnTo>
                    <a:pt x="1244575" y="29021"/>
                  </a:lnTo>
                  <a:lnTo>
                    <a:pt x="1281968" y="25115"/>
                  </a:lnTo>
                  <a:lnTo>
                    <a:pt x="1310990" y="22324"/>
                  </a:lnTo>
                  <a:lnTo>
                    <a:pt x="1347266" y="20650"/>
                  </a:lnTo>
                  <a:lnTo>
                    <a:pt x="1374614" y="19534"/>
                  </a:lnTo>
                  <a:lnTo>
                    <a:pt x="1410332" y="18975"/>
                  </a:lnTo>
                  <a:lnTo>
                    <a:pt x="1437680" y="18417"/>
                  </a:lnTo>
                  <a:lnTo>
                    <a:pt x="1470050" y="18417"/>
                  </a:lnTo>
                  <a:lnTo>
                    <a:pt x="1495164" y="17859"/>
                  </a:lnTo>
                  <a:lnTo>
                    <a:pt x="1523628" y="17859"/>
                  </a:lnTo>
                  <a:lnTo>
                    <a:pt x="1545394" y="17859"/>
                  </a:lnTo>
                  <a:lnTo>
                    <a:pt x="1562137" y="17301"/>
                  </a:lnTo>
                  <a:lnTo>
                    <a:pt x="1575532" y="16743"/>
                  </a:lnTo>
                  <a:lnTo>
                    <a:pt x="1612367" y="13953"/>
                  </a:lnTo>
                  <a:lnTo>
                    <a:pt x="1640830" y="12278"/>
                  </a:lnTo>
                  <a:lnTo>
                    <a:pt x="1662038" y="10604"/>
                  </a:lnTo>
                  <a:lnTo>
                    <a:pt x="1678223" y="8930"/>
                  </a:lnTo>
                  <a:lnTo>
                    <a:pt x="1690501" y="7255"/>
                  </a:lnTo>
                  <a:lnTo>
                    <a:pt x="1701105" y="5023"/>
                  </a:lnTo>
                  <a:lnTo>
                    <a:pt x="1723430" y="0"/>
                  </a:lnTo>
                </a:path>
              </a:pathLst>
            </a:custGeom>
            <a:noFill/>
            <a:ln w="106920">
              <a:solidFill>
                <a:srgbClr val="ffff00">
                  <a:alpha val="50000"/>
                </a:srgbClr>
              </a:solidFill>
              <a:round/>
            </a:ln>
          </p:spPr>
          <p:style>
            <a:lnRef idx="0"/>
            <a:fillRef idx="0"/>
            <a:effectRef idx="0"/>
            <a:fontRef idx="minor"/>
          </p:style>
          <p:txBody>
            <a:bodyPr lIns="90000" rIns="90000" tIns="23040" bIns="23040" anchor="ctr" anchorCtr="1">
              <a:noAutofit/>
            </a:bodyPr>
            <a:p>
              <a:endParaRPr b="0" lang="en-US" sz="1800" spc="-1" strike="noStrike">
                <a:solidFill>
                  <a:srgbClr val="000000"/>
                </a:solidFill>
                <a:latin typeface="Arial"/>
              </a:endParaRPr>
            </a:p>
          </p:txBody>
        </p:sp>
        <p:sp>
          <p:nvSpPr>
            <p:cNvPr id="177" name="9ea1697d-537d-4196-828c-752463ce5ec3"/>
            <p:cNvSpPr/>
            <p:nvPr/>
          </p:nvSpPr>
          <p:spPr>
            <a:xfrm>
              <a:off x="6357600" y="4199400"/>
              <a:ext cx="732240" cy="473400"/>
            </a:xfrm>
            <a:custGeom>
              <a:avLst/>
              <a:gdLst>
                <a:gd name="textAreaLeft" fmla="*/ 0 w 732240"/>
                <a:gd name="textAreaRight" fmla="*/ 732600 w 732240"/>
                <a:gd name="textAreaTop" fmla="*/ 0 h 473400"/>
                <a:gd name="textAreaBottom" fmla="*/ 473760 h 473400"/>
              </a:gdLst>
              <a:ahLst/>
              <a:rect l="textAreaLeft" t="textAreaTop" r="textAreaRight" b="textAreaBottom"/>
              <a:pathLst>
                <a:path w="732234" h="473273">
                  <a:moveTo>
                    <a:pt x="0" y="0"/>
                  </a:moveTo>
                  <a:lnTo>
                    <a:pt x="2232" y="6697"/>
                  </a:lnTo>
                  <a:lnTo>
                    <a:pt x="8929" y="17859"/>
                  </a:lnTo>
                  <a:lnTo>
                    <a:pt x="23440" y="33486"/>
                  </a:lnTo>
                  <a:lnTo>
                    <a:pt x="44648" y="53578"/>
                  </a:lnTo>
                  <a:lnTo>
                    <a:pt x="73670" y="79809"/>
                  </a:lnTo>
                  <a:lnTo>
                    <a:pt x="107156" y="107156"/>
                  </a:lnTo>
                  <a:lnTo>
                    <a:pt x="142317" y="130596"/>
                  </a:lnTo>
                  <a:lnTo>
                    <a:pt x="178593" y="151805"/>
                  </a:lnTo>
                  <a:lnTo>
                    <a:pt x="213196" y="173571"/>
                  </a:lnTo>
                  <a:lnTo>
                    <a:pt x="250031" y="196453"/>
                  </a:lnTo>
                  <a:lnTo>
                    <a:pt x="293005" y="222684"/>
                  </a:lnTo>
                  <a:lnTo>
                    <a:pt x="339328" y="250031"/>
                  </a:lnTo>
                  <a:lnTo>
                    <a:pt x="388441" y="276262"/>
                  </a:lnTo>
                  <a:lnTo>
                    <a:pt x="437554" y="303609"/>
                  </a:lnTo>
                  <a:lnTo>
                    <a:pt x="483319" y="335421"/>
                  </a:lnTo>
                  <a:lnTo>
                    <a:pt x="526851" y="366117"/>
                  </a:lnTo>
                  <a:lnTo>
                    <a:pt x="568709" y="390116"/>
                  </a:lnTo>
                  <a:lnTo>
                    <a:pt x="607218" y="410765"/>
                  </a:lnTo>
                  <a:lnTo>
                    <a:pt x="640705" y="430299"/>
                  </a:lnTo>
                  <a:lnTo>
                    <a:pt x="669726" y="446484"/>
                  </a:lnTo>
                  <a:lnTo>
                    <a:pt x="694841" y="457088"/>
                  </a:lnTo>
                  <a:lnTo>
                    <a:pt x="714375" y="464344"/>
                  </a:lnTo>
                  <a:lnTo>
                    <a:pt x="727769" y="470483"/>
                  </a:lnTo>
                  <a:lnTo>
                    <a:pt x="731676" y="472715"/>
                  </a:lnTo>
                  <a:lnTo>
                    <a:pt x="732234" y="473273"/>
                  </a:lnTo>
                  <a:lnTo>
                    <a:pt x="728327" y="472157"/>
                  </a:lnTo>
                  <a:lnTo>
                    <a:pt x="719956" y="469367"/>
                  </a:lnTo>
                  <a:lnTo>
                    <a:pt x="711584" y="466576"/>
                  </a:lnTo>
                  <a:lnTo>
                    <a:pt x="705445" y="46434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8" name="aed49214-d290-4ba4-8f7c-8c1adc272a3c"/>
            <p:cNvSpPr/>
            <p:nvPr/>
          </p:nvSpPr>
          <p:spPr>
            <a:xfrm>
              <a:off x="6355440" y="4172040"/>
              <a:ext cx="216360" cy="223560"/>
            </a:xfrm>
            <a:custGeom>
              <a:avLst/>
              <a:gdLst>
                <a:gd name="textAreaLeft" fmla="*/ 0 w 216360"/>
                <a:gd name="textAreaRight" fmla="*/ 216720 w 216360"/>
                <a:gd name="textAreaTop" fmla="*/ 0 h 223560"/>
                <a:gd name="textAreaBottom" fmla="*/ 223920 h 223560"/>
              </a:gdLst>
              <a:ahLst/>
              <a:rect l="textAreaLeft" t="textAreaTop" r="textAreaRight" b="textAreaBottom"/>
              <a:pathLst>
                <a:path w="216545" h="223800">
                  <a:moveTo>
                    <a:pt x="82600" y="223800"/>
                  </a:moveTo>
                  <a:lnTo>
                    <a:pt x="79809" y="217661"/>
                  </a:lnTo>
                  <a:lnTo>
                    <a:pt x="73670" y="205941"/>
                  </a:lnTo>
                  <a:lnTo>
                    <a:pt x="61392" y="188081"/>
                  </a:lnTo>
                  <a:lnTo>
                    <a:pt x="54136" y="176361"/>
                  </a:lnTo>
                  <a:lnTo>
                    <a:pt x="46881" y="161292"/>
                  </a:lnTo>
                  <a:lnTo>
                    <a:pt x="40184" y="141200"/>
                  </a:lnTo>
                  <a:lnTo>
                    <a:pt x="32928" y="116644"/>
                  </a:lnTo>
                  <a:lnTo>
                    <a:pt x="26231" y="92087"/>
                  </a:lnTo>
                  <a:lnTo>
                    <a:pt x="20092" y="71995"/>
                  </a:lnTo>
                  <a:lnTo>
                    <a:pt x="14511" y="56926"/>
                  </a:lnTo>
                  <a:lnTo>
                    <a:pt x="9488" y="45206"/>
                  </a:lnTo>
                  <a:lnTo>
                    <a:pt x="2233" y="27347"/>
                  </a:lnTo>
                  <a:lnTo>
                    <a:pt x="0" y="16185"/>
                  </a:lnTo>
                  <a:lnTo>
                    <a:pt x="2233" y="9487"/>
                  </a:lnTo>
                  <a:lnTo>
                    <a:pt x="10604" y="3906"/>
                  </a:lnTo>
                  <a:lnTo>
                    <a:pt x="20092" y="558"/>
                  </a:lnTo>
                  <a:lnTo>
                    <a:pt x="27347" y="0"/>
                  </a:lnTo>
                  <a:lnTo>
                    <a:pt x="37951" y="558"/>
                  </a:lnTo>
                  <a:lnTo>
                    <a:pt x="57485" y="4464"/>
                  </a:lnTo>
                  <a:lnTo>
                    <a:pt x="82600" y="9487"/>
                  </a:lnTo>
                  <a:lnTo>
                    <a:pt x="97669" y="11720"/>
                  </a:lnTo>
                  <a:lnTo>
                    <a:pt x="114412" y="13952"/>
                  </a:lnTo>
                  <a:lnTo>
                    <a:pt x="131155" y="16185"/>
                  </a:lnTo>
                  <a:lnTo>
                    <a:pt x="145108" y="18417"/>
                  </a:lnTo>
                  <a:lnTo>
                    <a:pt x="156270" y="21208"/>
                  </a:lnTo>
                  <a:lnTo>
                    <a:pt x="164641" y="23998"/>
                  </a:lnTo>
                  <a:lnTo>
                    <a:pt x="180826" y="27347"/>
                  </a:lnTo>
                  <a:lnTo>
                    <a:pt x="201476" y="27905"/>
                  </a:lnTo>
                  <a:lnTo>
                    <a:pt x="210406" y="27347"/>
                  </a:lnTo>
                  <a:lnTo>
                    <a:pt x="216545" y="2734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9" name="e9b6aaf9-8964-4990-be2b-520f39197161"/>
            <p:cNvSpPr/>
            <p:nvPr/>
          </p:nvSpPr>
          <p:spPr>
            <a:xfrm>
              <a:off x="7051320" y="4412160"/>
              <a:ext cx="363240" cy="233640"/>
            </a:xfrm>
            <a:custGeom>
              <a:avLst/>
              <a:gdLst>
                <a:gd name="textAreaLeft" fmla="*/ 0 w 363240"/>
                <a:gd name="textAreaRight" fmla="*/ 363600 w 363240"/>
                <a:gd name="textAreaTop" fmla="*/ 0 h 233640"/>
                <a:gd name="textAreaBottom" fmla="*/ 234000 h 233640"/>
              </a:gdLst>
              <a:ahLst/>
              <a:rect l="textAreaLeft" t="textAreaTop" r="textAreaRight" b="textAreaBottom"/>
              <a:pathLst>
                <a:path w="363326" h="233846">
                  <a:moveTo>
                    <a:pt x="29579" y="73112"/>
                  </a:moveTo>
                  <a:lnTo>
                    <a:pt x="28463" y="81483"/>
                  </a:lnTo>
                  <a:lnTo>
                    <a:pt x="29579" y="90971"/>
                  </a:lnTo>
                  <a:lnTo>
                    <a:pt x="37951" y="97110"/>
                  </a:lnTo>
                  <a:lnTo>
                    <a:pt x="47439" y="99901"/>
                  </a:lnTo>
                  <a:lnTo>
                    <a:pt x="56368" y="95994"/>
                  </a:lnTo>
                  <a:lnTo>
                    <a:pt x="65298" y="90971"/>
                  </a:lnTo>
                  <a:lnTo>
                    <a:pt x="73670" y="92087"/>
                  </a:lnTo>
                  <a:lnTo>
                    <a:pt x="78134" y="92646"/>
                  </a:lnTo>
                  <a:lnTo>
                    <a:pt x="83157" y="90971"/>
                  </a:lnTo>
                  <a:lnTo>
                    <a:pt x="89855" y="85948"/>
                  </a:lnTo>
                  <a:lnTo>
                    <a:pt x="97668" y="78693"/>
                  </a:lnTo>
                  <a:lnTo>
                    <a:pt x="104924" y="70879"/>
                  </a:lnTo>
                  <a:lnTo>
                    <a:pt x="109947" y="64182"/>
                  </a:lnTo>
                  <a:lnTo>
                    <a:pt x="111621" y="55252"/>
                  </a:lnTo>
                  <a:lnTo>
                    <a:pt x="109947" y="46323"/>
                  </a:lnTo>
                  <a:lnTo>
                    <a:pt x="111063" y="32928"/>
                  </a:lnTo>
                  <a:lnTo>
                    <a:pt x="109947" y="19534"/>
                  </a:lnTo>
                  <a:lnTo>
                    <a:pt x="102133" y="8930"/>
                  </a:lnTo>
                  <a:lnTo>
                    <a:pt x="92087" y="1674"/>
                  </a:lnTo>
                  <a:lnTo>
                    <a:pt x="84832" y="0"/>
                  </a:lnTo>
                  <a:lnTo>
                    <a:pt x="74228" y="1674"/>
                  </a:lnTo>
                  <a:lnTo>
                    <a:pt x="64740" y="2232"/>
                  </a:lnTo>
                  <a:lnTo>
                    <a:pt x="53020" y="2791"/>
                  </a:lnTo>
                  <a:lnTo>
                    <a:pt x="40183" y="5023"/>
                  </a:lnTo>
                  <a:lnTo>
                    <a:pt x="29579" y="10604"/>
                  </a:lnTo>
                  <a:lnTo>
                    <a:pt x="21208" y="21208"/>
                  </a:lnTo>
                  <a:lnTo>
                    <a:pt x="13394" y="35161"/>
                  </a:lnTo>
                  <a:lnTo>
                    <a:pt x="7255" y="50229"/>
                  </a:lnTo>
                  <a:lnTo>
                    <a:pt x="2790" y="64182"/>
                  </a:lnTo>
                  <a:lnTo>
                    <a:pt x="0" y="87623"/>
                  </a:lnTo>
                  <a:lnTo>
                    <a:pt x="2790" y="108831"/>
                  </a:lnTo>
                  <a:lnTo>
                    <a:pt x="10046" y="131713"/>
                  </a:lnTo>
                  <a:lnTo>
                    <a:pt x="20650" y="153479"/>
                  </a:lnTo>
                  <a:lnTo>
                    <a:pt x="33486" y="173013"/>
                  </a:lnTo>
                  <a:lnTo>
                    <a:pt x="47439" y="189198"/>
                  </a:lnTo>
                  <a:lnTo>
                    <a:pt x="64182" y="199244"/>
                  </a:lnTo>
                  <a:lnTo>
                    <a:pt x="83157" y="207057"/>
                  </a:lnTo>
                  <a:lnTo>
                    <a:pt x="105482" y="217661"/>
                  </a:lnTo>
                  <a:lnTo>
                    <a:pt x="117202" y="222684"/>
                  </a:lnTo>
                  <a:lnTo>
                    <a:pt x="127806" y="224917"/>
                  </a:lnTo>
                  <a:lnTo>
                    <a:pt x="146781" y="223242"/>
                  </a:lnTo>
                  <a:lnTo>
                    <a:pt x="163525" y="215987"/>
                  </a:lnTo>
                  <a:lnTo>
                    <a:pt x="177477" y="203708"/>
                  </a:lnTo>
                  <a:lnTo>
                    <a:pt x="190314" y="189198"/>
                  </a:lnTo>
                  <a:lnTo>
                    <a:pt x="204266" y="176361"/>
                  </a:lnTo>
                  <a:lnTo>
                    <a:pt x="217103" y="162409"/>
                  </a:lnTo>
                  <a:lnTo>
                    <a:pt x="227707" y="144549"/>
                  </a:lnTo>
                  <a:lnTo>
                    <a:pt x="234962" y="126690"/>
                  </a:lnTo>
                  <a:lnTo>
                    <a:pt x="236636" y="113295"/>
                  </a:lnTo>
                  <a:lnTo>
                    <a:pt x="234962" y="99901"/>
                  </a:lnTo>
                  <a:lnTo>
                    <a:pt x="230497" y="81483"/>
                  </a:lnTo>
                  <a:lnTo>
                    <a:pt x="226032" y="64182"/>
                  </a:lnTo>
                  <a:lnTo>
                    <a:pt x="223800" y="53578"/>
                  </a:lnTo>
                  <a:lnTo>
                    <a:pt x="226032" y="46323"/>
                  </a:lnTo>
                  <a:lnTo>
                    <a:pt x="231055" y="42974"/>
                  </a:lnTo>
                  <a:lnTo>
                    <a:pt x="238311" y="40184"/>
                  </a:lnTo>
                  <a:lnTo>
                    <a:pt x="252822" y="37393"/>
                  </a:lnTo>
                  <a:lnTo>
                    <a:pt x="261193" y="39067"/>
                  </a:lnTo>
                  <a:lnTo>
                    <a:pt x="264542" y="41858"/>
                  </a:lnTo>
                  <a:lnTo>
                    <a:pt x="270681" y="46323"/>
                  </a:lnTo>
                  <a:lnTo>
                    <a:pt x="291331" y="61950"/>
                  </a:lnTo>
                  <a:lnTo>
                    <a:pt x="315329" y="82042"/>
                  </a:lnTo>
                  <a:lnTo>
                    <a:pt x="327608" y="94878"/>
                  </a:lnTo>
                  <a:lnTo>
                    <a:pt x="340444" y="109389"/>
                  </a:lnTo>
                  <a:lnTo>
                    <a:pt x="352164" y="123899"/>
                  </a:lnTo>
                  <a:lnTo>
                    <a:pt x="359978" y="135620"/>
                  </a:lnTo>
                  <a:lnTo>
                    <a:pt x="363326" y="143991"/>
                  </a:lnTo>
                  <a:lnTo>
                    <a:pt x="363326" y="150130"/>
                  </a:lnTo>
                  <a:lnTo>
                    <a:pt x="359978" y="162409"/>
                  </a:lnTo>
                  <a:lnTo>
                    <a:pt x="356629" y="180268"/>
                  </a:lnTo>
                  <a:lnTo>
                    <a:pt x="351048" y="198127"/>
                  </a:lnTo>
                  <a:lnTo>
                    <a:pt x="342676" y="213196"/>
                  </a:lnTo>
                  <a:lnTo>
                    <a:pt x="333189" y="224917"/>
                  </a:lnTo>
                  <a:lnTo>
                    <a:pt x="324259" y="231056"/>
                  </a:lnTo>
                  <a:lnTo>
                    <a:pt x="315329" y="233846"/>
                  </a:lnTo>
                  <a:lnTo>
                    <a:pt x="297470" y="233846"/>
                  </a:lnTo>
                  <a:lnTo>
                    <a:pt x="286866" y="232172"/>
                  </a:lnTo>
                  <a:lnTo>
                    <a:pt x="279611" y="224917"/>
                  </a:lnTo>
                  <a:lnTo>
                    <a:pt x="280169" y="217103"/>
                  </a:lnTo>
                  <a:lnTo>
                    <a:pt x="283517" y="206499"/>
                  </a:lnTo>
                  <a:lnTo>
                    <a:pt x="286308" y="196453"/>
                  </a:lnTo>
                  <a:lnTo>
                    <a:pt x="288540" y="18919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0" name="74c6eb35-2f31-42c9-a8d1-814f6894fbb1"/>
            <p:cNvSpPr/>
            <p:nvPr/>
          </p:nvSpPr>
          <p:spPr>
            <a:xfrm>
              <a:off x="7482960" y="4253040"/>
              <a:ext cx="1437840" cy="412920"/>
            </a:xfrm>
            <a:custGeom>
              <a:avLst/>
              <a:gdLst>
                <a:gd name="textAreaLeft" fmla="*/ 0 w 1437840"/>
                <a:gd name="textAreaRight" fmla="*/ 1438200 w 1437840"/>
                <a:gd name="textAreaTop" fmla="*/ 0 h 412920"/>
                <a:gd name="textAreaBottom" fmla="*/ 413280 h 412920"/>
              </a:gdLst>
              <a:ahLst/>
              <a:rect l="textAreaLeft" t="textAreaTop" r="textAreaRight" b="textAreaBottom"/>
              <a:pathLst>
                <a:path w="1437680" h="412998">
                  <a:moveTo>
                    <a:pt x="89297" y="214312"/>
                  </a:moveTo>
                  <a:lnTo>
                    <a:pt x="92088" y="212638"/>
                  </a:lnTo>
                  <a:lnTo>
                    <a:pt x="95994" y="209289"/>
                  </a:lnTo>
                  <a:lnTo>
                    <a:pt x="98785" y="206499"/>
                  </a:lnTo>
                  <a:lnTo>
                    <a:pt x="98227" y="205383"/>
                  </a:lnTo>
                  <a:lnTo>
                    <a:pt x="90971" y="207057"/>
                  </a:lnTo>
                  <a:lnTo>
                    <a:pt x="79809" y="209848"/>
                  </a:lnTo>
                  <a:lnTo>
                    <a:pt x="68647" y="213196"/>
                  </a:lnTo>
                  <a:lnTo>
                    <a:pt x="62508" y="214312"/>
                  </a:lnTo>
                  <a:lnTo>
                    <a:pt x="64182" y="213196"/>
                  </a:lnTo>
                  <a:lnTo>
                    <a:pt x="70322" y="210406"/>
                  </a:lnTo>
                  <a:lnTo>
                    <a:pt x="77019" y="207615"/>
                  </a:lnTo>
                  <a:lnTo>
                    <a:pt x="80367" y="205383"/>
                  </a:lnTo>
                  <a:lnTo>
                    <a:pt x="78693" y="204825"/>
                  </a:lnTo>
                  <a:lnTo>
                    <a:pt x="73670" y="204825"/>
                  </a:lnTo>
                  <a:lnTo>
                    <a:pt x="62508" y="205383"/>
                  </a:lnTo>
                  <a:lnTo>
                    <a:pt x="54695" y="208173"/>
                  </a:lnTo>
                  <a:lnTo>
                    <a:pt x="44649" y="214312"/>
                  </a:lnTo>
                  <a:lnTo>
                    <a:pt x="31254" y="224358"/>
                  </a:lnTo>
                  <a:lnTo>
                    <a:pt x="17860" y="241102"/>
                  </a:lnTo>
                  <a:lnTo>
                    <a:pt x="12279" y="254496"/>
                  </a:lnTo>
                  <a:lnTo>
                    <a:pt x="6698" y="271239"/>
                  </a:lnTo>
                  <a:lnTo>
                    <a:pt x="2233" y="288540"/>
                  </a:lnTo>
                  <a:lnTo>
                    <a:pt x="0" y="303609"/>
                  </a:lnTo>
                  <a:lnTo>
                    <a:pt x="2233" y="327608"/>
                  </a:lnTo>
                  <a:lnTo>
                    <a:pt x="8930" y="348258"/>
                  </a:lnTo>
                  <a:lnTo>
                    <a:pt x="16185" y="367233"/>
                  </a:lnTo>
                  <a:lnTo>
                    <a:pt x="26789" y="383977"/>
                  </a:lnTo>
                  <a:lnTo>
                    <a:pt x="44091" y="399603"/>
                  </a:lnTo>
                  <a:lnTo>
                    <a:pt x="62508" y="410766"/>
                  </a:lnTo>
                  <a:lnTo>
                    <a:pt x="75903" y="412998"/>
                  </a:lnTo>
                  <a:lnTo>
                    <a:pt x="89297" y="410766"/>
                  </a:lnTo>
                  <a:lnTo>
                    <a:pt x="125016" y="401836"/>
                  </a:lnTo>
                  <a:lnTo>
                    <a:pt x="147340" y="395697"/>
                  </a:lnTo>
                  <a:lnTo>
                    <a:pt x="159060" y="391232"/>
                  </a:lnTo>
                  <a:lnTo>
                    <a:pt x="169664" y="383977"/>
                  </a:lnTo>
                  <a:lnTo>
                    <a:pt x="179710" y="373372"/>
                  </a:lnTo>
                  <a:lnTo>
                    <a:pt x="189198" y="359978"/>
                  </a:lnTo>
                  <a:lnTo>
                    <a:pt x="205383" y="330398"/>
                  </a:lnTo>
                  <a:lnTo>
                    <a:pt x="215987" y="300261"/>
                  </a:lnTo>
                  <a:lnTo>
                    <a:pt x="223242" y="267891"/>
                  </a:lnTo>
                  <a:lnTo>
                    <a:pt x="228823" y="237753"/>
                  </a:lnTo>
                  <a:lnTo>
                    <a:pt x="232172" y="205383"/>
                  </a:lnTo>
                  <a:lnTo>
                    <a:pt x="233288" y="186407"/>
                  </a:lnTo>
                  <a:lnTo>
                    <a:pt x="233846" y="165199"/>
                  </a:lnTo>
                  <a:lnTo>
                    <a:pt x="232172" y="125016"/>
                  </a:lnTo>
                  <a:lnTo>
                    <a:pt x="224359" y="91529"/>
                  </a:lnTo>
                  <a:lnTo>
                    <a:pt x="214313" y="62508"/>
                  </a:lnTo>
                  <a:lnTo>
                    <a:pt x="205383" y="37393"/>
                  </a:lnTo>
                  <a:lnTo>
                    <a:pt x="196453" y="17859"/>
                  </a:lnTo>
                  <a:lnTo>
                    <a:pt x="188640" y="5023"/>
                  </a:lnTo>
                  <a:lnTo>
                    <a:pt x="178594" y="0"/>
                  </a:lnTo>
                  <a:lnTo>
                    <a:pt x="165199" y="3907"/>
                  </a:lnTo>
                  <a:lnTo>
                    <a:pt x="151805" y="17859"/>
                  </a:lnTo>
                  <a:lnTo>
                    <a:pt x="146224" y="30138"/>
                  </a:lnTo>
                  <a:lnTo>
                    <a:pt x="140643" y="45765"/>
                  </a:lnTo>
                  <a:lnTo>
                    <a:pt x="133946" y="80367"/>
                  </a:lnTo>
                  <a:lnTo>
                    <a:pt x="136178" y="114970"/>
                  </a:lnTo>
                  <a:lnTo>
                    <a:pt x="142875" y="151805"/>
                  </a:lnTo>
                  <a:lnTo>
                    <a:pt x="150689" y="191988"/>
                  </a:lnTo>
                  <a:lnTo>
                    <a:pt x="160735" y="232172"/>
                  </a:lnTo>
                  <a:lnTo>
                    <a:pt x="173571" y="269565"/>
                  </a:lnTo>
                  <a:lnTo>
                    <a:pt x="187524" y="303609"/>
                  </a:lnTo>
                  <a:lnTo>
                    <a:pt x="204825" y="333189"/>
                  </a:lnTo>
                  <a:lnTo>
                    <a:pt x="223242" y="357187"/>
                  </a:lnTo>
                  <a:lnTo>
                    <a:pt x="242218" y="373372"/>
                  </a:lnTo>
                  <a:lnTo>
                    <a:pt x="258961" y="383977"/>
                  </a:lnTo>
                  <a:lnTo>
                    <a:pt x="268449" y="390116"/>
                  </a:lnTo>
                  <a:lnTo>
                    <a:pt x="276821" y="392906"/>
                  </a:lnTo>
                  <a:lnTo>
                    <a:pt x="290215" y="395139"/>
                  </a:lnTo>
                  <a:lnTo>
                    <a:pt x="303610" y="392906"/>
                  </a:lnTo>
                  <a:lnTo>
                    <a:pt x="313656" y="381186"/>
                  </a:lnTo>
                  <a:lnTo>
                    <a:pt x="321469" y="366117"/>
                  </a:lnTo>
                  <a:lnTo>
                    <a:pt x="330957" y="352723"/>
                  </a:lnTo>
                  <a:lnTo>
                    <a:pt x="339328" y="339328"/>
                  </a:lnTo>
                  <a:lnTo>
                    <a:pt x="348258" y="312539"/>
                  </a:lnTo>
                  <a:lnTo>
                    <a:pt x="348258" y="300261"/>
                  </a:lnTo>
                  <a:lnTo>
                    <a:pt x="348258" y="295796"/>
                  </a:lnTo>
                  <a:lnTo>
                    <a:pt x="348258" y="294680"/>
                  </a:lnTo>
                  <a:lnTo>
                    <a:pt x="349932" y="298586"/>
                  </a:lnTo>
                  <a:lnTo>
                    <a:pt x="352165" y="305284"/>
                  </a:lnTo>
                  <a:lnTo>
                    <a:pt x="357188" y="321469"/>
                  </a:lnTo>
                  <a:lnTo>
                    <a:pt x="359978" y="333747"/>
                  </a:lnTo>
                  <a:lnTo>
                    <a:pt x="366117" y="348258"/>
                  </a:lnTo>
                  <a:lnTo>
                    <a:pt x="373373" y="359420"/>
                  </a:lnTo>
                  <a:lnTo>
                    <a:pt x="383419" y="372256"/>
                  </a:lnTo>
                  <a:lnTo>
                    <a:pt x="392907" y="384535"/>
                  </a:lnTo>
                  <a:lnTo>
                    <a:pt x="401836" y="392906"/>
                  </a:lnTo>
                  <a:lnTo>
                    <a:pt x="409650" y="396255"/>
                  </a:lnTo>
                  <a:lnTo>
                    <a:pt x="416347" y="396255"/>
                  </a:lnTo>
                  <a:lnTo>
                    <a:pt x="428625" y="392906"/>
                  </a:lnTo>
                  <a:lnTo>
                    <a:pt x="438671" y="390116"/>
                  </a:lnTo>
                  <a:lnTo>
                    <a:pt x="446485" y="383977"/>
                  </a:lnTo>
                  <a:lnTo>
                    <a:pt x="455414" y="373931"/>
                  </a:lnTo>
                  <a:lnTo>
                    <a:pt x="464344" y="357187"/>
                  </a:lnTo>
                  <a:lnTo>
                    <a:pt x="469925" y="343793"/>
                  </a:lnTo>
                  <a:lnTo>
                    <a:pt x="475506" y="327050"/>
                  </a:lnTo>
                  <a:lnTo>
                    <a:pt x="480529" y="309748"/>
                  </a:lnTo>
                  <a:lnTo>
                    <a:pt x="482203" y="294680"/>
                  </a:lnTo>
                  <a:lnTo>
                    <a:pt x="480529" y="281843"/>
                  </a:lnTo>
                  <a:lnTo>
                    <a:pt x="475506" y="270123"/>
                  </a:lnTo>
                  <a:lnTo>
                    <a:pt x="464344" y="250031"/>
                  </a:lnTo>
                  <a:lnTo>
                    <a:pt x="455414" y="234962"/>
                  </a:lnTo>
                  <a:lnTo>
                    <a:pt x="446485" y="223242"/>
                  </a:lnTo>
                  <a:lnTo>
                    <a:pt x="437555" y="212638"/>
                  </a:lnTo>
                  <a:lnTo>
                    <a:pt x="428625" y="205383"/>
                  </a:lnTo>
                  <a:lnTo>
                    <a:pt x="420812" y="202592"/>
                  </a:lnTo>
                  <a:lnTo>
                    <a:pt x="410766" y="205383"/>
                  </a:lnTo>
                  <a:lnTo>
                    <a:pt x="397371" y="215987"/>
                  </a:lnTo>
                  <a:lnTo>
                    <a:pt x="383977" y="232172"/>
                  </a:lnTo>
                  <a:lnTo>
                    <a:pt x="373931" y="252822"/>
                  </a:lnTo>
                  <a:lnTo>
                    <a:pt x="366117" y="276820"/>
                  </a:lnTo>
                  <a:lnTo>
                    <a:pt x="359978" y="304726"/>
                  </a:lnTo>
                  <a:lnTo>
                    <a:pt x="357188" y="330398"/>
                  </a:lnTo>
                  <a:lnTo>
                    <a:pt x="359420" y="350490"/>
                  </a:lnTo>
                  <a:lnTo>
                    <a:pt x="366117" y="366117"/>
                  </a:lnTo>
                  <a:lnTo>
                    <a:pt x="378954" y="377837"/>
                  </a:lnTo>
                  <a:lnTo>
                    <a:pt x="392907" y="383977"/>
                  </a:lnTo>
                  <a:lnTo>
                    <a:pt x="402952" y="381744"/>
                  </a:lnTo>
                  <a:lnTo>
                    <a:pt x="410766" y="375047"/>
                  </a:lnTo>
                  <a:lnTo>
                    <a:pt x="428625" y="357187"/>
                  </a:lnTo>
                  <a:lnTo>
                    <a:pt x="436997" y="346583"/>
                  </a:lnTo>
                  <a:lnTo>
                    <a:pt x="441462" y="339886"/>
                  </a:lnTo>
                  <a:lnTo>
                    <a:pt x="446485" y="330398"/>
                  </a:lnTo>
                  <a:lnTo>
                    <a:pt x="453182" y="316446"/>
                  </a:lnTo>
                  <a:lnTo>
                    <a:pt x="460995" y="298586"/>
                  </a:lnTo>
                  <a:lnTo>
                    <a:pt x="468251" y="281285"/>
                  </a:lnTo>
                  <a:lnTo>
                    <a:pt x="473274" y="267891"/>
                  </a:lnTo>
                  <a:lnTo>
                    <a:pt x="474948" y="252822"/>
                  </a:lnTo>
                  <a:lnTo>
                    <a:pt x="473832" y="250031"/>
                  </a:lnTo>
                  <a:lnTo>
                    <a:pt x="473274" y="250031"/>
                  </a:lnTo>
                  <a:lnTo>
                    <a:pt x="472716" y="254496"/>
                  </a:lnTo>
                  <a:lnTo>
                    <a:pt x="472157" y="262868"/>
                  </a:lnTo>
                  <a:lnTo>
                    <a:pt x="473274" y="285750"/>
                  </a:lnTo>
                  <a:lnTo>
                    <a:pt x="476622" y="300819"/>
                  </a:lnTo>
                  <a:lnTo>
                    <a:pt x="481645" y="318120"/>
                  </a:lnTo>
                  <a:lnTo>
                    <a:pt x="486668" y="335421"/>
                  </a:lnTo>
                  <a:lnTo>
                    <a:pt x="491133" y="348258"/>
                  </a:lnTo>
                  <a:lnTo>
                    <a:pt x="493924" y="356071"/>
                  </a:lnTo>
                  <a:lnTo>
                    <a:pt x="495598" y="360536"/>
                  </a:lnTo>
                  <a:lnTo>
                    <a:pt x="500063" y="366117"/>
                  </a:lnTo>
                  <a:lnTo>
                    <a:pt x="508434" y="371140"/>
                  </a:lnTo>
                  <a:lnTo>
                    <a:pt x="517922" y="375047"/>
                  </a:lnTo>
                  <a:lnTo>
                    <a:pt x="526852" y="381186"/>
                  </a:lnTo>
                  <a:lnTo>
                    <a:pt x="535782" y="383977"/>
                  </a:lnTo>
                  <a:lnTo>
                    <a:pt x="544153" y="379512"/>
                  </a:lnTo>
                  <a:lnTo>
                    <a:pt x="553641" y="366117"/>
                  </a:lnTo>
                  <a:lnTo>
                    <a:pt x="560338" y="355513"/>
                  </a:lnTo>
                  <a:lnTo>
                    <a:pt x="568152" y="342119"/>
                  </a:lnTo>
                  <a:lnTo>
                    <a:pt x="580430" y="312539"/>
                  </a:lnTo>
                  <a:lnTo>
                    <a:pt x="586011" y="280727"/>
                  </a:lnTo>
                  <a:lnTo>
                    <a:pt x="587685" y="263984"/>
                  </a:lnTo>
                  <a:lnTo>
                    <a:pt x="589360" y="250031"/>
                  </a:lnTo>
                  <a:lnTo>
                    <a:pt x="593266" y="229381"/>
                  </a:lnTo>
                  <a:lnTo>
                    <a:pt x="598289" y="214312"/>
                  </a:lnTo>
                  <a:lnTo>
                    <a:pt x="611126" y="202592"/>
                  </a:lnTo>
                  <a:lnTo>
                    <a:pt x="625078" y="196453"/>
                  </a:lnTo>
                  <a:lnTo>
                    <a:pt x="635124" y="197569"/>
                  </a:lnTo>
                  <a:lnTo>
                    <a:pt x="642938" y="205383"/>
                  </a:lnTo>
                  <a:lnTo>
                    <a:pt x="651309" y="219335"/>
                  </a:lnTo>
                  <a:lnTo>
                    <a:pt x="660797" y="241102"/>
                  </a:lnTo>
                  <a:lnTo>
                    <a:pt x="668052" y="257287"/>
                  </a:lnTo>
                  <a:lnTo>
                    <a:pt x="675866" y="276262"/>
                  </a:lnTo>
                  <a:lnTo>
                    <a:pt x="683121" y="295796"/>
                  </a:lnTo>
                  <a:lnTo>
                    <a:pt x="687586" y="312539"/>
                  </a:lnTo>
                  <a:lnTo>
                    <a:pt x="687586" y="326492"/>
                  </a:lnTo>
                  <a:lnTo>
                    <a:pt x="684796" y="338212"/>
                  </a:lnTo>
                  <a:lnTo>
                    <a:pt x="678657" y="357187"/>
                  </a:lnTo>
                  <a:lnTo>
                    <a:pt x="679773" y="368908"/>
                  </a:lnTo>
                  <a:lnTo>
                    <a:pt x="678657" y="375047"/>
                  </a:lnTo>
                  <a:lnTo>
                    <a:pt x="670285" y="377837"/>
                  </a:lnTo>
                  <a:lnTo>
                    <a:pt x="660797" y="375047"/>
                  </a:lnTo>
                  <a:lnTo>
                    <a:pt x="655216" y="370582"/>
                  </a:lnTo>
                  <a:lnTo>
                    <a:pt x="653542" y="366117"/>
                  </a:lnTo>
                  <a:lnTo>
                    <a:pt x="651867" y="357187"/>
                  </a:lnTo>
                  <a:lnTo>
                    <a:pt x="650751" y="342677"/>
                  </a:lnTo>
                  <a:lnTo>
                    <a:pt x="650193" y="323143"/>
                  </a:lnTo>
                  <a:lnTo>
                    <a:pt x="650751" y="303051"/>
                  </a:lnTo>
                  <a:lnTo>
                    <a:pt x="651867" y="285750"/>
                  </a:lnTo>
                  <a:lnTo>
                    <a:pt x="660239" y="261193"/>
                  </a:lnTo>
                  <a:lnTo>
                    <a:pt x="669727" y="241102"/>
                  </a:lnTo>
                  <a:lnTo>
                    <a:pt x="678657" y="221010"/>
                  </a:lnTo>
                  <a:lnTo>
                    <a:pt x="687586" y="205383"/>
                  </a:lnTo>
                  <a:lnTo>
                    <a:pt x="697074" y="197569"/>
                  </a:lnTo>
                  <a:lnTo>
                    <a:pt x="705446" y="196453"/>
                  </a:lnTo>
                  <a:lnTo>
                    <a:pt x="709910" y="203150"/>
                  </a:lnTo>
                  <a:lnTo>
                    <a:pt x="714375" y="214312"/>
                  </a:lnTo>
                  <a:lnTo>
                    <a:pt x="723305" y="225475"/>
                  </a:lnTo>
                  <a:lnTo>
                    <a:pt x="728328" y="232172"/>
                  </a:lnTo>
                  <a:lnTo>
                    <a:pt x="732235" y="241102"/>
                  </a:lnTo>
                  <a:lnTo>
                    <a:pt x="735583" y="254496"/>
                  </a:lnTo>
                  <a:lnTo>
                    <a:pt x="737816" y="271239"/>
                  </a:lnTo>
                  <a:lnTo>
                    <a:pt x="740048" y="288540"/>
                  </a:lnTo>
                  <a:lnTo>
                    <a:pt x="741164" y="303609"/>
                  </a:lnTo>
                  <a:lnTo>
                    <a:pt x="741722" y="328166"/>
                  </a:lnTo>
                  <a:lnTo>
                    <a:pt x="741164" y="348258"/>
                  </a:lnTo>
                  <a:lnTo>
                    <a:pt x="741164" y="366117"/>
                  </a:lnTo>
                  <a:lnTo>
                    <a:pt x="741164" y="372256"/>
                  </a:lnTo>
                  <a:lnTo>
                    <a:pt x="741164" y="375047"/>
                  </a:lnTo>
                  <a:lnTo>
                    <a:pt x="741164" y="372256"/>
                  </a:lnTo>
                  <a:lnTo>
                    <a:pt x="741164" y="366675"/>
                  </a:lnTo>
                  <a:lnTo>
                    <a:pt x="741164" y="357187"/>
                  </a:lnTo>
                  <a:lnTo>
                    <a:pt x="741164" y="342677"/>
                  </a:lnTo>
                  <a:lnTo>
                    <a:pt x="740606" y="324259"/>
                  </a:lnTo>
                  <a:lnTo>
                    <a:pt x="740606" y="303609"/>
                  </a:lnTo>
                  <a:lnTo>
                    <a:pt x="741164" y="285750"/>
                  </a:lnTo>
                  <a:lnTo>
                    <a:pt x="743955" y="257287"/>
                  </a:lnTo>
                  <a:lnTo>
                    <a:pt x="750094" y="232172"/>
                  </a:lnTo>
                  <a:lnTo>
                    <a:pt x="762930" y="207057"/>
                  </a:lnTo>
                  <a:lnTo>
                    <a:pt x="770744" y="195895"/>
                  </a:lnTo>
                  <a:lnTo>
                    <a:pt x="776883" y="187523"/>
                  </a:lnTo>
                  <a:lnTo>
                    <a:pt x="786929" y="179152"/>
                  </a:lnTo>
                  <a:lnTo>
                    <a:pt x="794742" y="178594"/>
                  </a:lnTo>
                  <a:lnTo>
                    <a:pt x="803672" y="185849"/>
                  </a:lnTo>
                  <a:lnTo>
                    <a:pt x="812602" y="196453"/>
                  </a:lnTo>
                  <a:lnTo>
                    <a:pt x="821532" y="204267"/>
                  </a:lnTo>
                  <a:lnTo>
                    <a:pt x="830461" y="214312"/>
                  </a:lnTo>
                  <a:lnTo>
                    <a:pt x="839391" y="228823"/>
                  </a:lnTo>
                  <a:lnTo>
                    <a:pt x="848321" y="250031"/>
                  </a:lnTo>
                  <a:lnTo>
                    <a:pt x="852785" y="266216"/>
                  </a:lnTo>
                  <a:lnTo>
                    <a:pt x="856692" y="286308"/>
                  </a:lnTo>
                  <a:lnTo>
                    <a:pt x="861157" y="305842"/>
                  </a:lnTo>
                  <a:lnTo>
                    <a:pt x="866180" y="321469"/>
                  </a:lnTo>
                  <a:lnTo>
                    <a:pt x="872319" y="332073"/>
                  </a:lnTo>
                  <a:lnTo>
                    <a:pt x="879016" y="339886"/>
                  </a:lnTo>
                  <a:lnTo>
                    <a:pt x="892969" y="348258"/>
                  </a:lnTo>
                  <a:lnTo>
                    <a:pt x="899666" y="348816"/>
                  </a:lnTo>
                  <a:lnTo>
                    <a:pt x="906922" y="346583"/>
                  </a:lnTo>
                  <a:lnTo>
                    <a:pt x="919758" y="339328"/>
                  </a:lnTo>
                  <a:lnTo>
                    <a:pt x="929804" y="331515"/>
                  </a:lnTo>
                  <a:lnTo>
                    <a:pt x="937617" y="321469"/>
                  </a:lnTo>
                  <a:lnTo>
                    <a:pt x="947105" y="309190"/>
                  </a:lnTo>
                  <a:lnTo>
                    <a:pt x="955477" y="294680"/>
                  </a:lnTo>
                  <a:lnTo>
                    <a:pt x="961058" y="276262"/>
                  </a:lnTo>
                  <a:lnTo>
                    <a:pt x="964407" y="258961"/>
                  </a:lnTo>
                  <a:lnTo>
                    <a:pt x="964407" y="246683"/>
                  </a:lnTo>
                  <a:lnTo>
                    <a:pt x="964407" y="241102"/>
                  </a:lnTo>
                  <a:lnTo>
                    <a:pt x="966081" y="242776"/>
                  </a:lnTo>
                  <a:lnTo>
                    <a:pt x="968313" y="247241"/>
                  </a:lnTo>
                  <a:lnTo>
                    <a:pt x="973336" y="258961"/>
                  </a:lnTo>
                  <a:lnTo>
                    <a:pt x="977243" y="271797"/>
                  </a:lnTo>
                  <a:lnTo>
                    <a:pt x="982266" y="285750"/>
                  </a:lnTo>
                  <a:lnTo>
                    <a:pt x="990637" y="300261"/>
                  </a:lnTo>
                  <a:lnTo>
                    <a:pt x="1000125" y="312539"/>
                  </a:lnTo>
                  <a:lnTo>
                    <a:pt x="1008497" y="318678"/>
                  </a:lnTo>
                  <a:lnTo>
                    <a:pt x="1017985" y="321469"/>
                  </a:lnTo>
                  <a:lnTo>
                    <a:pt x="1031379" y="323143"/>
                  </a:lnTo>
                  <a:lnTo>
                    <a:pt x="1044774" y="321469"/>
                  </a:lnTo>
                  <a:lnTo>
                    <a:pt x="1054820" y="314771"/>
                  </a:lnTo>
                  <a:lnTo>
                    <a:pt x="1062633" y="303609"/>
                  </a:lnTo>
                  <a:lnTo>
                    <a:pt x="1072121" y="288540"/>
                  </a:lnTo>
                  <a:lnTo>
                    <a:pt x="1080492" y="267891"/>
                  </a:lnTo>
                  <a:lnTo>
                    <a:pt x="1083841" y="253380"/>
                  </a:lnTo>
                  <a:lnTo>
                    <a:pt x="1086632" y="236079"/>
                  </a:lnTo>
                  <a:lnTo>
                    <a:pt x="1088864" y="219335"/>
                  </a:lnTo>
                  <a:lnTo>
                    <a:pt x="1089422" y="205383"/>
                  </a:lnTo>
                  <a:lnTo>
                    <a:pt x="1088864" y="196453"/>
                  </a:lnTo>
                  <a:lnTo>
                    <a:pt x="1086632" y="189756"/>
                  </a:lnTo>
                  <a:lnTo>
                    <a:pt x="1080492" y="178594"/>
                  </a:lnTo>
                  <a:lnTo>
                    <a:pt x="1072121" y="167990"/>
                  </a:lnTo>
                  <a:lnTo>
                    <a:pt x="1062633" y="160734"/>
                  </a:lnTo>
                  <a:lnTo>
                    <a:pt x="1053703" y="159060"/>
                  </a:lnTo>
                  <a:lnTo>
                    <a:pt x="1044774" y="160734"/>
                  </a:lnTo>
                  <a:lnTo>
                    <a:pt x="1035844" y="163525"/>
                  </a:lnTo>
                  <a:lnTo>
                    <a:pt x="1026914" y="169664"/>
                  </a:lnTo>
                  <a:lnTo>
                    <a:pt x="1019101" y="179710"/>
                  </a:lnTo>
                  <a:lnTo>
                    <a:pt x="1009055" y="196453"/>
                  </a:lnTo>
                  <a:lnTo>
                    <a:pt x="1002358" y="210964"/>
                  </a:lnTo>
                  <a:lnTo>
                    <a:pt x="993986" y="228265"/>
                  </a:lnTo>
                  <a:lnTo>
                    <a:pt x="986731" y="245566"/>
                  </a:lnTo>
                  <a:lnTo>
                    <a:pt x="982266" y="258961"/>
                  </a:lnTo>
                  <a:lnTo>
                    <a:pt x="981708" y="266774"/>
                  </a:lnTo>
                  <a:lnTo>
                    <a:pt x="983940" y="271239"/>
                  </a:lnTo>
                  <a:lnTo>
                    <a:pt x="991196" y="276820"/>
                  </a:lnTo>
                  <a:lnTo>
                    <a:pt x="1009055" y="285750"/>
                  </a:lnTo>
                  <a:lnTo>
                    <a:pt x="1021891" y="287424"/>
                  </a:lnTo>
                  <a:lnTo>
                    <a:pt x="1035844" y="285750"/>
                  </a:lnTo>
                  <a:lnTo>
                    <a:pt x="1049797" y="278495"/>
                  </a:lnTo>
                  <a:lnTo>
                    <a:pt x="1062633" y="267891"/>
                  </a:lnTo>
                  <a:lnTo>
                    <a:pt x="1072679" y="254496"/>
                  </a:lnTo>
                  <a:lnTo>
                    <a:pt x="1080492" y="241102"/>
                  </a:lnTo>
                  <a:lnTo>
                    <a:pt x="1090538" y="231614"/>
                  </a:lnTo>
                  <a:lnTo>
                    <a:pt x="1098352" y="223242"/>
                  </a:lnTo>
                  <a:lnTo>
                    <a:pt x="1100026" y="217661"/>
                  </a:lnTo>
                  <a:lnTo>
                    <a:pt x="1101142" y="210964"/>
                  </a:lnTo>
                  <a:lnTo>
                    <a:pt x="1100026" y="205941"/>
                  </a:lnTo>
                  <a:lnTo>
                    <a:pt x="1098352" y="205383"/>
                  </a:lnTo>
                  <a:lnTo>
                    <a:pt x="1094445" y="209848"/>
                  </a:lnTo>
                  <a:lnTo>
                    <a:pt x="1088864" y="218219"/>
                  </a:lnTo>
                  <a:lnTo>
                    <a:pt x="1083841" y="229381"/>
                  </a:lnTo>
                  <a:lnTo>
                    <a:pt x="1080492" y="241102"/>
                  </a:lnTo>
                  <a:lnTo>
                    <a:pt x="1081051" y="255612"/>
                  </a:lnTo>
                  <a:lnTo>
                    <a:pt x="1082725" y="272355"/>
                  </a:lnTo>
                  <a:lnTo>
                    <a:pt x="1086073" y="289099"/>
                  </a:lnTo>
                  <a:lnTo>
                    <a:pt x="1089422" y="303609"/>
                  </a:lnTo>
                  <a:lnTo>
                    <a:pt x="1097236" y="324259"/>
                  </a:lnTo>
                  <a:lnTo>
                    <a:pt x="1107282" y="339328"/>
                  </a:lnTo>
                  <a:lnTo>
                    <a:pt x="1120676" y="354397"/>
                  </a:lnTo>
                  <a:lnTo>
                    <a:pt x="1134071" y="366117"/>
                  </a:lnTo>
                  <a:lnTo>
                    <a:pt x="1143000" y="371698"/>
                  </a:lnTo>
                  <a:lnTo>
                    <a:pt x="1151930" y="375047"/>
                  </a:lnTo>
                  <a:lnTo>
                    <a:pt x="1165324" y="382302"/>
                  </a:lnTo>
                  <a:lnTo>
                    <a:pt x="1172580" y="384535"/>
                  </a:lnTo>
                  <a:lnTo>
                    <a:pt x="1178719" y="383977"/>
                  </a:lnTo>
                  <a:lnTo>
                    <a:pt x="1188765" y="373931"/>
                  </a:lnTo>
                  <a:lnTo>
                    <a:pt x="1196578" y="357187"/>
                  </a:lnTo>
                  <a:lnTo>
                    <a:pt x="1206066" y="336538"/>
                  </a:lnTo>
                  <a:lnTo>
                    <a:pt x="1214438" y="312539"/>
                  </a:lnTo>
                  <a:lnTo>
                    <a:pt x="1220019" y="286308"/>
                  </a:lnTo>
                  <a:lnTo>
                    <a:pt x="1223367" y="258961"/>
                  </a:lnTo>
                  <a:lnTo>
                    <a:pt x="1222809" y="231056"/>
                  </a:lnTo>
                  <a:lnTo>
                    <a:pt x="1223367" y="205383"/>
                  </a:lnTo>
                  <a:lnTo>
                    <a:pt x="1231739" y="185291"/>
                  </a:lnTo>
                  <a:lnTo>
                    <a:pt x="1241227" y="169664"/>
                  </a:lnTo>
                  <a:lnTo>
                    <a:pt x="1249598" y="158502"/>
                  </a:lnTo>
                  <a:lnTo>
                    <a:pt x="1259086" y="151805"/>
                  </a:lnTo>
                  <a:lnTo>
                    <a:pt x="1272481" y="149572"/>
                  </a:lnTo>
                  <a:lnTo>
                    <a:pt x="1285875" y="151805"/>
                  </a:lnTo>
                  <a:lnTo>
                    <a:pt x="1294805" y="157386"/>
                  </a:lnTo>
                  <a:lnTo>
                    <a:pt x="1303735" y="169664"/>
                  </a:lnTo>
                  <a:lnTo>
                    <a:pt x="1310432" y="180826"/>
                  </a:lnTo>
                  <a:lnTo>
                    <a:pt x="1318245" y="194779"/>
                  </a:lnTo>
                  <a:lnTo>
                    <a:pt x="1330524" y="223242"/>
                  </a:lnTo>
                  <a:lnTo>
                    <a:pt x="1335547" y="246683"/>
                  </a:lnTo>
                  <a:lnTo>
                    <a:pt x="1339453" y="267891"/>
                  </a:lnTo>
                  <a:lnTo>
                    <a:pt x="1348383" y="291331"/>
                  </a:lnTo>
                  <a:lnTo>
                    <a:pt x="1357313" y="312539"/>
                  </a:lnTo>
                  <a:lnTo>
                    <a:pt x="1364568" y="330398"/>
                  </a:lnTo>
                  <a:lnTo>
                    <a:pt x="1366801" y="337096"/>
                  </a:lnTo>
                  <a:lnTo>
                    <a:pt x="1366242" y="339328"/>
                  </a:lnTo>
                  <a:lnTo>
                    <a:pt x="1361778" y="335979"/>
                  </a:lnTo>
                  <a:lnTo>
                    <a:pt x="1354522" y="328724"/>
                  </a:lnTo>
                  <a:lnTo>
                    <a:pt x="1346709" y="319794"/>
                  </a:lnTo>
                  <a:lnTo>
                    <a:pt x="1339453" y="312539"/>
                  </a:lnTo>
                  <a:lnTo>
                    <a:pt x="1328849" y="303051"/>
                  </a:lnTo>
                  <a:lnTo>
                    <a:pt x="1321594" y="294680"/>
                  </a:lnTo>
                  <a:lnTo>
                    <a:pt x="1319362" y="285192"/>
                  </a:lnTo>
                  <a:lnTo>
                    <a:pt x="1321594" y="276820"/>
                  </a:lnTo>
                  <a:lnTo>
                    <a:pt x="1329966" y="276262"/>
                  </a:lnTo>
                  <a:lnTo>
                    <a:pt x="1339453" y="276820"/>
                  </a:lnTo>
                  <a:lnTo>
                    <a:pt x="1347267" y="272355"/>
                  </a:lnTo>
                  <a:lnTo>
                    <a:pt x="1357313" y="267891"/>
                  </a:lnTo>
                  <a:lnTo>
                    <a:pt x="1373498" y="269007"/>
                  </a:lnTo>
                  <a:lnTo>
                    <a:pt x="1393032" y="267891"/>
                  </a:lnTo>
                  <a:lnTo>
                    <a:pt x="1404752" y="264542"/>
                  </a:lnTo>
                  <a:lnTo>
                    <a:pt x="1417588" y="258961"/>
                  </a:lnTo>
                  <a:lnTo>
                    <a:pt x="1429308" y="253938"/>
                  </a:lnTo>
                  <a:lnTo>
                    <a:pt x="1437680" y="25003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1" name="34eeaf38-aa78-454a-96c2-50621cbea596"/>
            <p:cNvSpPr/>
            <p:nvPr/>
          </p:nvSpPr>
          <p:spPr>
            <a:xfrm>
              <a:off x="9037080" y="4592520"/>
              <a:ext cx="8640" cy="17640"/>
            </a:xfrm>
            <a:custGeom>
              <a:avLst/>
              <a:gdLst>
                <a:gd name="textAreaLeft" fmla="*/ 0 w 8640"/>
                <a:gd name="textAreaRight" fmla="*/ 9000 w 8640"/>
                <a:gd name="textAreaTop" fmla="*/ 0 h 17640"/>
                <a:gd name="textAreaBottom" fmla="*/ 18000 h 17640"/>
              </a:gdLst>
              <a:ahLst/>
              <a:rect l="textAreaLeft" t="textAreaTop" r="textAreaRight" b="textAreaBottom"/>
              <a:pathLst>
                <a:path w="8930" h="17859">
                  <a:moveTo>
                    <a:pt x="0" y="0"/>
                  </a:moveTo>
                  <a:lnTo>
                    <a:pt x="4465" y="8930"/>
                  </a:lnTo>
                  <a:lnTo>
                    <a:pt x="8930" y="17859"/>
                  </a:lnTo>
                </a:path>
              </a:pathLst>
            </a:custGeom>
            <a:noFill/>
            <a:ln w="17640">
              <a:solidFill>
                <a:srgbClr val="0000ff"/>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82" name="d9c817e1-9f9d-47fe-8cb4-f7f1c7f54e69"/>
            <p:cNvSpPr/>
            <p:nvPr/>
          </p:nvSpPr>
          <p:spPr>
            <a:xfrm>
              <a:off x="480960" y="3976200"/>
              <a:ext cx="5724720" cy="133920"/>
            </a:xfrm>
            <a:custGeom>
              <a:avLst/>
              <a:gdLst>
                <a:gd name="textAreaLeft" fmla="*/ 0 w 5724720"/>
                <a:gd name="textAreaRight" fmla="*/ 5725080 w 5724720"/>
                <a:gd name="textAreaTop" fmla="*/ 0 h 133920"/>
                <a:gd name="textAreaBottom" fmla="*/ 134280 h 133920"/>
              </a:gdLst>
              <a:ahLst/>
              <a:rect l="textAreaLeft" t="textAreaTop" r="textAreaRight" b="textAreaBottom"/>
              <a:pathLst>
                <a:path w="5723930" h="133945">
                  <a:moveTo>
                    <a:pt x="0" y="116086"/>
                  </a:moveTo>
                  <a:lnTo>
                    <a:pt x="23441" y="113295"/>
                  </a:lnTo>
                  <a:lnTo>
                    <a:pt x="41858" y="111063"/>
                  </a:lnTo>
                  <a:lnTo>
                    <a:pt x="66415" y="112737"/>
                  </a:lnTo>
                  <a:lnTo>
                    <a:pt x="85390" y="113853"/>
                  </a:lnTo>
                  <a:lnTo>
                    <a:pt x="101017" y="114969"/>
                  </a:lnTo>
                  <a:lnTo>
                    <a:pt x="132829" y="115527"/>
                  </a:lnTo>
                  <a:lnTo>
                    <a:pt x="165758" y="118876"/>
                  </a:lnTo>
                  <a:lnTo>
                    <a:pt x="191430" y="121109"/>
                  </a:lnTo>
                  <a:lnTo>
                    <a:pt x="225475" y="119434"/>
                  </a:lnTo>
                  <a:lnTo>
                    <a:pt x="251706" y="118318"/>
                  </a:lnTo>
                  <a:lnTo>
                    <a:pt x="280727" y="117760"/>
                  </a:lnTo>
                  <a:lnTo>
                    <a:pt x="303052" y="117202"/>
                  </a:lnTo>
                  <a:lnTo>
                    <a:pt x="329841" y="116644"/>
                  </a:lnTo>
                  <a:lnTo>
                    <a:pt x="350490" y="116644"/>
                  </a:lnTo>
                  <a:lnTo>
                    <a:pt x="379512" y="113295"/>
                  </a:lnTo>
                  <a:lnTo>
                    <a:pt x="401278" y="111063"/>
                  </a:lnTo>
                  <a:lnTo>
                    <a:pt x="428067" y="109946"/>
                  </a:lnTo>
                  <a:lnTo>
                    <a:pt x="448717" y="108830"/>
                  </a:lnTo>
                  <a:lnTo>
                    <a:pt x="474390" y="108272"/>
                  </a:lnTo>
                  <a:lnTo>
                    <a:pt x="494482" y="108272"/>
                  </a:lnTo>
                  <a:lnTo>
                    <a:pt x="520155" y="111063"/>
                  </a:lnTo>
                  <a:lnTo>
                    <a:pt x="539688" y="112737"/>
                  </a:lnTo>
                  <a:lnTo>
                    <a:pt x="568152" y="113853"/>
                  </a:lnTo>
                  <a:lnTo>
                    <a:pt x="589918" y="114411"/>
                  </a:lnTo>
                  <a:lnTo>
                    <a:pt x="616149" y="114969"/>
                  </a:lnTo>
                  <a:lnTo>
                    <a:pt x="636799" y="115527"/>
                  </a:lnTo>
                  <a:lnTo>
                    <a:pt x="665262" y="115527"/>
                  </a:lnTo>
                  <a:lnTo>
                    <a:pt x="687586" y="116086"/>
                  </a:lnTo>
                  <a:lnTo>
                    <a:pt x="719956" y="116086"/>
                  </a:lnTo>
                  <a:lnTo>
                    <a:pt x="745071" y="116086"/>
                  </a:lnTo>
                  <a:lnTo>
                    <a:pt x="776325" y="116086"/>
                  </a:lnTo>
                  <a:lnTo>
                    <a:pt x="800323" y="116086"/>
                  </a:lnTo>
                  <a:lnTo>
                    <a:pt x="833810" y="113295"/>
                  </a:lnTo>
                  <a:lnTo>
                    <a:pt x="860041" y="111063"/>
                  </a:lnTo>
                  <a:lnTo>
                    <a:pt x="891853" y="109946"/>
                  </a:lnTo>
                  <a:lnTo>
                    <a:pt x="916409" y="108830"/>
                  </a:lnTo>
                  <a:lnTo>
                    <a:pt x="949896" y="111063"/>
                  </a:lnTo>
                  <a:lnTo>
                    <a:pt x="976127" y="113295"/>
                  </a:lnTo>
                  <a:lnTo>
                    <a:pt x="1010729" y="114411"/>
                  </a:lnTo>
                  <a:lnTo>
                    <a:pt x="1037518" y="114969"/>
                  </a:lnTo>
                  <a:lnTo>
                    <a:pt x="1069330" y="115527"/>
                  </a:lnTo>
                  <a:lnTo>
                    <a:pt x="1094445" y="115527"/>
                  </a:lnTo>
                  <a:lnTo>
                    <a:pt x="1128490" y="115527"/>
                  </a:lnTo>
                  <a:lnTo>
                    <a:pt x="1154720" y="116086"/>
                  </a:lnTo>
                  <a:lnTo>
                    <a:pt x="1189323" y="118876"/>
                  </a:lnTo>
                  <a:lnTo>
                    <a:pt x="1216112" y="121109"/>
                  </a:lnTo>
                  <a:lnTo>
                    <a:pt x="1251273" y="122225"/>
                  </a:lnTo>
                  <a:lnTo>
                    <a:pt x="1278062" y="123341"/>
                  </a:lnTo>
                  <a:lnTo>
                    <a:pt x="1316013" y="123899"/>
                  </a:lnTo>
                  <a:lnTo>
                    <a:pt x="1345593" y="124457"/>
                  </a:lnTo>
                  <a:lnTo>
                    <a:pt x="1381869" y="124457"/>
                  </a:lnTo>
                  <a:lnTo>
                    <a:pt x="1410333" y="125015"/>
                  </a:lnTo>
                  <a:lnTo>
                    <a:pt x="1448842" y="127806"/>
                  </a:lnTo>
                  <a:lnTo>
                    <a:pt x="1478980" y="130038"/>
                  </a:lnTo>
                  <a:lnTo>
                    <a:pt x="1518605" y="131154"/>
                  </a:lnTo>
                  <a:lnTo>
                    <a:pt x="1548743" y="132271"/>
                  </a:lnTo>
                  <a:lnTo>
                    <a:pt x="1586136" y="132829"/>
                  </a:lnTo>
                  <a:lnTo>
                    <a:pt x="1614599" y="133387"/>
                  </a:lnTo>
                  <a:lnTo>
                    <a:pt x="1653667" y="133387"/>
                  </a:lnTo>
                  <a:lnTo>
                    <a:pt x="1683804" y="133945"/>
                  </a:lnTo>
                  <a:lnTo>
                    <a:pt x="1723430" y="133945"/>
                  </a:lnTo>
                  <a:lnTo>
                    <a:pt x="1754126" y="133945"/>
                  </a:lnTo>
                  <a:lnTo>
                    <a:pt x="1794309" y="133945"/>
                  </a:lnTo>
                  <a:lnTo>
                    <a:pt x="1825005" y="133945"/>
                  </a:lnTo>
                  <a:lnTo>
                    <a:pt x="1865189" y="133945"/>
                  </a:lnTo>
                  <a:lnTo>
                    <a:pt x="1896443" y="133945"/>
                  </a:lnTo>
                  <a:lnTo>
                    <a:pt x="1936626" y="133945"/>
                  </a:lnTo>
                  <a:lnTo>
                    <a:pt x="1967880" y="133945"/>
                  </a:lnTo>
                  <a:lnTo>
                    <a:pt x="2010854" y="133945"/>
                  </a:lnTo>
                  <a:lnTo>
                    <a:pt x="2044341" y="133945"/>
                  </a:lnTo>
                  <a:lnTo>
                    <a:pt x="2086198" y="131154"/>
                  </a:lnTo>
                  <a:lnTo>
                    <a:pt x="2118011" y="128922"/>
                  </a:lnTo>
                  <a:lnTo>
                    <a:pt x="2158753" y="127806"/>
                  </a:lnTo>
                  <a:lnTo>
                    <a:pt x="2190565" y="126690"/>
                  </a:lnTo>
                  <a:lnTo>
                    <a:pt x="2234097" y="123341"/>
                  </a:lnTo>
                  <a:lnTo>
                    <a:pt x="2267583" y="120550"/>
                  </a:lnTo>
                  <a:lnTo>
                    <a:pt x="2309441" y="118876"/>
                  </a:lnTo>
                  <a:lnTo>
                    <a:pt x="2341253" y="117760"/>
                  </a:lnTo>
                  <a:lnTo>
                    <a:pt x="2381995" y="117202"/>
                  </a:lnTo>
                  <a:lnTo>
                    <a:pt x="2413807" y="116644"/>
                  </a:lnTo>
                  <a:lnTo>
                    <a:pt x="2454549" y="116644"/>
                  </a:lnTo>
                  <a:lnTo>
                    <a:pt x="2485803" y="116086"/>
                  </a:lnTo>
                  <a:lnTo>
                    <a:pt x="2528777" y="116086"/>
                  </a:lnTo>
                  <a:lnTo>
                    <a:pt x="2562263" y="116086"/>
                  </a:lnTo>
                  <a:lnTo>
                    <a:pt x="2604121" y="116086"/>
                  </a:lnTo>
                  <a:lnTo>
                    <a:pt x="2635933" y="116086"/>
                  </a:lnTo>
                  <a:lnTo>
                    <a:pt x="2676675" y="116086"/>
                  </a:lnTo>
                  <a:lnTo>
                    <a:pt x="2708487" y="116086"/>
                  </a:lnTo>
                  <a:lnTo>
                    <a:pt x="2749229" y="113295"/>
                  </a:lnTo>
                  <a:lnTo>
                    <a:pt x="2780483" y="111063"/>
                  </a:lnTo>
                  <a:lnTo>
                    <a:pt x="2823457" y="106598"/>
                  </a:lnTo>
                  <a:lnTo>
                    <a:pt x="2856943" y="103807"/>
                  </a:lnTo>
                  <a:lnTo>
                    <a:pt x="2898801" y="102133"/>
                  </a:lnTo>
                  <a:lnTo>
                    <a:pt x="2930613" y="100459"/>
                  </a:lnTo>
                  <a:lnTo>
                    <a:pt x="2974145" y="96552"/>
                  </a:lnTo>
                  <a:lnTo>
                    <a:pt x="3008189" y="93761"/>
                  </a:lnTo>
                  <a:lnTo>
                    <a:pt x="3050047" y="92087"/>
                  </a:lnTo>
                  <a:lnTo>
                    <a:pt x="3082417" y="91529"/>
                  </a:lnTo>
                  <a:lnTo>
                    <a:pt x="3123159" y="93761"/>
                  </a:lnTo>
                  <a:lnTo>
                    <a:pt x="3154971" y="95436"/>
                  </a:lnTo>
                  <a:lnTo>
                    <a:pt x="3198503" y="96552"/>
                  </a:lnTo>
                  <a:lnTo>
                    <a:pt x="3231989" y="97110"/>
                  </a:lnTo>
                  <a:lnTo>
                    <a:pt x="3273847" y="97668"/>
                  </a:lnTo>
                  <a:lnTo>
                    <a:pt x="3305659" y="97668"/>
                  </a:lnTo>
                  <a:lnTo>
                    <a:pt x="3346401" y="97668"/>
                  </a:lnTo>
                  <a:lnTo>
                    <a:pt x="3378213" y="97668"/>
                  </a:lnTo>
                  <a:lnTo>
                    <a:pt x="3415607" y="94878"/>
                  </a:lnTo>
                  <a:lnTo>
                    <a:pt x="3444627" y="92645"/>
                  </a:lnTo>
                  <a:lnTo>
                    <a:pt x="3483695" y="91529"/>
                  </a:lnTo>
                  <a:lnTo>
                    <a:pt x="3514391" y="90971"/>
                  </a:lnTo>
                  <a:lnTo>
                    <a:pt x="3554017" y="90413"/>
                  </a:lnTo>
                  <a:lnTo>
                    <a:pt x="3584713" y="89855"/>
                  </a:lnTo>
                  <a:lnTo>
                    <a:pt x="3624895" y="89855"/>
                  </a:lnTo>
                  <a:lnTo>
                    <a:pt x="3655591" y="89297"/>
                  </a:lnTo>
                  <a:lnTo>
                    <a:pt x="3692985" y="89297"/>
                  </a:lnTo>
                  <a:lnTo>
                    <a:pt x="3722007" y="89297"/>
                  </a:lnTo>
                  <a:lnTo>
                    <a:pt x="3761073" y="89297"/>
                  </a:lnTo>
                  <a:lnTo>
                    <a:pt x="3791211" y="89297"/>
                  </a:lnTo>
                  <a:lnTo>
                    <a:pt x="3828047" y="89297"/>
                  </a:lnTo>
                  <a:lnTo>
                    <a:pt x="3856509" y="89297"/>
                  </a:lnTo>
                  <a:lnTo>
                    <a:pt x="3892229" y="89297"/>
                  </a:lnTo>
                  <a:lnTo>
                    <a:pt x="3920133" y="89297"/>
                  </a:lnTo>
                  <a:lnTo>
                    <a:pt x="3955853" y="89297"/>
                  </a:lnTo>
                  <a:lnTo>
                    <a:pt x="3983199" y="89297"/>
                  </a:lnTo>
                  <a:lnTo>
                    <a:pt x="4018361" y="89297"/>
                  </a:lnTo>
                  <a:lnTo>
                    <a:pt x="4045707" y="89297"/>
                  </a:lnTo>
                  <a:lnTo>
                    <a:pt x="4078077" y="89297"/>
                  </a:lnTo>
                  <a:lnTo>
                    <a:pt x="4103193" y="89297"/>
                  </a:lnTo>
                  <a:lnTo>
                    <a:pt x="4137237" y="89297"/>
                  </a:lnTo>
                  <a:lnTo>
                    <a:pt x="4163467" y="89297"/>
                  </a:lnTo>
                  <a:lnTo>
                    <a:pt x="4198070" y="89297"/>
                  </a:lnTo>
                  <a:lnTo>
                    <a:pt x="4224858" y="89297"/>
                  </a:lnTo>
                  <a:lnTo>
                    <a:pt x="4260018" y="89297"/>
                  </a:lnTo>
                  <a:lnTo>
                    <a:pt x="4287366" y="89297"/>
                  </a:lnTo>
                  <a:lnTo>
                    <a:pt x="4322526" y="86506"/>
                  </a:lnTo>
                  <a:lnTo>
                    <a:pt x="4349318" y="84274"/>
                  </a:lnTo>
                  <a:lnTo>
                    <a:pt x="4381686" y="83157"/>
                  </a:lnTo>
                  <a:lnTo>
                    <a:pt x="4406802" y="82041"/>
                  </a:lnTo>
                  <a:lnTo>
                    <a:pt x="4440846" y="78692"/>
                  </a:lnTo>
                  <a:lnTo>
                    <a:pt x="4467078" y="75902"/>
                  </a:lnTo>
                  <a:lnTo>
                    <a:pt x="4498890" y="71437"/>
                  </a:lnTo>
                  <a:lnTo>
                    <a:pt x="4523446" y="68088"/>
                  </a:lnTo>
                  <a:lnTo>
                    <a:pt x="4554142" y="66414"/>
                  </a:lnTo>
                  <a:lnTo>
                    <a:pt x="4578138" y="64740"/>
                  </a:lnTo>
                  <a:lnTo>
                    <a:pt x="4608834" y="64182"/>
                  </a:lnTo>
                  <a:lnTo>
                    <a:pt x="4632278" y="63624"/>
                  </a:lnTo>
                  <a:lnTo>
                    <a:pt x="4662414" y="63066"/>
                  </a:lnTo>
                  <a:lnTo>
                    <a:pt x="4685854" y="63066"/>
                  </a:lnTo>
                  <a:lnTo>
                    <a:pt x="4713202" y="65856"/>
                  </a:lnTo>
                  <a:lnTo>
                    <a:pt x="4734410" y="68088"/>
                  </a:lnTo>
                  <a:lnTo>
                    <a:pt x="4766222" y="69205"/>
                  </a:lnTo>
                  <a:lnTo>
                    <a:pt x="4790778" y="69763"/>
                  </a:lnTo>
                  <a:lnTo>
                    <a:pt x="4818682" y="70321"/>
                  </a:lnTo>
                  <a:lnTo>
                    <a:pt x="4840450" y="70879"/>
                  </a:lnTo>
                  <a:lnTo>
                    <a:pt x="4870030" y="70879"/>
                  </a:lnTo>
                  <a:lnTo>
                    <a:pt x="4892354" y="70879"/>
                  </a:lnTo>
                  <a:lnTo>
                    <a:pt x="4919142" y="65298"/>
                  </a:lnTo>
                  <a:lnTo>
                    <a:pt x="4940350" y="60833"/>
                  </a:lnTo>
                  <a:lnTo>
                    <a:pt x="4969370" y="55252"/>
                  </a:lnTo>
                  <a:lnTo>
                    <a:pt x="4991698" y="51345"/>
                  </a:lnTo>
                  <a:lnTo>
                    <a:pt x="5021274" y="46322"/>
                  </a:lnTo>
                  <a:lnTo>
                    <a:pt x="5044158" y="42416"/>
                  </a:lnTo>
                  <a:lnTo>
                    <a:pt x="5074294" y="37393"/>
                  </a:lnTo>
                  <a:lnTo>
                    <a:pt x="5097178" y="33486"/>
                  </a:lnTo>
                  <a:lnTo>
                    <a:pt x="5127314" y="31254"/>
                  </a:lnTo>
                  <a:lnTo>
                    <a:pt x="5150198" y="29579"/>
                  </a:lnTo>
                  <a:lnTo>
                    <a:pt x="5177546" y="28463"/>
                  </a:lnTo>
                  <a:lnTo>
                    <a:pt x="5198754" y="27905"/>
                  </a:lnTo>
                  <a:lnTo>
                    <a:pt x="5224986" y="27347"/>
                  </a:lnTo>
                  <a:lnTo>
                    <a:pt x="5245074" y="27347"/>
                  </a:lnTo>
                  <a:lnTo>
                    <a:pt x="5260702" y="26789"/>
                  </a:lnTo>
                  <a:lnTo>
                    <a:pt x="5293074" y="23998"/>
                  </a:lnTo>
                  <a:lnTo>
                    <a:pt x="5317630" y="21766"/>
                  </a:lnTo>
                  <a:lnTo>
                    <a:pt x="5336606" y="19533"/>
                  </a:lnTo>
                  <a:lnTo>
                    <a:pt x="5370090" y="16185"/>
                  </a:lnTo>
                  <a:lnTo>
                    <a:pt x="5395766" y="13394"/>
                  </a:lnTo>
                  <a:lnTo>
                    <a:pt x="5415298" y="11162"/>
                  </a:lnTo>
                  <a:lnTo>
                    <a:pt x="5429810" y="8929"/>
                  </a:lnTo>
                  <a:lnTo>
                    <a:pt x="5451574" y="5581"/>
                  </a:lnTo>
                  <a:lnTo>
                    <a:pt x="5473898" y="0"/>
                  </a:lnTo>
                  <a:lnTo>
                    <a:pt x="5500690" y="0"/>
                  </a:lnTo>
                  <a:lnTo>
                    <a:pt x="5527478" y="0"/>
                  </a:lnTo>
                  <a:lnTo>
                    <a:pt x="5545338" y="0"/>
                  </a:lnTo>
                  <a:lnTo>
                    <a:pt x="5572126" y="0"/>
                  </a:lnTo>
                  <a:lnTo>
                    <a:pt x="5589986" y="0"/>
                  </a:lnTo>
                  <a:lnTo>
                    <a:pt x="5607846" y="0"/>
                  </a:lnTo>
                  <a:lnTo>
                    <a:pt x="5634634" y="0"/>
                  </a:lnTo>
                  <a:lnTo>
                    <a:pt x="5652494" y="0"/>
                  </a:lnTo>
                  <a:lnTo>
                    <a:pt x="5670354" y="0"/>
                  </a:lnTo>
                  <a:lnTo>
                    <a:pt x="5688210" y="0"/>
                  </a:lnTo>
                  <a:lnTo>
                    <a:pt x="5706070" y="0"/>
                  </a:lnTo>
                  <a:lnTo>
                    <a:pt x="5723930" y="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3" name="390b6d8a-3532-4672-98d6-19f7e7192a47"/>
            <p:cNvSpPr/>
            <p:nvPr/>
          </p:nvSpPr>
          <p:spPr>
            <a:xfrm>
              <a:off x="480960" y="4262040"/>
              <a:ext cx="723240" cy="35640"/>
            </a:xfrm>
            <a:custGeom>
              <a:avLst/>
              <a:gdLst>
                <a:gd name="textAreaLeft" fmla="*/ 0 w 723240"/>
                <a:gd name="textAreaRight" fmla="*/ 723600 w 723240"/>
                <a:gd name="textAreaTop" fmla="*/ 0 h 35640"/>
                <a:gd name="textAreaBottom" fmla="*/ 36000 h 35640"/>
              </a:gdLst>
              <a:ahLst/>
              <a:rect l="textAreaLeft" t="textAreaTop" r="textAreaRight" b="textAreaBottom"/>
              <a:pathLst>
                <a:path w="723305" h="35718">
                  <a:moveTo>
                    <a:pt x="0" y="26789"/>
                  </a:moveTo>
                  <a:lnTo>
                    <a:pt x="22324" y="26789"/>
                  </a:lnTo>
                  <a:lnTo>
                    <a:pt x="56369" y="29579"/>
                  </a:lnTo>
                  <a:lnTo>
                    <a:pt x="82600" y="31812"/>
                  </a:lnTo>
                  <a:lnTo>
                    <a:pt x="117202" y="32928"/>
                  </a:lnTo>
                  <a:lnTo>
                    <a:pt x="143991" y="34044"/>
                  </a:lnTo>
                  <a:lnTo>
                    <a:pt x="179152" y="34602"/>
                  </a:lnTo>
                  <a:lnTo>
                    <a:pt x="206499" y="35160"/>
                  </a:lnTo>
                  <a:lnTo>
                    <a:pt x="244450" y="35160"/>
                  </a:lnTo>
                  <a:lnTo>
                    <a:pt x="274030" y="35718"/>
                  </a:lnTo>
                  <a:lnTo>
                    <a:pt x="313656" y="35718"/>
                  </a:lnTo>
                  <a:lnTo>
                    <a:pt x="343793" y="35718"/>
                  </a:lnTo>
                  <a:lnTo>
                    <a:pt x="383977" y="35718"/>
                  </a:lnTo>
                  <a:lnTo>
                    <a:pt x="414673" y="35718"/>
                  </a:lnTo>
                  <a:lnTo>
                    <a:pt x="452066" y="32928"/>
                  </a:lnTo>
                  <a:lnTo>
                    <a:pt x="480529" y="30695"/>
                  </a:lnTo>
                  <a:lnTo>
                    <a:pt x="516806" y="26231"/>
                  </a:lnTo>
                  <a:lnTo>
                    <a:pt x="544153" y="22882"/>
                  </a:lnTo>
                  <a:lnTo>
                    <a:pt x="579872" y="15068"/>
                  </a:lnTo>
                  <a:lnTo>
                    <a:pt x="607777" y="9487"/>
                  </a:lnTo>
                  <a:lnTo>
                    <a:pt x="629543" y="5581"/>
                  </a:lnTo>
                  <a:lnTo>
                    <a:pt x="647403" y="2790"/>
                  </a:lnTo>
                  <a:lnTo>
                    <a:pt x="680331" y="558"/>
                  </a:lnTo>
                  <a:lnTo>
                    <a:pt x="699306" y="0"/>
                  </a:lnTo>
                  <a:lnTo>
                    <a:pt x="723305" y="0"/>
                  </a:lnTo>
                </a:path>
              </a:pathLst>
            </a:custGeom>
            <a:noFill/>
            <a:ln w="106920">
              <a:solidFill>
                <a:srgbClr val="00ff00">
                  <a:alpha val="50000"/>
                </a:srgbClr>
              </a:solidFill>
              <a:round/>
            </a:ln>
          </p:spPr>
          <p:style>
            <a:lnRef idx="0"/>
            <a:fillRef idx="0"/>
            <a:effectRef idx="0"/>
            <a:fontRef idx="minor"/>
          </p:style>
          <p:txBody>
            <a:bodyPr lIns="90000" rIns="90000" tIns="-10800" bIns="-10800" anchor="ctr" anchorCtr="1">
              <a:noAutofit/>
            </a:bodyPr>
            <a:p>
              <a:endParaRPr b="0" lang="en-US" sz="1800" spc="-1" strike="noStrike">
                <a:solidFill>
                  <a:srgbClr val="000000"/>
                </a:solidFill>
                <a:latin typeface="Arial"/>
              </a:endParaRPr>
            </a:p>
          </p:txBody>
        </p:sp>
        <p:sp>
          <p:nvSpPr>
            <p:cNvPr id="184" name="9e025cec-99d0-4337-89f1-25eac90b8352"/>
            <p:cNvSpPr/>
            <p:nvPr/>
          </p:nvSpPr>
          <p:spPr>
            <a:xfrm>
              <a:off x="5384160" y="3825000"/>
              <a:ext cx="723240" cy="25920"/>
            </a:xfrm>
            <a:custGeom>
              <a:avLst/>
              <a:gdLst>
                <a:gd name="textAreaLeft" fmla="*/ 0 w 723240"/>
                <a:gd name="textAreaRight" fmla="*/ 723600 w 723240"/>
                <a:gd name="textAreaTop" fmla="*/ 0 h 25920"/>
                <a:gd name="textAreaBottom" fmla="*/ 26280 h 25920"/>
              </a:gdLst>
              <a:ahLst/>
              <a:rect l="textAreaLeft" t="textAreaTop" r="textAreaRight" b="textAreaBottom"/>
              <a:pathLst>
                <a:path w="723304" h="26231">
                  <a:moveTo>
                    <a:pt x="0" y="17301"/>
                  </a:moveTo>
                  <a:lnTo>
                    <a:pt x="26789" y="14511"/>
                  </a:lnTo>
                  <a:lnTo>
                    <a:pt x="47997" y="12278"/>
                  </a:lnTo>
                  <a:lnTo>
                    <a:pt x="65298" y="10604"/>
                  </a:lnTo>
                  <a:lnTo>
                    <a:pt x="99901" y="10046"/>
                  </a:lnTo>
                  <a:lnTo>
                    <a:pt x="126690" y="8930"/>
                  </a:lnTo>
                  <a:lnTo>
                    <a:pt x="167431" y="5581"/>
                  </a:lnTo>
                  <a:lnTo>
                    <a:pt x="199243" y="3349"/>
                  </a:lnTo>
                  <a:lnTo>
                    <a:pt x="242776" y="2232"/>
                  </a:lnTo>
                  <a:lnTo>
                    <a:pt x="276262" y="1116"/>
                  </a:lnTo>
                  <a:lnTo>
                    <a:pt x="301377" y="558"/>
                  </a:lnTo>
                  <a:lnTo>
                    <a:pt x="323701" y="558"/>
                  </a:lnTo>
                  <a:lnTo>
                    <a:pt x="360536" y="0"/>
                  </a:lnTo>
                  <a:lnTo>
                    <a:pt x="386767" y="0"/>
                  </a:lnTo>
                  <a:lnTo>
                    <a:pt x="409649" y="0"/>
                  </a:lnTo>
                  <a:lnTo>
                    <a:pt x="447600" y="0"/>
                  </a:lnTo>
                  <a:lnTo>
                    <a:pt x="494481" y="2791"/>
                  </a:lnTo>
                  <a:lnTo>
                    <a:pt x="530758" y="5023"/>
                  </a:lnTo>
                  <a:lnTo>
                    <a:pt x="558105" y="6697"/>
                  </a:lnTo>
                  <a:lnTo>
                    <a:pt x="589359" y="10046"/>
                  </a:lnTo>
                  <a:lnTo>
                    <a:pt x="612799" y="12836"/>
                  </a:lnTo>
                  <a:lnTo>
                    <a:pt x="631217" y="15069"/>
                  </a:lnTo>
                  <a:lnTo>
                    <a:pt x="645728" y="17301"/>
                  </a:lnTo>
                  <a:lnTo>
                    <a:pt x="669168" y="20650"/>
                  </a:lnTo>
                  <a:lnTo>
                    <a:pt x="681446" y="23440"/>
                  </a:lnTo>
                  <a:lnTo>
                    <a:pt x="696515" y="26231"/>
                  </a:lnTo>
                  <a:lnTo>
                    <a:pt x="723304" y="26231"/>
                  </a:lnTo>
                </a:path>
              </a:pathLst>
            </a:custGeom>
            <a:noFill/>
            <a:ln w="106920">
              <a:solidFill>
                <a:srgbClr val="00ff00">
                  <a:alpha val="50000"/>
                </a:srgbClr>
              </a:solidFill>
              <a:round/>
            </a:ln>
          </p:spPr>
          <p:style>
            <a:lnRef idx="0"/>
            <a:fillRef idx="0"/>
            <a:effectRef idx="0"/>
            <a:fontRef idx="minor"/>
          </p:style>
          <p:txBody>
            <a:bodyPr lIns="90000" rIns="90000" tIns="-20520" bIns="-20520" anchor="ctr" anchorCtr="1">
              <a:noAutofit/>
            </a:bodyPr>
            <a:p>
              <a:endParaRPr b="0" lang="en-US" sz="1800" spc="-1" strike="noStrike">
                <a:solidFill>
                  <a:srgbClr val="000000"/>
                </a:solidFill>
                <a:latin typeface="Arial"/>
              </a:endParaRPr>
            </a:p>
          </p:txBody>
        </p:sp>
        <p:sp>
          <p:nvSpPr>
            <p:cNvPr id="185" name="50b8de53-f2ab-4796-8c3e-e6cd5c78f5ac"/>
            <p:cNvSpPr/>
            <p:nvPr/>
          </p:nvSpPr>
          <p:spPr>
            <a:xfrm>
              <a:off x="6089760" y="4065480"/>
              <a:ext cx="1098360" cy="1312920"/>
            </a:xfrm>
            <a:custGeom>
              <a:avLst/>
              <a:gdLst>
                <a:gd name="textAreaLeft" fmla="*/ 0 w 1098360"/>
                <a:gd name="textAreaRight" fmla="*/ 1098360 w 1098360"/>
                <a:gd name="textAreaTop" fmla="*/ 0 h 1312920"/>
                <a:gd name="textAreaBottom" fmla="*/ 1313280 h 1312920"/>
              </a:gdLst>
              <a:ahLst/>
              <a:rect l="textAreaLeft" t="textAreaTop" r="textAreaRight" b="textAreaBottom"/>
              <a:pathLst>
                <a:path w="1098352" h="1312664">
                  <a:moveTo>
                    <a:pt x="8930" y="0"/>
                  </a:moveTo>
                  <a:lnTo>
                    <a:pt x="3907" y="6697"/>
                  </a:lnTo>
                  <a:lnTo>
                    <a:pt x="0" y="17859"/>
                  </a:lnTo>
                  <a:lnTo>
                    <a:pt x="1674" y="31812"/>
                  </a:lnTo>
                  <a:lnTo>
                    <a:pt x="4465" y="41299"/>
                  </a:lnTo>
                  <a:lnTo>
                    <a:pt x="8930" y="53578"/>
                  </a:lnTo>
                  <a:lnTo>
                    <a:pt x="16185" y="71437"/>
                  </a:lnTo>
                  <a:lnTo>
                    <a:pt x="25115" y="93203"/>
                  </a:lnTo>
                  <a:lnTo>
                    <a:pt x="35161" y="115527"/>
                  </a:lnTo>
                  <a:lnTo>
                    <a:pt x="44648" y="133945"/>
                  </a:lnTo>
                  <a:lnTo>
                    <a:pt x="53578" y="147339"/>
                  </a:lnTo>
                  <a:lnTo>
                    <a:pt x="61950" y="157943"/>
                  </a:lnTo>
                  <a:lnTo>
                    <a:pt x="80367" y="178593"/>
                  </a:lnTo>
                  <a:lnTo>
                    <a:pt x="125016" y="232171"/>
                  </a:lnTo>
                  <a:lnTo>
                    <a:pt x="178594" y="294679"/>
                  </a:lnTo>
                  <a:lnTo>
                    <a:pt x="204267" y="329282"/>
                  </a:lnTo>
                  <a:lnTo>
                    <a:pt x="232172" y="366117"/>
                  </a:lnTo>
                  <a:lnTo>
                    <a:pt x="267333" y="406300"/>
                  </a:lnTo>
                  <a:lnTo>
                    <a:pt x="303609" y="446484"/>
                  </a:lnTo>
                  <a:lnTo>
                    <a:pt x="334863" y="482203"/>
                  </a:lnTo>
                  <a:lnTo>
                    <a:pt x="366117" y="517921"/>
                  </a:lnTo>
                  <a:lnTo>
                    <a:pt x="401278" y="557547"/>
                  </a:lnTo>
                  <a:lnTo>
                    <a:pt x="437555" y="598289"/>
                  </a:lnTo>
                  <a:lnTo>
                    <a:pt x="508992" y="678656"/>
                  </a:lnTo>
                  <a:lnTo>
                    <a:pt x="580430" y="759023"/>
                  </a:lnTo>
                  <a:lnTo>
                    <a:pt x="651867" y="839390"/>
                  </a:lnTo>
                  <a:lnTo>
                    <a:pt x="687586" y="880132"/>
                  </a:lnTo>
                  <a:lnTo>
                    <a:pt x="723305" y="919757"/>
                  </a:lnTo>
                  <a:lnTo>
                    <a:pt x="759582" y="956592"/>
                  </a:lnTo>
                  <a:lnTo>
                    <a:pt x="794742" y="991195"/>
                  </a:lnTo>
                  <a:lnTo>
                    <a:pt x="827112" y="1023007"/>
                  </a:lnTo>
                  <a:lnTo>
                    <a:pt x="857250" y="1053703"/>
                  </a:lnTo>
                  <a:lnTo>
                    <a:pt x="884597" y="1086073"/>
                  </a:lnTo>
                  <a:lnTo>
                    <a:pt x="910828" y="1116210"/>
                  </a:lnTo>
                  <a:lnTo>
                    <a:pt x="938175" y="1144116"/>
                  </a:lnTo>
                  <a:lnTo>
                    <a:pt x="964406" y="1169789"/>
                  </a:lnTo>
                  <a:lnTo>
                    <a:pt x="987847" y="1193229"/>
                  </a:lnTo>
                  <a:lnTo>
                    <a:pt x="1009055" y="1214437"/>
                  </a:lnTo>
                  <a:lnTo>
                    <a:pt x="1027472" y="1237319"/>
                  </a:lnTo>
                  <a:lnTo>
                    <a:pt x="1044773" y="1259085"/>
                  </a:lnTo>
                  <a:lnTo>
                    <a:pt x="1063749" y="1278619"/>
                  </a:lnTo>
                  <a:lnTo>
                    <a:pt x="1080492" y="1294804"/>
                  </a:lnTo>
                  <a:lnTo>
                    <a:pt x="1091654" y="1305966"/>
                  </a:lnTo>
                  <a:lnTo>
                    <a:pt x="1098352" y="131266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6" name="7e120c74-c9e5-4d92-89ed-1cd0114b04f5"/>
            <p:cNvSpPr/>
            <p:nvPr/>
          </p:nvSpPr>
          <p:spPr>
            <a:xfrm>
              <a:off x="7168680" y="5082120"/>
              <a:ext cx="358920" cy="236520"/>
            </a:xfrm>
            <a:custGeom>
              <a:avLst/>
              <a:gdLst>
                <a:gd name="textAreaLeft" fmla="*/ 0 w 358920"/>
                <a:gd name="textAreaRight" fmla="*/ 359280 w 358920"/>
                <a:gd name="textAreaTop" fmla="*/ 0 h 236520"/>
                <a:gd name="textAreaBottom" fmla="*/ 236880 h 236520"/>
              </a:gdLst>
              <a:ahLst/>
              <a:rect l="textAreaLeft" t="textAreaTop" r="textAreaRight" b="textAreaBottom"/>
              <a:pathLst>
                <a:path w="358862" h="236636">
                  <a:moveTo>
                    <a:pt x="135620" y="19533"/>
                  </a:moveTo>
                  <a:lnTo>
                    <a:pt x="137294" y="16185"/>
                  </a:lnTo>
                  <a:lnTo>
                    <a:pt x="135620" y="10604"/>
                  </a:lnTo>
                  <a:lnTo>
                    <a:pt x="124457" y="5581"/>
                  </a:lnTo>
                  <a:lnTo>
                    <a:pt x="108830" y="1674"/>
                  </a:lnTo>
                  <a:lnTo>
                    <a:pt x="90971" y="0"/>
                  </a:lnTo>
                  <a:lnTo>
                    <a:pt x="73112" y="1674"/>
                  </a:lnTo>
                  <a:lnTo>
                    <a:pt x="59717" y="8371"/>
                  </a:lnTo>
                  <a:lnTo>
                    <a:pt x="46323" y="19533"/>
                  </a:lnTo>
                  <a:lnTo>
                    <a:pt x="27905" y="40183"/>
                  </a:lnTo>
                  <a:lnTo>
                    <a:pt x="17859" y="52461"/>
                  </a:lnTo>
                  <a:lnTo>
                    <a:pt x="10604" y="64182"/>
                  </a:lnTo>
                  <a:lnTo>
                    <a:pt x="3907" y="87064"/>
                  </a:lnTo>
                  <a:lnTo>
                    <a:pt x="1674" y="108830"/>
                  </a:lnTo>
                  <a:lnTo>
                    <a:pt x="0" y="126690"/>
                  </a:lnTo>
                  <a:lnTo>
                    <a:pt x="1674" y="144549"/>
                  </a:lnTo>
                  <a:lnTo>
                    <a:pt x="8930" y="167431"/>
                  </a:lnTo>
                  <a:lnTo>
                    <a:pt x="19534" y="189197"/>
                  </a:lnTo>
                  <a:lnTo>
                    <a:pt x="32370" y="204266"/>
                  </a:lnTo>
                  <a:lnTo>
                    <a:pt x="46323" y="215986"/>
                  </a:lnTo>
                  <a:lnTo>
                    <a:pt x="63624" y="226590"/>
                  </a:lnTo>
                  <a:lnTo>
                    <a:pt x="82041" y="233846"/>
                  </a:lnTo>
                  <a:lnTo>
                    <a:pt x="99901" y="236636"/>
                  </a:lnTo>
                  <a:lnTo>
                    <a:pt x="117760" y="233846"/>
                  </a:lnTo>
                  <a:lnTo>
                    <a:pt x="136736" y="227148"/>
                  </a:lnTo>
                  <a:lnTo>
                    <a:pt x="153479" y="215986"/>
                  </a:lnTo>
                  <a:lnTo>
                    <a:pt x="167990" y="199801"/>
                  </a:lnTo>
                  <a:lnTo>
                    <a:pt x="180268" y="180268"/>
                  </a:lnTo>
                  <a:lnTo>
                    <a:pt x="190314" y="157943"/>
                  </a:lnTo>
                  <a:lnTo>
                    <a:pt x="198127" y="135619"/>
                  </a:lnTo>
                  <a:lnTo>
                    <a:pt x="208173" y="116085"/>
                  </a:lnTo>
                  <a:lnTo>
                    <a:pt x="215987" y="99900"/>
                  </a:lnTo>
                  <a:lnTo>
                    <a:pt x="217103" y="87622"/>
                  </a:lnTo>
                  <a:lnTo>
                    <a:pt x="215987" y="82041"/>
                  </a:lnTo>
                  <a:lnTo>
                    <a:pt x="215987" y="83715"/>
                  </a:lnTo>
                  <a:lnTo>
                    <a:pt x="215429" y="88180"/>
                  </a:lnTo>
                  <a:lnTo>
                    <a:pt x="215987" y="99900"/>
                  </a:lnTo>
                  <a:lnTo>
                    <a:pt x="219893" y="112737"/>
                  </a:lnTo>
                  <a:lnTo>
                    <a:pt x="224916" y="126690"/>
                  </a:lnTo>
                  <a:lnTo>
                    <a:pt x="228823" y="140084"/>
                  </a:lnTo>
                  <a:lnTo>
                    <a:pt x="233846" y="153479"/>
                  </a:lnTo>
                  <a:lnTo>
                    <a:pt x="242218" y="167431"/>
                  </a:lnTo>
                  <a:lnTo>
                    <a:pt x="251705" y="180268"/>
                  </a:lnTo>
                  <a:lnTo>
                    <a:pt x="260077" y="190872"/>
                  </a:lnTo>
                  <a:lnTo>
                    <a:pt x="269565" y="198127"/>
                  </a:lnTo>
                  <a:lnTo>
                    <a:pt x="282401" y="199243"/>
                  </a:lnTo>
                  <a:lnTo>
                    <a:pt x="296354" y="198127"/>
                  </a:lnTo>
                  <a:lnTo>
                    <a:pt x="309748" y="200918"/>
                  </a:lnTo>
                  <a:lnTo>
                    <a:pt x="316446" y="201476"/>
                  </a:lnTo>
                  <a:lnTo>
                    <a:pt x="323143" y="198127"/>
                  </a:lnTo>
                  <a:lnTo>
                    <a:pt x="330398" y="190314"/>
                  </a:lnTo>
                  <a:lnTo>
                    <a:pt x="337654" y="178593"/>
                  </a:lnTo>
                  <a:lnTo>
                    <a:pt x="349932" y="153479"/>
                  </a:lnTo>
                  <a:lnTo>
                    <a:pt x="356629" y="131154"/>
                  </a:lnTo>
                  <a:lnTo>
                    <a:pt x="358862" y="108830"/>
                  </a:lnTo>
                  <a:lnTo>
                    <a:pt x="356071" y="85948"/>
                  </a:lnTo>
                  <a:lnTo>
                    <a:pt x="349932" y="64182"/>
                  </a:lnTo>
                  <a:lnTo>
                    <a:pt x="342119" y="44090"/>
                  </a:lnTo>
                  <a:lnTo>
                    <a:pt x="332073" y="28463"/>
                  </a:lnTo>
                  <a:lnTo>
                    <a:pt x="319794" y="21766"/>
                  </a:lnTo>
                  <a:lnTo>
                    <a:pt x="305284" y="19533"/>
                  </a:lnTo>
                  <a:lnTo>
                    <a:pt x="286866" y="17301"/>
                  </a:lnTo>
                  <a:lnTo>
                    <a:pt x="269565" y="19533"/>
                  </a:lnTo>
                  <a:lnTo>
                    <a:pt x="260077" y="29579"/>
                  </a:lnTo>
                  <a:lnTo>
                    <a:pt x="251705" y="46322"/>
                  </a:lnTo>
                  <a:lnTo>
                    <a:pt x="237195" y="71437"/>
                  </a:lnTo>
                  <a:lnTo>
                    <a:pt x="229939" y="85948"/>
                  </a:lnTo>
                  <a:lnTo>
                    <a:pt x="224916" y="99900"/>
                  </a:lnTo>
                  <a:lnTo>
                    <a:pt x="223242" y="130038"/>
                  </a:lnTo>
                  <a:lnTo>
                    <a:pt x="224358" y="143991"/>
                  </a:lnTo>
                  <a:lnTo>
                    <a:pt x="224916" y="15347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7" name="45787840-4208-4c54-88c2-394b0c9e166f"/>
            <p:cNvSpPr/>
            <p:nvPr/>
          </p:nvSpPr>
          <p:spPr>
            <a:xfrm>
              <a:off x="7572240" y="5110560"/>
              <a:ext cx="181080" cy="232200"/>
            </a:xfrm>
            <a:custGeom>
              <a:avLst/>
              <a:gdLst>
                <a:gd name="textAreaLeft" fmla="*/ 0 w 181080"/>
                <a:gd name="textAreaRight" fmla="*/ 181440 w 181080"/>
                <a:gd name="textAreaTop" fmla="*/ 0 h 232200"/>
                <a:gd name="textAreaBottom" fmla="*/ 232560 h 232200"/>
              </a:gdLst>
              <a:ahLst/>
              <a:rect l="textAreaLeft" t="textAreaTop" r="textAreaRight" b="textAreaBottom"/>
              <a:pathLst>
                <a:path w="181384" h="232172">
                  <a:moveTo>
                    <a:pt x="0" y="0"/>
                  </a:moveTo>
                  <a:lnTo>
                    <a:pt x="4465" y="2232"/>
                  </a:lnTo>
                  <a:lnTo>
                    <a:pt x="10046" y="5023"/>
                  </a:lnTo>
                  <a:lnTo>
                    <a:pt x="15627" y="7813"/>
                  </a:lnTo>
                  <a:lnTo>
                    <a:pt x="17860" y="8930"/>
                  </a:lnTo>
                  <a:lnTo>
                    <a:pt x="15069" y="7813"/>
                  </a:lnTo>
                  <a:lnTo>
                    <a:pt x="8372" y="4465"/>
                  </a:lnTo>
                  <a:lnTo>
                    <a:pt x="2233" y="1674"/>
                  </a:lnTo>
                  <a:lnTo>
                    <a:pt x="0" y="0"/>
                  </a:lnTo>
                  <a:lnTo>
                    <a:pt x="4465" y="558"/>
                  </a:lnTo>
                  <a:lnTo>
                    <a:pt x="12278" y="2790"/>
                  </a:lnTo>
                  <a:lnTo>
                    <a:pt x="21208" y="5581"/>
                  </a:lnTo>
                  <a:lnTo>
                    <a:pt x="26789" y="8930"/>
                  </a:lnTo>
                  <a:lnTo>
                    <a:pt x="28464" y="12836"/>
                  </a:lnTo>
                  <a:lnTo>
                    <a:pt x="27905" y="17301"/>
                  </a:lnTo>
                  <a:lnTo>
                    <a:pt x="26789" y="26789"/>
                  </a:lnTo>
                  <a:lnTo>
                    <a:pt x="31254" y="35719"/>
                  </a:lnTo>
                  <a:lnTo>
                    <a:pt x="35719" y="44648"/>
                  </a:lnTo>
                  <a:lnTo>
                    <a:pt x="36277" y="47439"/>
                  </a:lnTo>
                  <a:lnTo>
                    <a:pt x="35161" y="49113"/>
                  </a:lnTo>
                  <a:lnTo>
                    <a:pt x="34603" y="53020"/>
                  </a:lnTo>
                  <a:lnTo>
                    <a:pt x="35719" y="62508"/>
                  </a:lnTo>
                  <a:lnTo>
                    <a:pt x="39626" y="81483"/>
                  </a:lnTo>
                  <a:lnTo>
                    <a:pt x="44649" y="107156"/>
                  </a:lnTo>
                  <a:lnTo>
                    <a:pt x="50230" y="132829"/>
                  </a:lnTo>
                  <a:lnTo>
                    <a:pt x="53578" y="151805"/>
                  </a:lnTo>
                  <a:lnTo>
                    <a:pt x="55253" y="161292"/>
                  </a:lnTo>
                  <a:lnTo>
                    <a:pt x="54694" y="165199"/>
                  </a:lnTo>
                  <a:lnTo>
                    <a:pt x="54136" y="166873"/>
                  </a:lnTo>
                  <a:lnTo>
                    <a:pt x="53578" y="169664"/>
                  </a:lnTo>
                  <a:lnTo>
                    <a:pt x="53578" y="175803"/>
                  </a:lnTo>
                  <a:lnTo>
                    <a:pt x="54136" y="183059"/>
                  </a:lnTo>
                  <a:lnTo>
                    <a:pt x="54136" y="188081"/>
                  </a:lnTo>
                  <a:lnTo>
                    <a:pt x="53578" y="187523"/>
                  </a:lnTo>
                  <a:lnTo>
                    <a:pt x="51904" y="179152"/>
                  </a:lnTo>
                  <a:lnTo>
                    <a:pt x="48555" y="165199"/>
                  </a:lnTo>
                  <a:lnTo>
                    <a:pt x="45765" y="148456"/>
                  </a:lnTo>
                  <a:lnTo>
                    <a:pt x="44649" y="133945"/>
                  </a:lnTo>
                  <a:lnTo>
                    <a:pt x="47997" y="111063"/>
                  </a:lnTo>
                  <a:lnTo>
                    <a:pt x="53578" y="89297"/>
                  </a:lnTo>
                  <a:lnTo>
                    <a:pt x="57485" y="65298"/>
                  </a:lnTo>
                  <a:lnTo>
                    <a:pt x="62508" y="44648"/>
                  </a:lnTo>
                  <a:lnTo>
                    <a:pt x="70880" y="33486"/>
                  </a:lnTo>
                  <a:lnTo>
                    <a:pt x="80367" y="26789"/>
                  </a:lnTo>
                  <a:lnTo>
                    <a:pt x="88739" y="20650"/>
                  </a:lnTo>
                  <a:lnTo>
                    <a:pt x="98227" y="17859"/>
                  </a:lnTo>
                  <a:lnTo>
                    <a:pt x="111621" y="20092"/>
                  </a:lnTo>
                  <a:lnTo>
                    <a:pt x="125016" y="26789"/>
                  </a:lnTo>
                  <a:lnTo>
                    <a:pt x="133387" y="37393"/>
                  </a:lnTo>
                  <a:lnTo>
                    <a:pt x="142875" y="53578"/>
                  </a:lnTo>
                  <a:lnTo>
                    <a:pt x="151247" y="65298"/>
                  </a:lnTo>
                  <a:lnTo>
                    <a:pt x="161851" y="78693"/>
                  </a:lnTo>
                  <a:lnTo>
                    <a:pt x="171897" y="93204"/>
                  </a:lnTo>
                  <a:lnTo>
                    <a:pt x="178594" y="107156"/>
                  </a:lnTo>
                  <a:lnTo>
                    <a:pt x="181384" y="121109"/>
                  </a:lnTo>
                  <a:lnTo>
                    <a:pt x="180826" y="135061"/>
                  </a:lnTo>
                  <a:lnTo>
                    <a:pt x="178594" y="160734"/>
                  </a:lnTo>
                  <a:lnTo>
                    <a:pt x="178594" y="180826"/>
                  </a:lnTo>
                  <a:lnTo>
                    <a:pt x="178594" y="196453"/>
                  </a:lnTo>
                  <a:lnTo>
                    <a:pt x="178594" y="206499"/>
                  </a:lnTo>
                  <a:lnTo>
                    <a:pt x="178594" y="214312"/>
                  </a:lnTo>
                  <a:lnTo>
                    <a:pt x="178594" y="224358"/>
                  </a:lnTo>
                  <a:lnTo>
                    <a:pt x="178594" y="232172"/>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8" name="18da978d-e482-4af9-9028-d51ffcb592a6"/>
            <p:cNvSpPr/>
            <p:nvPr/>
          </p:nvSpPr>
          <p:spPr>
            <a:xfrm>
              <a:off x="7801560" y="5127840"/>
              <a:ext cx="368640" cy="225360"/>
            </a:xfrm>
            <a:custGeom>
              <a:avLst/>
              <a:gdLst>
                <a:gd name="textAreaLeft" fmla="*/ 0 w 368640"/>
                <a:gd name="textAreaRight" fmla="*/ 369000 w 368640"/>
                <a:gd name="textAreaTop" fmla="*/ 0 h 225360"/>
                <a:gd name="textAreaBottom" fmla="*/ 225720 h 225360"/>
              </a:gdLst>
              <a:ahLst/>
              <a:rect l="textAreaLeft" t="textAreaTop" r="textAreaRight" b="textAreaBottom"/>
              <a:pathLst>
                <a:path w="368908" h="225475">
                  <a:moveTo>
                    <a:pt x="127807" y="558"/>
                  </a:moveTo>
                  <a:lnTo>
                    <a:pt x="133946" y="558"/>
                  </a:lnTo>
                  <a:lnTo>
                    <a:pt x="136736" y="558"/>
                  </a:lnTo>
                  <a:lnTo>
                    <a:pt x="131713" y="558"/>
                  </a:lnTo>
                  <a:lnTo>
                    <a:pt x="122784" y="558"/>
                  </a:lnTo>
                  <a:lnTo>
                    <a:pt x="114412" y="558"/>
                  </a:lnTo>
                  <a:lnTo>
                    <a:pt x="109947" y="558"/>
                  </a:lnTo>
                  <a:lnTo>
                    <a:pt x="112180" y="558"/>
                  </a:lnTo>
                  <a:lnTo>
                    <a:pt x="118319" y="558"/>
                  </a:lnTo>
                  <a:lnTo>
                    <a:pt x="125016" y="558"/>
                  </a:lnTo>
                  <a:lnTo>
                    <a:pt x="127807" y="558"/>
                  </a:lnTo>
                  <a:lnTo>
                    <a:pt x="126132" y="558"/>
                  </a:lnTo>
                  <a:lnTo>
                    <a:pt x="121109" y="0"/>
                  </a:lnTo>
                  <a:lnTo>
                    <a:pt x="109947" y="558"/>
                  </a:lnTo>
                  <a:lnTo>
                    <a:pt x="101018" y="4465"/>
                  </a:lnTo>
                  <a:lnTo>
                    <a:pt x="92088" y="9488"/>
                  </a:lnTo>
                  <a:lnTo>
                    <a:pt x="84833" y="13395"/>
                  </a:lnTo>
                  <a:lnTo>
                    <a:pt x="74229" y="18418"/>
                  </a:lnTo>
                  <a:lnTo>
                    <a:pt x="64741" y="23441"/>
                  </a:lnTo>
                  <a:lnTo>
                    <a:pt x="53020" y="29022"/>
                  </a:lnTo>
                  <a:lnTo>
                    <a:pt x="40184" y="36277"/>
                  </a:lnTo>
                  <a:lnTo>
                    <a:pt x="29580" y="45207"/>
                  </a:lnTo>
                  <a:lnTo>
                    <a:pt x="21208" y="56927"/>
                  </a:lnTo>
                  <a:lnTo>
                    <a:pt x="13395" y="70880"/>
                  </a:lnTo>
                  <a:lnTo>
                    <a:pt x="2791" y="98785"/>
                  </a:lnTo>
                  <a:lnTo>
                    <a:pt x="0" y="122225"/>
                  </a:lnTo>
                  <a:lnTo>
                    <a:pt x="2791" y="143433"/>
                  </a:lnTo>
                  <a:lnTo>
                    <a:pt x="10046" y="161851"/>
                  </a:lnTo>
                  <a:lnTo>
                    <a:pt x="20650" y="179152"/>
                  </a:lnTo>
                  <a:lnTo>
                    <a:pt x="33487" y="198686"/>
                  </a:lnTo>
                  <a:lnTo>
                    <a:pt x="47439" y="214871"/>
                  </a:lnTo>
                  <a:lnTo>
                    <a:pt x="60276" y="222126"/>
                  </a:lnTo>
                  <a:lnTo>
                    <a:pt x="74229" y="223801"/>
                  </a:lnTo>
                  <a:lnTo>
                    <a:pt x="91530" y="225475"/>
                  </a:lnTo>
                  <a:lnTo>
                    <a:pt x="109947" y="223801"/>
                  </a:lnTo>
                  <a:lnTo>
                    <a:pt x="127807" y="215987"/>
                  </a:lnTo>
                  <a:lnTo>
                    <a:pt x="145666" y="205941"/>
                  </a:lnTo>
                  <a:lnTo>
                    <a:pt x="164642" y="198128"/>
                  </a:lnTo>
                  <a:lnTo>
                    <a:pt x="181385" y="188082"/>
                  </a:lnTo>
                  <a:lnTo>
                    <a:pt x="194779" y="172455"/>
                  </a:lnTo>
                  <a:lnTo>
                    <a:pt x="208174" y="152363"/>
                  </a:lnTo>
                  <a:lnTo>
                    <a:pt x="217104" y="140085"/>
                  </a:lnTo>
                  <a:lnTo>
                    <a:pt x="227149" y="125574"/>
                  </a:lnTo>
                  <a:lnTo>
                    <a:pt x="236637" y="111621"/>
                  </a:lnTo>
                  <a:lnTo>
                    <a:pt x="243893" y="98785"/>
                  </a:lnTo>
                  <a:lnTo>
                    <a:pt x="251148" y="78693"/>
                  </a:lnTo>
                  <a:lnTo>
                    <a:pt x="252822" y="63066"/>
                  </a:lnTo>
                  <a:lnTo>
                    <a:pt x="253938" y="53020"/>
                  </a:lnTo>
                  <a:lnTo>
                    <a:pt x="252822" y="45207"/>
                  </a:lnTo>
                  <a:lnTo>
                    <a:pt x="249474" y="35719"/>
                  </a:lnTo>
                  <a:lnTo>
                    <a:pt x="243893" y="27347"/>
                  </a:lnTo>
                  <a:lnTo>
                    <a:pt x="236079" y="20650"/>
                  </a:lnTo>
                  <a:lnTo>
                    <a:pt x="226033" y="18418"/>
                  </a:lnTo>
                  <a:lnTo>
                    <a:pt x="212081" y="25673"/>
                  </a:lnTo>
                  <a:lnTo>
                    <a:pt x="199244" y="36277"/>
                  </a:lnTo>
                  <a:lnTo>
                    <a:pt x="195895" y="39626"/>
                  </a:lnTo>
                  <a:lnTo>
                    <a:pt x="194221" y="41300"/>
                  </a:lnTo>
                  <a:lnTo>
                    <a:pt x="192547" y="45207"/>
                  </a:lnTo>
                  <a:lnTo>
                    <a:pt x="190314" y="54136"/>
                  </a:lnTo>
                  <a:lnTo>
                    <a:pt x="187524" y="70880"/>
                  </a:lnTo>
                  <a:lnTo>
                    <a:pt x="183617" y="93762"/>
                  </a:lnTo>
                  <a:lnTo>
                    <a:pt x="181385" y="116086"/>
                  </a:lnTo>
                  <a:lnTo>
                    <a:pt x="181385" y="134504"/>
                  </a:lnTo>
                  <a:lnTo>
                    <a:pt x="185850" y="146782"/>
                  </a:lnTo>
                  <a:lnTo>
                    <a:pt x="192547" y="155712"/>
                  </a:lnTo>
                  <a:lnTo>
                    <a:pt x="208174" y="170222"/>
                  </a:lnTo>
                  <a:lnTo>
                    <a:pt x="234963" y="197011"/>
                  </a:lnTo>
                  <a:lnTo>
                    <a:pt x="247799" y="207615"/>
                  </a:lnTo>
                  <a:lnTo>
                    <a:pt x="261752" y="214871"/>
                  </a:lnTo>
                  <a:lnTo>
                    <a:pt x="279053" y="217661"/>
                  </a:lnTo>
                  <a:lnTo>
                    <a:pt x="297471" y="214871"/>
                  </a:lnTo>
                  <a:lnTo>
                    <a:pt x="315330" y="208732"/>
                  </a:lnTo>
                  <a:lnTo>
                    <a:pt x="333189" y="197011"/>
                  </a:lnTo>
                  <a:lnTo>
                    <a:pt x="343235" y="186966"/>
                  </a:lnTo>
                  <a:lnTo>
                    <a:pt x="353839" y="174129"/>
                  </a:lnTo>
                  <a:lnTo>
                    <a:pt x="362769" y="161293"/>
                  </a:lnTo>
                  <a:lnTo>
                    <a:pt x="368908" y="15236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9" name="7abe7915-2504-4225-9c4a-9e000530c55f"/>
            <p:cNvSpPr/>
            <p:nvPr/>
          </p:nvSpPr>
          <p:spPr>
            <a:xfrm>
              <a:off x="8224200" y="4912920"/>
              <a:ext cx="18360" cy="429840"/>
            </a:xfrm>
            <a:custGeom>
              <a:avLst/>
              <a:gdLst>
                <a:gd name="textAreaLeft" fmla="*/ 0 w 18360"/>
                <a:gd name="textAreaRight" fmla="*/ 18720 w 18360"/>
                <a:gd name="textAreaTop" fmla="*/ 0 h 429840"/>
                <a:gd name="textAreaBottom" fmla="*/ 430200 h 429840"/>
              </a:gdLst>
              <a:ahLst/>
              <a:rect l="textAreaLeft" t="textAreaTop" r="textAreaRight" b="textAreaBottom"/>
              <a:pathLst>
                <a:path w="18418" h="429741">
                  <a:moveTo>
                    <a:pt x="0" y="1116"/>
                  </a:moveTo>
                  <a:lnTo>
                    <a:pt x="4465" y="0"/>
                  </a:lnTo>
                  <a:lnTo>
                    <a:pt x="8930" y="1116"/>
                  </a:lnTo>
                  <a:lnTo>
                    <a:pt x="9488" y="6139"/>
                  </a:lnTo>
                  <a:lnTo>
                    <a:pt x="8930" y="11162"/>
                  </a:lnTo>
                  <a:lnTo>
                    <a:pt x="8930" y="18975"/>
                  </a:lnTo>
                  <a:lnTo>
                    <a:pt x="8930" y="31254"/>
                  </a:lnTo>
                  <a:lnTo>
                    <a:pt x="8930" y="46322"/>
                  </a:lnTo>
                  <a:lnTo>
                    <a:pt x="8930" y="81483"/>
                  </a:lnTo>
                  <a:lnTo>
                    <a:pt x="8930" y="120550"/>
                  </a:lnTo>
                  <a:lnTo>
                    <a:pt x="8930" y="161850"/>
                  </a:lnTo>
                  <a:lnTo>
                    <a:pt x="8930" y="202592"/>
                  </a:lnTo>
                  <a:lnTo>
                    <a:pt x="8930" y="242217"/>
                  </a:lnTo>
                  <a:lnTo>
                    <a:pt x="8930" y="313655"/>
                  </a:lnTo>
                  <a:lnTo>
                    <a:pt x="8372" y="347141"/>
                  </a:lnTo>
                  <a:lnTo>
                    <a:pt x="8930" y="376163"/>
                  </a:lnTo>
                  <a:lnTo>
                    <a:pt x="13395" y="396813"/>
                  </a:lnTo>
                  <a:lnTo>
                    <a:pt x="17860" y="411881"/>
                  </a:lnTo>
                  <a:lnTo>
                    <a:pt x="18418" y="423044"/>
                  </a:lnTo>
                  <a:lnTo>
                    <a:pt x="17860" y="42974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0" name="b083b23e-195f-4dd7-b6ba-c32aaeb1ac79"/>
            <p:cNvSpPr/>
            <p:nvPr/>
          </p:nvSpPr>
          <p:spPr>
            <a:xfrm>
              <a:off x="8268840" y="4941000"/>
              <a:ext cx="392760" cy="401760"/>
            </a:xfrm>
            <a:custGeom>
              <a:avLst/>
              <a:gdLst>
                <a:gd name="textAreaLeft" fmla="*/ 0 w 392760"/>
                <a:gd name="textAreaRight" fmla="*/ 393120 w 392760"/>
                <a:gd name="textAreaTop" fmla="*/ 0 h 401760"/>
                <a:gd name="textAreaBottom" fmla="*/ 402120 h 401760"/>
              </a:gdLst>
              <a:ahLst/>
              <a:rect l="textAreaLeft" t="textAreaTop" r="textAreaRight" b="textAreaBottom"/>
              <a:pathLst>
                <a:path w="392906" h="401836">
                  <a:moveTo>
                    <a:pt x="71437" y="17859"/>
                  </a:moveTo>
                  <a:lnTo>
                    <a:pt x="74786" y="13953"/>
                  </a:lnTo>
                  <a:lnTo>
                    <a:pt x="79809" y="7813"/>
                  </a:lnTo>
                  <a:lnTo>
                    <a:pt x="84832" y="2232"/>
                  </a:lnTo>
                  <a:lnTo>
                    <a:pt x="89297" y="0"/>
                  </a:lnTo>
                  <a:lnTo>
                    <a:pt x="94878" y="3907"/>
                  </a:lnTo>
                  <a:lnTo>
                    <a:pt x="98226" y="17859"/>
                  </a:lnTo>
                  <a:lnTo>
                    <a:pt x="98784" y="30138"/>
                  </a:lnTo>
                  <a:lnTo>
                    <a:pt x="98784" y="45765"/>
                  </a:lnTo>
                  <a:lnTo>
                    <a:pt x="98226" y="80367"/>
                  </a:lnTo>
                  <a:lnTo>
                    <a:pt x="97668" y="115528"/>
                  </a:lnTo>
                  <a:lnTo>
                    <a:pt x="98226" y="151805"/>
                  </a:lnTo>
                  <a:lnTo>
                    <a:pt x="107156" y="223242"/>
                  </a:lnTo>
                  <a:lnTo>
                    <a:pt x="115528" y="259519"/>
                  </a:lnTo>
                  <a:lnTo>
                    <a:pt x="125015" y="294680"/>
                  </a:lnTo>
                  <a:lnTo>
                    <a:pt x="134503" y="327608"/>
                  </a:lnTo>
                  <a:lnTo>
                    <a:pt x="142875" y="357187"/>
                  </a:lnTo>
                  <a:lnTo>
                    <a:pt x="150130" y="386209"/>
                  </a:lnTo>
                  <a:lnTo>
                    <a:pt x="152363" y="397371"/>
                  </a:lnTo>
                  <a:lnTo>
                    <a:pt x="151804" y="401836"/>
                  </a:lnTo>
                  <a:lnTo>
                    <a:pt x="147898" y="397371"/>
                  </a:lnTo>
                  <a:lnTo>
                    <a:pt x="140642" y="386209"/>
                  </a:lnTo>
                  <a:lnTo>
                    <a:pt x="125015" y="357187"/>
                  </a:lnTo>
                  <a:lnTo>
                    <a:pt x="112179" y="326492"/>
                  </a:lnTo>
                  <a:lnTo>
                    <a:pt x="98226" y="294680"/>
                  </a:lnTo>
                  <a:lnTo>
                    <a:pt x="80367" y="267332"/>
                  </a:lnTo>
                  <a:lnTo>
                    <a:pt x="62508" y="241101"/>
                  </a:lnTo>
                  <a:lnTo>
                    <a:pt x="48555" y="216545"/>
                  </a:lnTo>
                  <a:lnTo>
                    <a:pt x="35719" y="196453"/>
                  </a:lnTo>
                  <a:lnTo>
                    <a:pt x="26231" y="185849"/>
                  </a:lnTo>
                  <a:lnTo>
                    <a:pt x="17859" y="178594"/>
                  </a:lnTo>
                  <a:lnTo>
                    <a:pt x="6697" y="169106"/>
                  </a:lnTo>
                  <a:lnTo>
                    <a:pt x="2232" y="164641"/>
                  </a:lnTo>
                  <a:lnTo>
                    <a:pt x="0" y="160734"/>
                  </a:lnTo>
                  <a:lnTo>
                    <a:pt x="3906" y="155153"/>
                  </a:lnTo>
                  <a:lnTo>
                    <a:pt x="17859" y="151805"/>
                  </a:lnTo>
                  <a:lnTo>
                    <a:pt x="30696" y="151246"/>
                  </a:lnTo>
                  <a:lnTo>
                    <a:pt x="46881" y="151246"/>
                  </a:lnTo>
                  <a:lnTo>
                    <a:pt x="64740" y="151805"/>
                  </a:lnTo>
                  <a:lnTo>
                    <a:pt x="80367" y="151805"/>
                  </a:lnTo>
                  <a:lnTo>
                    <a:pt x="108272" y="152921"/>
                  </a:lnTo>
                  <a:lnTo>
                    <a:pt x="133945" y="151805"/>
                  </a:lnTo>
                  <a:lnTo>
                    <a:pt x="157385" y="143433"/>
                  </a:lnTo>
                  <a:lnTo>
                    <a:pt x="178594" y="133945"/>
                  </a:lnTo>
                  <a:lnTo>
                    <a:pt x="202034" y="129480"/>
                  </a:lnTo>
                  <a:lnTo>
                    <a:pt x="223242" y="125016"/>
                  </a:lnTo>
                  <a:lnTo>
                    <a:pt x="238311" y="116086"/>
                  </a:lnTo>
                  <a:lnTo>
                    <a:pt x="250031" y="107156"/>
                  </a:lnTo>
                  <a:lnTo>
                    <a:pt x="260077" y="99901"/>
                  </a:lnTo>
                  <a:lnTo>
                    <a:pt x="264542" y="97668"/>
                  </a:lnTo>
                  <a:lnTo>
                    <a:pt x="267890" y="98226"/>
                  </a:lnTo>
                  <a:lnTo>
                    <a:pt x="274030" y="106598"/>
                  </a:lnTo>
                  <a:lnTo>
                    <a:pt x="276820" y="125016"/>
                  </a:lnTo>
                  <a:lnTo>
                    <a:pt x="275704" y="140642"/>
                  </a:lnTo>
                  <a:lnTo>
                    <a:pt x="272913" y="160176"/>
                  </a:lnTo>
                  <a:lnTo>
                    <a:pt x="270123" y="179710"/>
                  </a:lnTo>
                  <a:lnTo>
                    <a:pt x="267890" y="196453"/>
                  </a:lnTo>
                  <a:lnTo>
                    <a:pt x="267332" y="220452"/>
                  </a:lnTo>
                  <a:lnTo>
                    <a:pt x="267890" y="241101"/>
                  </a:lnTo>
                  <a:lnTo>
                    <a:pt x="267332" y="265100"/>
                  </a:lnTo>
                  <a:lnTo>
                    <a:pt x="267332" y="276820"/>
                  </a:lnTo>
                  <a:lnTo>
                    <a:pt x="267890" y="285750"/>
                  </a:lnTo>
                  <a:lnTo>
                    <a:pt x="271239" y="296354"/>
                  </a:lnTo>
                  <a:lnTo>
                    <a:pt x="276820" y="303609"/>
                  </a:lnTo>
                  <a:lnTo>
                    <a:pt x="284634" y="313097"/>
                  </a:lnTo>
                  <a:lnTo>
                    <a:pt x="294679" y="321469"/>
                  </a:lnTo>
                  <a:lnTo>
                    <a:pt x="321469" y="330398"/>
                  </a:lnTo>
                  <a:lnTo>
                    <a:pt x="335421" y="331515"/>
                  </a:lnTo>
                  <a:lnTo>
                    <a:pt x="348258" y="330398"/>
                  </a:lnTo>
                  <a:lnTo>
                    <a:pt x="358303" y="327608"/>
                  </a:lnTo>
                  <a:lnTo>
                    <a:pt x="366117" y="321469"/>
                  </a:lnTo>
                  <a:lnTo>
                    <a:pt x="375605" y="309190"/>
                  </a:lnTo>
                  <a:lnTo>
                    <a:pt x="383976" y="294680"/>
                  </a:lnTo>
                  <a:lnTo>
                    <a:pt x="390674" y="283517"/>
                  </a:lnTo>
                  <a:lnTo>
                    <a:pt x="392906" y="277378"/>
                  </a:lnTo>
                  <a:lnTo>
                    <a:pt x="392906" y="267891"/>
                  </a:lnTo>
                  <a:lnTo>
                    <a:pt x="390674" y="253938"/>
                  </a:lnTo>
                  <a:lnTo>
                    <a:pt x="386767" y="236637"/>
                  </a:lnTo>
                  <a:lnTo>
                    <a:pt x="381186" y="219335"/>
                  </a:lnTo>
                  <a:lnTo>
                    <a:pt x="375047" y="205383"/>
                  </a:lnTo>
                  <a:lnTo>
                    <a:pt x="368907" y="196453"/>
                  </a:lnTo>
                  <a:lnTo>
                    <a:pt x="361652" y="189756"/>
                  </a:lnTo>
                  <a:lnTo>
                    <a:pt x="348258" y="178594"/>
                  </a:lnTo>
                  <a:lnTo>
                    <a:pt x="339886" y="167990"/>
                  </a:lnTo>
                  <a:lnTo>
                    <a:pt x="330398" y="160734"/>
                  </a:lnTo>
                  <a:lnTo>
                    <a:pt x="313097" y="157944"/>
                  </a:lnTo>
                  <a:lnTo>
                    <a:pt x="294679" y="160734"/>
                  </a:lnTo>
                  <a:lnTo>
                    <a:pt x="286866" y="166315"/>
                  </a:lnTo>
                  <a:lnTo>
                    <a:pt x="279052" y="174129"/>
                  </a:lnTo>
                  <a:lnTo>
                    <a:pt x="272355" y="181942"/>
                  </a:lnTo>
                  <a:lnTo>
                    <a:pt x="267890" y="18752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1" name="225e4161-116f-4d79-893c-634386c1a5f0"/>
            <p:cNvSpPr/>
            <p:nvPr/>
          </p:nvSpPr>
          <p:spPr>
            <a:xfrm>
              <a:off x="7367040" y="5423400"/>
              <a:ext cx="45000" cy="366120"/>
            </a:xfrm>
            <a:custGeom>
              <a:avLst/>
              <a:gdLst>
                <a:gd name="textAreaLeft" fmla="*/ 0 w 45000"/>
                <a:gd name="textAreaRight" fmla="*/ 45360 w 45000"/>
                <a:gd name="textAreaTop" fmla="*/ 0 h 366120"/>
                <a:gd name="textAreaBottom" fmla="*/ 366480 h 366120"/>
              </a:gdLst>
              <a:ahLst/>
              <a:rect l="textAreaLeft" t="textAreaTop" r="textAreaRight" b="textAreaBottom"/>
              <a:pathLst>
                <a:path w="45207" h="366117">
                  <a:moveTo>
                    <a:pt x="0" y="0"/>
                  </a:moveTo>
                  <a:lnTo>
                    <a:pt x="1675" y="6697"/>
                  </a:lnTo>
                  <a:lnTo>
                    <a:pt x="4465" y="16743"/>
                  </a:lnTo>
                  <a:lnTo>
                    <a:pt x="7256" y="27347"/>
                  </a:lnTo>
                  <a:lnTo>
                    <a:pt x="8930" y="35719"/>
                  </a:lnTo>
                  <a:lnTo>
                    <a:pt x="9488" y="40184"/>
                  </a:lnTo>
                  <a:lnTo>
                    <a:pt x="8930" y="42974"/>
                  </a:lnTo>
                  <a:lnTo>
                    <a:pt x="8930" y="46323"/>
                  </a:lnTo>
                  <a:lnTo>
                    <a:pt x="8930" y="53578"/>
                  </a:lnTo>
                  <a:lnTo>
                    <a:pt x="10604" y="65856"/>
                  </a:lnTo>
                  <a:lnTo>
                    <a:pt x="12837" y="80925"/>
                  </a:lnTo>
                  <a:lnTo>
                    <a:pt x="17860" y="116086"/>
                  </a:lnTo>
                  <a:lnTo>
                    <a:pt x="22325" y="155711"/>
                  </a:lnTo>
                  <a:lnTo>
                    <a:pt x="26789" y="196453"/>
                  </a:lnTo>
                  <a:lnTo>
                    <a:pt x="31254" y="233846"/>
                  </a:lnTo>
                  <a:lnTo>
                    <a:pt x="35719" y="267891"/>
                  </a:lnTo>
                  <a:lnTo>
                    <a:pt x="41300" y="296354"/>
                  </a:lnTo>
                  <a:lnTo>
                    <a:pt x="44649" y="321469"/>
                  </a:lnTo>
                  <a:lnTo>
                    <a:pt x="45207" y="347142"/>
                  </a:lnTo>
                  <a:lnTo>
                    <a:pt x="44649" y="358304"/>
                  </a:lnTo>
                  <a:lnTo>
                    <a:pt x="44649" y="36611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2" name="d5f46112-a5fa-44dd-8202-f51e840437ae"/>
            <p:cNvSpPr/>
            <p:nvPr/>
          </p:nvSpPr>
          <p:spPr>
            <a:xfrm>
              <a:off x="7384680" y="5484600"/>
              <a:ext cx="118080" cy="99360"/>
            </a:xfrm>
            <a:custGeom>
              <a:avLst/>
              <a:gdLst>
                <a:gd name="textAreaLeft" fmla="*/ 0 w 118080"/>
                <a:gd name="textAreaRight" fmla="*/ 118440 w 118080"/>
                <a:gd name="textAreaTop" fmla="*/ 0 h 99360"/>
                <a:gd name="textAreaBottom" fmla="*/ 99720 h 99360"/>
              </a:gdLst>
              <a:ahLst/>
              <a:rect l="textAreaLeft" t="textAreaTop" r="textAreaRight" b="textAreaBottom"/>
              <a:pathLst>
                <a:path w="118318" h="99342">
                  <a:moveTo>
                    <a:pt x="0" y="1116"/>
                  </a:moveTo>
                  <a:lnTo>
                    <a:pt x="2790" y="6139"/>
                  </a:lnTo>
                  <a:lnTo>
                    <a:pt x="8929" y="10046"/>
                  </a:lnTo>
                  <a:lnTo>
                    <a:pt x="21766" y="6139"/>
                  </a:lnTo>
                  <a:lnTo>
                    <a:pt x="35718" y="1116"/>
                  </a:lnTo>
                  <a:lnTo>
                    <a:pt x="45764" y="558"/>
                  </a:lnTo>
                  <a:lnTo>
                    <a:pt x="53578" y="1116"/>
                  </a:lnTo>
                  <a:lnTo>
                    <a:pt x="71437" y="1116"/>
                  </a:lnTo>
                  <a:lnTo>
                    <a:pt x="79809" y="0"/>
                  </a:lnTo>
                  <a:lnTo>
                    <a:pt x="89297" y="1116"/>
                  </a:lnTo>
                  <a:lnTo>
                    <a:pt x="103807" y="9487"/>
                  </a:lnTo>
                  <a:lnTo>
                    <a:pt x="111063" y="14510"/>
                  </a:lnTo>
                  <a:lnTo>
                    <a:pt x="116086" y="18975"/>
                  </a:lnTo>
                  <a:lnTo>
                    <a:pt x="118318" y="27905"/>
                  </a:lnTo>
                  <a:lnTo>
                    <a:pt x="116086" y="36835"/>
                  </a:lnTo>
                  <a:lnTo>
                    <a:pt x="107156" y="54694"/>
                  </a:lnTo>
                  <a:lnTo>
                    <a:pt x="99342" y="64182"/>
                  </a:lnTo>
                  <a:lnTo>
                    <a:pt x="89297" y="72553"/>
                  </a:lnTo>
                  <a:lnTo>
                    <a:pt x="76460" y="77576"/>
                  </a:lnTo>
                  <a:lnTo>
                    <a:pt x="62508" y="81483"/>
                  </a:lnTo>
                  <a:lnTo>
                    <a:pt x="35718" y="90413"/>
                  </a:lnTo>
                  <a:lnTo>
                    <a:pt x="25114" y="95994"/>
                  </a:lnTo>
                  <a:lnTo>
                    <a:pt x="17859" y="99342"/>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3" name="017cc820-f43b-45f0-aaef-4232ed4e256e"/>
            <p:cNvSpPr/>
            <p:nvPr/>
          </p:nvSpPr>
          <p:spPr>
            <a:xfrm>
              <a:off x="7545600" y="5405040"/>
              <a:ext cx="240840" cy="178920"/>
            </a:xfrm>
            <a:custGeom>
              <a:avLst/>
              <a:gdLst>
                <a:gd name="textAreaLeft" fmla="*/ 0 w 240840"/>
                <a:gd name="textAreaRight" fmla="*/ 241200 w 240840"/>
                <a:gd name="textAreaTop" fmla="*/ 0 h 178920"/>
                <a:gd name="textAreaBottom" fmla="*/ 179280 h 178920"/>
              </a:gdLst>
              <a:ahLst/>
              <a:rect l="textAreaLeft" t="textAreaTop" r="textAreaRight" b="textAreaBottom"/>
              <a:pathLst>
                <a:path w="241102" h="179151">
                  <a:moveTo>
                    <a:pt x="0" y="9487"/>
                  </a:moveTo>
                  <a:lnTo>
                    <a:pt x="8372" y="5022"/>
                  </a:lnTo>
                  <a:lnTo>
                    <a:pt x="17859" y="558"/>
                  </a:lnTo>
                  <a:lnTo>
                    <a:pt x="35719" y="558"/>
                  </a:lnTo>
                  <a:lnTo>
                    <a:pt x="43532" y="0"/>
                  </a:lnTo>
                  <a:lnTo>
                    <a:pt x="53578" y="558"/>
                  </a:lnTo>
                  <a:lnTo>
                    <a:pt x="70321" y="4464"/>
                  </a:lnTo>
                  <a:lnTo>
                    <a:pt x="89297" y="9487"/>
                  </a:lnTo>
                  <a:lnTo>
                    <a:pt x="107156" y="13394"/>
                  </a:lnTo>
                  <a:lnTo>
                    <a:pt x="125016" y="18417"/>
                  </a:lnTo>
                  <a:lnTo>
                    <a:pt x="142317" y="29579"/>
                  </a:lnTo>
                  <a:lnTo>
                    <a:pt x="160734" y="45206"/>
                  </a:lnTo>
                  <a:lnTo>
                    <a:pt x="184733" y="67530"/>
                  </a:lnTo>
                  <a:lnTo>
                    <a:pt x="196453" y="79809"/>
                  </a:lnTo>
                  <a:lnTo>
                    <a:pt x="205383" y="89855"/>
                  </a:lnTo>
                  <a:lnTo>
                    <a:pt x="210406" y="98226"/>
                  </a:lnTo>
                  <a:lnTo>
                    <a:pt x="212080" y="104923"/>
                  </a:lnTo>
                  <a:lnTo>
                    <a:pt x="214313" y="116644"/>
                  </a:lnTo>
                  <a:lnTo>
                    <a:pt x="218777" y="126689"/>
                  </a:lnTo>
                  <a:lnTo>
                    <a:pt x="223242" y="134503"/>
                  </a:lnTo>
                  <a:lnTo>
                    <a:pt x="228823" y="145665"/>
                  </a:lnTo>
                  <a:lnTo>
                    <a:pt x="231056" y="150688"/>
                  </a:lnTo>
                  <a:lnTo>
                    <a:pt x="232172" y="152362"/>
                  </a:lnTo>
                  <a:lnTo>
                    <a:pt x="231056" y="150688"/>
                  </a:lnTo>
                  <a:lnTo>
                    <a:pt x="228823" y="145665"/>
                  </a:lnTo>
                  <a:lnTo>
                    <a:pt x="223242" y="134503"/>
                  </a:lnTo>
                  <a:lnTo>
                    <a:pt x="219336" y="125015"/>
                  </a:lnTo>
                  <a:lnTo>
                    <a:pt x="214313" y="116644"/>
                  </a:lnTo>
                  <a:lnTo>
                    <a:pt x="206499" y="113295"/>
                  </a:lnTo>
                  <a:lnTo>
                    <a:pt x="202034" y="111621"/>
                  </a:lnTo>
                  <a:lnTo>
                    <a:pt x="196453" y="107714"/>
                  </a:lnTo>
                  <a:lnTo>
                    <a:pt x="190314" y="99900"/>
                  </a:lnTo>
                  <a:lnTo>
                    <a:pt x="183617" y="89296"/>
                  </a:lnTo>
                  <a:lnTo>
                    <a:pt x="176361" y="79250"/>
                  </a:lnTo>
                  <a:lnTo>
                    <a:pt x="169664" y="71995"/>
                  </a:lnTo>
                  <a:lnTo>
                    <a:pt x="162967" y="69763"/>
                  </a:lnTo>
                  <a:lnTo>
                    <a:pt x="155711" y="69763"/>
                  </a:lnTo>
                  <a:lnTo>
                    <a:pt x="142875" y="71995"/>
                  </a:lnTo>
                  <a:lnTo>
                    <a:pt x="134503" y="74228"/>
                  </a:lnTo>
                  <a:lnTo>
                    <a:pt x="125016" y="80925"/>
                  </a:lnTo>
                  <a:lnTo>
                    <a:pt x="116644" y="88180"/>
                  </a:lnTo>
                  <a:lnTo>
                    <a:pt x="106040" y="98226"/>
                  </a:lnTo>
                  <a:lnTo>
                    <a:pt x="95994" y="107714"/>
                  </a:lnTo>
                  <a:lnTo>
                    <a:pt x="89297" y="116644"/>
                  </a:lnTo>
                  <a:lnTo>
                    <a:pt x="87065" y="124457"/>
                  </a:lnTo>
                  <a:lnTo>
                    <a:pt x="87065" y="131154"/>
                  </a:lnTo>
                  <a:lnTo>
                    <a:pt x="89297" y="143433"/>
                  </a:lnTo>
                  <a:lnTo>
                    <a:pt x="98227" y="161292"/>
                  </a:lnTo>
                  <a:lnTo>
                    <a:pt x="105482" y="166315"/>
                  </a:lnTo>
                  <a:lnTo>
                    <a:pt x="116086" y="170222"/>
                  </a:lnTo>
                  <a:lnTo>
                    <a:pt x="132829" y="175803"/>
                  </a:lnTo>
                  <a:lnTo>
                    <a:pt x="151805" y="179151"/>
                  </a:lnTo>
                  <a:lnTo>
                    <a:pt x="169106" y="176919"/>
                  </a:lnTo>
                  <a:lnTo>
                    <a:pt x="187524" y="170222"/>
                  </a:lnTo>
                  <a:lnTo>
                    <a:pt x="200918" y="164083"/>
                  </a:lnTo>
                  <a:lnTo>
                    <a:pt x="216545" y="156269"/>
                  </a:lnTo>
                  <a:lnTo>
                    <a:pt x="231056" y="148456"/>
                  </a:lnTo>
                  <a:lnTo>
                    <a:pt x="241102" y="14343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4" name="eea212e8-0fb7-402b-b9da-313d6649f91e"/>
            <p:cNvSpPr/>
            <p:nvPr/>
          </p:nvSpPr>
          <p:spPr>
            <a:xfrm>
              <a:off x="7849080" y="5378760"/>
              <a:ext cx="115920" cy="196200"/>
            </a:xfrm>
            <a:custGeom>
              <a:avLst/>
              <a:gdLst>
                <a:gd name="textAreaLeft" fmla="*/ 0 w 115920"/>
                <a:gd name="textAreaRight" fmla="*/ 116280 w 115920"/>
                <a:gd name="textAreaTop" fmla="*/ 0 h 196200"/>
                <a:gd name="textAreaBottom" fmla="*/ 196560 h 196200"/>
              </a:gdLst>
              <a:ahLst/>
              <a:rect l="textAreaLeft" t="textAreaTop" r="textAreaRight" b="textAreaBottom"/>
              <a:pathLst>
                <a:path w="116086" h="196453">
                  <a:moveTo>
                    <a:pt x="0" y="71437"/>
                  </a:moveTo>
                  <a:lnTo>
                    <a:pt x="8372" y="70321"/>
                  </a:lnTo>
                  <a:lnTo>
                    <a:pt x="17860" y="71437"/>
                  </a:lnTo>
                  <a:lnTo>
                    <a:pt x="21767" y="78692"/>
                  </a:lnTo>
                  <a:lnTo>
                    <a:pt x="26790" y="89296"/>
                  </a:lnTo>
                  <a:lnTo>
                    <a:pt x="37952" y="100459"/>
                  </a:lnTo>
                  <a:lnTo>
                    <a:pt x="45207" y="107156"/>
                  </a:lnTo>
                  <a:lnTo>
                    <a:pt x="53579" y="116086"/>
                  </a:lnTo>
                  <a:lnTo>
                    <a:pt x="64183" y="130596"/>
                  </a:lnTo>
                  <a:lnTo>
                    <a:pt x="77019" y="147898"/>
                  </a:lnTo>
                  <a:lnTo>
                    <a:pt x="88739" y="165199"/>
                  </a:lnTo>
                  <a:lnTo>
                    <a:pt x="98227" y="178593"/>
                  </a:lnTo>
                  <a:lnTo>
                    <a:pt x="110505" y="193104"/>
                  </a:lnTo>
                  <a:lnTo>
                    <a:pt x="116086" y="196453"/>
                  </a:lnTo>
                  <a:lnTo>
                    <a:pt x="115528" y="189197"/>
                  </a:lnTo>
                  <a:lnTo>
                    <a:pt x="112738" y="181384"/>
                  </a:lnTo>
                  <a:lnTo>
                    <a:pt x="107157" y="169664"/>
                  </a:lnTo>
                  <a:lnTo>
                    <a:pt x="97669" y="152362"/>
                  </a:lnTo>
                  <a:lnTo>
                    <a:pt x="84274" y="130038"/>
                  </a:lnTo>
                  <a:lnTo>
                    <a:pt x="71438" y="107714"/>
                  </a:lnTo>
                  <a:lnTo>
                    <a:pt x="62508" y="89296"/>
                  </a:lnTo>
                  <a:lnTo>
                    <a:pt x="59160" y="77018"/>
                  </a:lnTo>
                  <a:lnTo>
                    <a:pt x="59160" y="68088"/>
                  </a:lnTo>
                  <a:lnTo>
                    <a:pt x="62508" y="53578"/>
                  </a:lnTo>
                  <a:lnTo>
                    <a:pt x="65857" y="38509"/>
                  </a:lnTo>
                  <a:lnTo>
                    <a:pt x="71438" y="26789"/>
                  </a:lnTo>
                  <a:lnTo>
                    <a:pt x="79810" y="21766"/>
                  </a:lnTo>
                  <a:lnTo>
                    <a:pt x="89297" y="17859"/>
                  </a:lnTo>
                  <a:lnTo>
                    <a:pt x="99343" y="8371"/>
                  </a:lnTo>
                  <a:lnTo>
                    <a:pt x="107157"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5" name="c159fd35-3cf0-42df-b20d-d589a720f947"/>
            <p:cNvSpPr/>
            <p:nvPr/>
          </p:nvSpPr>
          <p:spPr>
            <a:xfrm>
              <a:off x="8099280" y="5458320"/>
              <a:ext cx="178560" cy="143280"/>
            </a:xfrm>
            <a:custGeom>
              <a:avLst/>
              <a:gdLst>
                <a:gd name="textAreaLeft" fmla="*/ 0 w 178560"/>
                <a:gd name="textAreaRight" fmla="*/ 178920 w 178560"/>
                <a:gd name="textAreaTop" fmla="*/ 0 h 143280"/>
                <a:gd name="textAreaBottom" fmla="*/ 143640 h 143280"/>
              </a:gdLst>
              <a:ahLst/>
              <a:rect l="textAreaLeft" t="textAreaTop" r="textAreaRight" b="textAreaBottom"/>
              <a:pathLst>
                <a:path w="178593" h="143433">
                  <a:moveTo>
                    <a:pt x="0" y="9487"/>
                  </a:moveTo>
                  <a:lnTo>
                    <a:pt x="3348" y="5023"/>
                  </a:lnTo>
                  <a:lnTo>
                    <a:pt x="8929" y="558"/>
                  </a:lnTo>
                  <a:lnTo>
                    <a:pt x="16185" y="0"/>
                  </a:lnTo>
                  <a:lnTo>
                    <a:pt x="26789" y="558"/>
                  </a:lnTo>
                  <a:lnTo>
                    <a:pt x="44090" y="4464"/>
                  </a:lnTo>
                  <a:lnTo>
                    <a:pt x="62508" y="9487"/>
                  </a:lnTo>
                  <a:lnTo>
                    <a:pt x="89297" y="18417"/>
                  </a:lnTo>
                  <a:lnTo>
                    <a:pt x="98226" y="22324"/>
                  </a:lnTo>
                  <a:lnTo>
                    <a:pt x="107156" y="27347"/>
                  </a:lnTo>
                  <a:lnTo>
                    <a:pt x="120550" y="35160"/>
                  </a:lnTo>
                  <a:lnTo>
                    <a:pt x="133945" y="45206"/>
                  </a:lnTo>
                  <a:lnTo>
                    <a:pt x="143991" y="58601"/>
                  </a:lnTo>
                  <a:lnTo>
                    <a:pt x="151804" y="71995"/>
                  </a:lnTo>
                  <a:lnTo>
                    <a:pt x="157385" y="82041"/>
                  </a:lnTo>
                  <a:lnTo>
                    <a:pt x="160734" y="89855"/>
                  </a:lnTo>
                  <a:lnTo>
                    <a:pt x="161850" y="101017"/>
                  </a:lnTo>
                  <a:lnTo>
                    <a:pt x="161850" y="106040"/>
                  </a:lnTo>
                  <a:lnTo>
                    <a:pt x="160734" y="107714"/>
                  </a:lnTo>
                  <a:lnTo>
                    <a:pt x="159060" y="102133"/>
                  </a:lnTo>
                  <a:lnTo>
                    <a:pt x="151804" y="89855"/>
                  </a:lnTo>
                  <a:lnTo>
                    <a:pt x="144549" y="81483"/>
                  </a:lnTo>
                  <a:lnTo>
                    <a:pt x="134503" y="71437"/>
                  </a:lnTo>
                  <a:lnTo>
                    <a:pt x="124457" y="61949"/>
                  </a:lnTo>
                  <a:lnTo>
                    <a:pt x="116086" y="54136"/>
                  </a:lnTo>
                  <a:lnTo>
                    <a:pt x="106040" y="47439"/>
                  </a:lnTo>
                  <a:lnTo>
                    <a:pt x="98226" y="45206"/>
                  </a:lnTo>
                  <a:lnTo>
                    <a:pt x="89297" y="43532"/>
                  </a:lnTo>
                  <a:lnTo>
                    <a:pt x="80367" y="45206"/>
                  </a:lnTo>
                  <a:lnTo>
                    <a:pt x="70879" y="53578"/>
                  </a:lnTo>
                  <a:lnTo>
                    <a:pt x="62508" y="63066"/>
                  </a:lnTo>
                  <a:lnTo>
                    <a:pt x="53578" y="80925"/>
                  </a:lnTo>
                  <a:lnTo>
                    <a:pt x="51903" y="89297"/>
                  </a:lnTo>
                  <a:lnTo>
                    <a:pt x="53578" y="98784"/>
                  </a:lnTo>
                  <a:lnTo>
                    <a:pt x="58601" y="112179"/>
                  </a:lnTo>
                  <a:lnTo>
                    <a:pt x="63624" y="119434"/>
                  </a:lnTo>
                  <a:lnTo>
                    <a:pt x="71437" y="125573"/>
                  </a:lnTo>
                  <a:lnTo>
                    <a:pt x="84832" y="131713"/>
                  </a:lnTo>
                  <a:lnTo>
                    <a:pt x="102691" y="137852"/>
                  </a:lnTo>
                  <a:lnTo>
                    <a:pt x="120550" y="142317"/>
                  </a:lnTo>
                  <a:lnTo>
                    <a:pt x="133945" y="143433"/>
                  </a:lnTo>
                  <a:lnTo>
                    <a:pt x="141200" y="140084"/>
                  </a:lnTo>
                  <a:lnTo>
                    <a:pt x="145107" y="133387"/>
                  </a:lnTo>
                  <a:lnTo>
                    <a:pt x="147898" y="125015"/>
                  </a:lnTo>
                  <a:lnTo>
                    <a:pt x="151804" y="116644"/>
                  </a:lnTo>
                  <a:lnTo>
                    <a:pt x="158502" y="107714"/>
                  </a:lnTo>
                  <a:lnTo>
                    <a:pt x="166315" y="97110"/>
                  </a:lnTo>
                  <a:lnTo>
                    <a:pt x="173570" y="87622"/>
                  </a:lnTo>
                  <a:lnTo>
                    <a:pt x="178593" y="8092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6" name="e2949374-300c-4e13-8836-e25ab1c98ca7"/>
            <p:cNvSpPr/>
            <p:nvPr/>
          </p:nvSpPr>
          <p:spPr>
            <a:xfrm>
              <a:off x="8348760" y="5456880"/>
              <a:ext cx="125280" cy="147600"/>
            </a:xfrm>
            <a:custGeom>
              <a:avLst/>
              <a:gdLst>
                <a:gd name="textAreaLeft" fmla="*/ 0 w 125280"/>
                <a:gd name="textAreaRight" fmla="*/ 125640 w 125280"/>
                <a:gd name="textAreaTop" fmla="*/ 0 h 147600"/>
                <a:gd name="textAreaBottom" fmla="*/ 147960 h 147600"/>
              </a:gdLst>
              <a:ahLst/>
              <a:rect l="textAreaLeft" t="textAreaTop" r="textAreaRight" b="textAreaBottom"/>
              <a:pathLst>
                <a:path w="125574" h="147898">
                  <a:moveTo>
                    <a:pt x="558" y="20092"/>
                  </a:moveTo>
                  <a:lnTo>
                    <a:pt x="0" y="27347"/>
                  </a:lnTo>
                  <a:lnTo>
                    <a:pt x="558" y="37952"/>
                  </a:lnTo>
                  <a:lnTo>
                    <a:pt x="4465" y="50788"/>
                  </a:lnTo>
                  <a:lnTo>
                    <a:pt x="9488" y="64741"/>
                  </a:lnTo>
                  <a:lnTo>
                    <a:pt x="13952" y="78693"/>
                  </a:lnTo>
                  <a:lnTo>
                    <a:pt x="18417" y="91530"/>
                  </a:lnTo>
                  <a:lnTo>
                    <a:pt x="22324" y="99901"/>
                  </a:lnTo>
                  <a:lnTo>
                    <a:pt x="27347" y="109389"/>
                  </a:lnTo>
                  <a:lnTo>
                    <a:pt x="32928" y="117761"/>
                  </a:lnTo>
                  <a:lnTo>
                    <a:pt x="39625" y="128365"/>
                  </a:lnTo>
                  <a:lnTo>
                    <a:pt x="46881" y="138410"/>
                  </a:lnTo>
                  <a:lnTo>
                    <a:pt x="54136" y="145108"/>
                  </a:lnTo>
                  <a:lnTo>
                    <a:pt x="60833" y="147898"/>
                  </a:lnTo>
                  <a:lnTo>
                    <a:pt x="67531" y="147898"/>
                  </a:lnTo>
                  <a:lnTo>
                    <a:pt x="80925" y="145108"/>
                  </a:lnTo>
                  <a:lnTo>
                    <a:pt x="95436" y="141759"/>
                  </a:lnTo>
                  <a:lnTo>
                    <a:pt x="107714" y="136178"/>
                  </a:lnTo>
                  <a:lnTo>
                    <a:pt x="113295" y="128365"/>
                  </a:lnTo>
                  <a:lnTo>
                    <a:pt x="116644" y="118319"/>
                  </a:lnTo>
                  <a:lnTo>
                    <a:pt x="122225" y="105482"/>
                  </a:lnTo>
                  <a:lnTo>
                    <a:pt x="125574" y="91530"/>
                  </a:lnTo>
                  <a:lnTo>
                    <a:pt x="125574" y="64741"/>
                  </a:lnTo>
                  <a:lnTo>
                    <a:pt x="122783" y="50788"/>
                  </a:lnTo>
                  <a:lnTo>
                    <a:pt x="116644" y="37952"/>
                  </a:lnTo>
                  <a:lnTo>
                    <a:pt x="104366" y="28464"/>
                  </a:lnTo>
                  <a:lnTo>
                    <a:pt x="89855" y="20092"/>
                  </a:lnTo>
                  <a:lnTo>
                    <a:pt x="80925" y="10604"/>
                  </a:lnTo>
                  <a:lnTo>
                    <a:pt x="71995" y="2233"/>
                  </a:lnTo>
                  <a:lnTo>
                    <a:pt x="58601" y="0"/>
                  </a:lnTo>
                  <a:lnTo>
                    <a:pt x="45206" y="2233"/>
                  </a:lnTo>
                  <a:lnTo>
                    <a:pt x="35719" y="7814"/>
                  </a:lnTo>
                  <a:lnTo>
                    <a:pt x="27347" y="20092"/>
                  </a:lnTo>
                  <a:lnTo>
                    <a:pt x="22324" y="31812"/>
                  </a:lnTo>
                  <a:lnTo>
                    <a:pt x="16185" y="46323"/>
                  </a:lnTo>
                  <a:lnTo>
                    <a:pt x="11720" y="60834"/>
                  </a:lnTo>
                  <a:lnTo>
                    <a:pt x="9488" y="73670"/>
                  </a:lnTo>
                  <a:lnTo>
                    <a:pt x="11720" y="84832"/>
                  </a:lnTo>
                  <a:lnTo>
                    <a:pt x="17301" y="94878"/>
                  </a:lnTo>
                  <a:lnTo>
                    <a:pt x="23440" y="103808"/>
                  </a:lnTo>
                  <a:lnTo>
                    <a:pt x="27347" y="10938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7" name="8f2aadae-be29-44e8-9a0c-71e23929dd68"/>
            <p:cNvSpPr/>
            <p:nvPr/>
          </p:nvSpPr>
          <p:spPr>
            <a:xfrm>
              <a:off x="8428680" y="5369760"/>
              <a:ext cx="144000" cy="285480"/>
            </a:xfrm>
            <a:custGeom>
              <a:avLst/>
              <a:gdLst>
                <a:gd name="textAreaLeft" fmla="*/ 0 w 144000"/>
                <a:gd name="textAreaRight" fmla="*/ 144360 w 144000"/>
                <a:gd name="textAreaTop" fmla="*/ 0 h 285480"/>
                <a:gd name="textAreaBottom" fmla="*/ 285840 h 285480"/>
              </a:gdLst>
              <a:ahLst/>
              <a:rect l="textAreaLeft" t="textAreaTop" r="textAreaRight" b="textAreaBottom"/>
              <a:pathLst>
                <a:path w="143991" h="285750">
                  <a:moveTo>
                    <a:pt x="1116" y="0"/>
                  </a:moveTo>
                  <a:lnTo>
                    <a:pt x="0" y="1674"/>
                  </a:lnTo>
                  <a:lnTo>
                    <a:pt x="0" y="3907"/>
                  </a:lnTo>
                  <a:lnTo>
                    <a:pt x="1116" y="8930"/>
                  </a:lnTo>
                  <a:lnTo>
                    <a:pt x="9488" y="27347"/>
                  </a:lnTo>
                  <a:lnTo>
                    <a:pt x="18976" y="53578"/>
                  </a:lnTo>
                  <a:lnTo>
                    <a:pt x="23440" y="70321"/>
                  </a:lnTo>
                  <a:lnTo>
                    <a:pt x="27347" y="89297"/>
                  </a:lnTo>
                  <a:lnTo>
                    <a:pt x="31812" y="108830"/>
                  </a:lnTo>
                  <a:lnTo>
                    <a:pt x="36835" y="125016"/>
                  </a:lnTo>
                  <a:lnTo>
                    <a:pt x="49671" y="149014"/>
                  </a:lnTo>
                  <a:lnTo>
                    <a:pt x="63624" y="169664"/>
                  </a:lnTo>
                  <a:lnTo>
                    <a:pt x="77018" y="192546"/>
                  </a:lnTo>
                  <a:lnTo>
                    <a:pt x="90413" y="214312"/>
                  </a:lnTo>
                  <a:lnTo>
                    <a:pt x="104366" y="233846"/>
                  </a:lnTo>
                  <a:lnTo>
                    <a:pt x="117202" y="250031"/>
                  </a:lnTo>
                  <a:lnTo>
                    <a:pt x="127248" y="260077"/>
                  </a:lnTo>
                  <a:lnTo>
                    <a:pt x="135061" y="267891"/>
                  </a:lnTo>
                  <a:lnTo>
                    <a:pt x="140642" y="277936"/>
                  </a:lnTo>
                  <a:lnTo>
                    <a:pt x="143991" y="28575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8" name="c843b8db-dc82-4408-a1d0-44fac4f46680"/>
            <p:cNvSpPr/>
            <p:nvPr/>
          </p:nvSpPr>
          <p:spPr>
            <a:xfrm>
              <a:off x="8590320" y="5503680"/>
              <a:ext cx="118080" cy="99720"/>
            </a:xfrm>
            <a:custGeom>
              <a:avLst/>
              <a:gdLst>
                <a:gd name="textAreaLeft" fmla="*/ 0 w 118080"/>
                <a:gd name="textAreaRight" fmla="*/ 118440 w 118080"/>
                <a:gd name="textAreaTop" fmla="*/ 0 h 99720"/>
                <a:gd name="textAreaBottom" fmla="*/ 100080 h 99720"/>
              </a:gdLst>
              <a:ahLst/>
              <a:rect l="textAreaLeft" t="textAreaTop" r="textAreaRight" b="textAreaBottom"/>
              <a:pathLst>
                <a:path w="118318" h="99901">
                  <a:moveTo>
                    <a:pt x="0" y="0"/>
                  </a:moveTo>
                  <a:lnTo>
                    <a:pt x="8371" y="2791"/>
                  </a:lnTo>
                  <a:lnTo>
                    <a:pt x="17859" y="8930"/>
                  </a:lnTo>
                  <a:lnTo>
                    <a:pt x="22882" y="21766"/>
                  </a:lnTo>
                  <a:lnTo>
                    <a:pt x="26789" y="35719"/>
                  </a:lnTo>
                  <a:lnTo>
                    <a:pt x="30695" y="45765"/>
                  </a:lnTo>
                  <a:lnTo>
                    <a:pt x="35718" y="53578"/>
                  </a:lnTo>
                  <a:lnTo>
                    <a:pt x="44090" y="62508"/>
                  </a:lnTo>
                  <a:lnTo>
                    <a:pt x="53578" y="71438"/>
                  </a:lnTo>
                  <a:lnTo>
                    <a:pt x="62507" y="80925"/>
                  </a:lnTo>
                  <a:lnTo>
                    <a:pt x="71437" y="89297"/>
                  </a:lnTo>
                  <a:lnTo>
                    <a:pt x="89296" y="98227"/>
                  </a:lnTo>
                  <a:lnTo>
                    <a:pt x="98784" y="99901"/>
                  </a:lnTo>
                  <a:lnTo>
                    <a:pt x="107156" y="98227"/>
                  </a:lnTo>
                  <a:lnTo>
                    <a:pt x="112737" y="91529"/>
                  </a:lnTo>
                  <a:lnTo>
                    <a:pt x="116085" y="80367"/>
                  </a:lnTo>
                  <a:lnTo>
                    <a:pt x="118318" y="63066"/>
                  </a:lnTo>
                  <a:lnTo>
                    <a:pt x="116085" y="44649"/>
                  </a:lnTo>
                  <a:lnTo>
                    <a:pt x="111062" y="36835"/>
                  </a:lnTo>
                  <a:lnTo>
                    <a:pt x="103807" y="29580"/>
                  </a:lnTo>
                  <a:lnTo>
                    <a:pt x="89296" y="17860"/>
                  </a:lnTo>
                  <a:lnTo>
                    <a:pt x="80367" y="11720"/>
                  </a:lnTo>
                  <a:lnTo>
                    <a:pt x="71437" y="8930"/>
                  </a:lnTo>
                  <a:lnTo>
                    <a:pt x="58042" y="7256"/>
                  </a:lnTo>
                  <a:lnTo>
                    <a:pt x="44648" y="8930"/>
                  </a:lnTo>
                  <a:lnTo>
                    <a:pt x="35160" y="15627"/>
                  </a:lnTo>
                  <a:lnTo>
                    <a:pt x="26789" y="26789"/>
                  </a:lnTo>
                  <a:lnTo>
                    <a:pt x="15626" y="44091"/>
                  </a:lnTo>
                  <a:lnTo>
                    <a:pt x="11162" y="54136"/>
                  </a:lnTo>
                  <a:lnTo>
                    <a:pt x="8929" y="62508"/>
                  </a:lnTo>
                  <a:lnTo>
                    <a:pt x="10604" y="70321"/>
                  </a:lnTo>
                  <a:lnTo>
                    <a:pt x="15068" y="77577"/>
                  </a:lnTo>
                  <a:lnTo>
                    <a:pt x="26789" y="89297"/>
                  </a:lnTo>
                  <a:lnTo>
                    <a:pt x="41299" y="95436"/>
                  </a:lnTo>
                  <a:lnTo>
                    <a:pt x="48555" y="97111"/>
                  </a:lnTo>
                  <a:lnTo>
                    <a:pt x="53578" y="9822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9" name="753b0d72-2e0e-4fe7-bfd4-0ffc274549d6"/>
            <p:cNvSpPr/>
            <p:nvPr/>
          </p:nvSpPr>
          <p:spPr>
            <a:xfrm>
              <a:off x="8830080" y="5457960"/>
              <a:ext cx="55080" cy="135360"/>
            </a:xfrm>
            <a:custGeom>
              <a:avLst/>
              <a:gdLst>
                <a:gd name="textAreaLeft" fmla="*/ 0 w 55080"/>
                <a:gd name="textAreaRight" fmla="*/ 55440 w 55080"/>
                <a:gd name="textAreaTop" fmla="*/ 0 h 135360"/>
                <a:gd name="textAreaBottom" fmla="*/ 135720 h 135360"/>
              </a:gdLst>
              <a:ahLst/>
              <a:rect l="textAreaLeft" t="textAreaTop" r="textAreaRight" b="textAreaBottom"/>
              <a:pathLst>
                <a:path w="55252" h="135619">
                  <a:moveTo>
                    <a:pt x="10604" y="1116"/>
                  </a:moveTo>
                  <a:lnTo>
                    <a:pt x="16185" y="0"/>
                  </a:lnTo>
                  <a:lnTo>
                    <a:pt x="18975" y="0"/>
                  </a:lnTo>
                  <a:lnTo>
                    <a:pt x="19533" y="1116"/>
                  </a:lnTo>
                  <a:lnTo>
                    <a:pt x="16743" y="4464"/>
                  </a:lnTo>
                  <a:lnTo>
                    <a:pt x="11720" y="9487"/>
                  </a:lnTo>
                  <a:lnTo>
                    <a:pt x="5581" y="14510"/>
                  </a:lnTo>
                  <a:lnTo>
                    <a:pt x="1674" y="18975"/>
                  </a:lnTo>
                  <a:lnTo>
                    <a:pt x="0" y="27905"/>
                  </a:lnTo>
                  <a:lnTo>
                    <a:pt x="1674" y="36835"/>
                  </a:lnTo>
                  <a:lnTo>
                    <a:pt x="10604" y="54694"/>
                  </a:lnTo>
                  <a:lnTo>
                    <a:pt x="18975" y="63065"/>
                  </a:lnTo>
                  <a:lnTo>
                    <a:pt x="28463" y="72553"/>
                  </a:lnTo>
                  <a:lnTo>
                    <a:pt x="37951" y="85390"/>
                  </a:lnTo>
                  <a:lnTo>
                    <a:pt x="46323" y="99342"/>
                  </a:lnTo>
                  <a:lnTo>
                    <a:pt x="53020" y="113853"/>
                  </a:lnTo>
                  <a:lnTo>
                    <a:pt x="55252" y="126131"/>
                  </a:lnTo>
                  <a:lnTo>
                    <a:pt x="53020" y="130038"/>
                  </a:lnTo>
                  <a:lnTo>
                    <a:pt x="47997" y="132271"/>
                  </a:lnTo>
                  <a:lnTo>
                    <a:pt x="37393" y="135061"/>
                  </a:lnTo>
                  <a:lnTo>
                    <a:pt x="27905" y="135619"/>
                  </a:lnTo>
                  <a:lnTo>
                    <a:pt x="19533" y="13506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0" name="741b4b89-c845-4f6a-acf8-0b17585e3768"/>
            <p:cNvSpPr/>
            <p:nvPr/>
          </p:nvSpPr>
          <p:spPr>
            <a:xfrm>
              <a:off x="8936640" y="5439960"/>
              <a:ext cx="189720" cy="173520"/>
            </a:xfrm>
            <a:custGeom>
              <a:avLst/>
              <a:gdLst>
                <a:gd name="textAreaLeft" fmla="*/ 0 w 189720"/>
                <a:gd name="textAreaRight" fmla="*/ 190080 w 189720"/>
                <a:gd name="textAreaTop" fmla="*/ 0 h 173520"/>
                <a:gd name="textAreaBottom" fmla="*/ 173880 h 173520"/>
              </a:gdLst>
              <a:ahLst/>
              <a:rect l="textAreaLeft" t="textAreaTop" r="textAreaRight" b="textAreaBottom"/>
              <a:pathLst>
                <a:path w="189756" h="173571">
                  <a:moveTo>
                    <a:pt x="20092" y="36835"/>
                  </a:moveTo>
                  <a:lnTo>
                    <a:pt x="25115" y="35719"/>
                  </a:lnTo>
                  <a:lnTo>
                    <a:pt x="29021" y="36835"/>
                  </a:lnTo>
                  <a:lnTo>
                    <a:pt x="26231" y="44090"/>
                  </a:lnTo>
                  <a:lnTo>
                    <a:pt x="20092" y="54695"/>
                  </a:lnTo>
                  <a:lnTo>
                    <a:pt x="10604" y="68089"/>
                  </a:lnTo>
                  <a:lnTo>
                    <a:pt x="2232" y="81484"/>
                  </a:lnTo>
                  <a:lnTo>
                    <a:pt x="0" y="91529"/>
                  </a:lnTo>
                  <a:lnTo>
                    <a:pt x="2232" y="99343"/>
                  </a:lnTo>
                  <a:lnTo>
                    <a:pt x="10604" y="108273"/>
                  </a:lnTo>
                  <a:lnTo>
                    <a:pt x="20092" y="117202"/>
                  </a:lnTo>
                  <a:lnTo>
                    <a:pt x="25115" y="126132"/>
                  </a:lnTo>
                  <a:lnTo>
                    <a:pt x="29021" y="135062"/>
                  </a:lnTo>
                  <a:lnTo>
                    <a:pt x="37951" y="152921"/>
                  </a:lnTo>
                  <a:lnTo>
                    <a:pt x="41858" y="162967"/>
                  </a:lnTo>
                  <a:lnTo>
                    <a:pt x="46881" y="170780"/>
                  </a:lnTo>
                  <a:lnTo>
                    <a:pt x="54136" y="173571"/>
                  </a:lnTo>
                  <a:lnTo>
                    <a:pt x="64740" y="170780"/>
                  </a:lnTo>
                  <a:lnTo>
                    <a:pt x="81483" y="162967"/>
                  </a:lnTo>
                  <a:lnTo>
                    <a:pt x="100459" y="152921"/>
                  </a:lnTo>
                  <a:lnTo>
                    <a:pt x="119434" y="143991"/>
                  </a:lnTo>
                  <a:lnTo>
                    <a:pt x="136178" y="135062"/>
                  </a:lnTo>
                  <a:lnTo>
                    <a:pt x="150688" y="127248"/>
                  </a:lnTo>
                  <a:lnTo>
                    <a:pt x="162967" y="117202"/>
                  </a:lnTo>
                  <a:lnTo>
                    <a:pt x="173013" y="104366"/>
                  </a:lnTo>
                  <a:lnTo>
                    <a:pt x="180826" y="90413"/>
                  </a:lnTo>
                  <a:lnTo>
                    <a:pt x="186965" y="77019"/>
                  </a:lnTo>
                  <a:lnTo>
                    <a:pt x="189756" y="63624"/>
                  </a:lnTo>
                  <a:lnTo>
                    <a:pt x="186965" y="50230"/>
                  </a:lnTo>
                  <a:lnTo>
                    <a:pt x="180826" y="36835"/>
                  </a:lnTo>
                  <a:lnTo>
                    <a:pt x="173571" y="22324"/>
                  </a:lnTo>
                  <a:lnTo>
                    <a:pt x="162967" y="10046"/>
                  </a:lnTo>
                  <a:lnTo>
                    <a:pt x="145665" y="1674"/>
                  </a:lnTo>
                  <a:lnTo>
                    <a:pt x="136178" y="0"/>
                  </a:lnTo>
                  <a:lnTo>
                    <a:pt x="127248" y="1116"/>
                  </a:lnTo>
                  <a:lnTo>
                    <a:pt x="119434" y="7814"/>
                  </a:lnTo>
                  <a:lnTo>
                    <a:pt x="111621" y="18418"/>
                  </a:lnTo>
                  <a:lnTo>
                    <a:pt x="104924" y="29580"/>
                  </a:lnTo>
                  <a:lnTo>
                    <a:pt x="100459" y="3683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1" name="d171980a-903d-45d9-8ee7-0462a1a72b99"/>
            <p:cNvSpPr/>
            <p:nvPr/>
          </p:nvSpPr>
          <p:spPr>
            <a:xfrm>
              <a:off x="1918800" y="5013000"/>
              <a:ext cx="1553760" cy="25920"/>
            </a:xfrm>
            <a:custGeom>
              <a:avLst/>
              <a:gdLst>
                <a:gd name="textAreaLeft" fmla="*/ 0 w 1553760"/>
                <a:gd name="textAreaRight" fmla="*/ 1554120 w 1553760"/>
                <a:gd name="textAreaTop" fmla="*/ 0 h 25920"/>
                <a:gd name="textAreaBottom" fmla="*/ 26280 h 25920"/>
              </a:gdLst>
              <a:ahLst/>
              <a:rect l="textAreaLeft" t="textAreaTop" r="textAreaRight" b="textAreaBottom"/>
              <a:pathLst>
                <a:path w="1553766" h="26231">
                  <a:moveTo>
                    <a:pt x="1553766" y="8372"/>
                  </a:moveTo>
                  <a:lnTo>
                    <a:pt x="1515256" y="5582"/>
                  </a:lnTo>
                  <a:lnTo>
                    <a:pt x="1485677" y="3349"/>
                  </a:lnTo>
                  <a:lnTo>
                    <a:pt x="1448842" y="2233"/>
                  </a:lnTo>
                  <a:lnTo>
                    <a:pt x="1420936" y="1117"/>
                  </a:lnTo>
                  <a:lnTo>
                    <a:pt x="1399728" y="559"/>
                  </a:lnTo>
                  <a:lnTo>
                    <a:pt x="1365126" y="0"/>
                  </a:lnTo>
                  <a:lnTo>
                    <a:pt x="1338337" y="0"/>
                  </a:lnTo>
                  <a:lnTo>
                    <a:pt x="1303176" y="0"/>
                  </a:lnTo>
                  <a:lnTo>
                    <a:pt x="1276387" y="0"/>
                  </a:lnTo>
                  <a:lnTo>
                    <a:pt x="1246808" y="2791"/>
                  </a:lnTo>
                  <a:lnTo>
                    <a:pt x="1224483" y="5023"/>
                  </a:lnTo>
                  <a:lnTo>
                    <a:pt x="1194346" y="6140"/>
                  </a:lnTo>
                  <a:lnTo>
                    <a:pt x="1171463" y="7256"/>
                  </a:lnTo>
                  <a:lnTo>
                    <a:pt x="1141326" y="10604"/>
                  </a:lnTo>
                  <a:lnTo>
                    <a:pt x="1118443" y="12837"/>
                  </a:lnTo>
                  <a:lnTo>
                    <a:pt x="1091096" y="14511"/>
                  </a:lnTo>
                  <a:lnTo>
                    <a:pt x="1069888" y="15627"/>
                  </a:lnTo>
                  <a:lnTo>
                    <a:pt x="1040867" y="16186"/>
                  </a:lnTo>
                  <a:lnTo>
                    <a:pt x="1018542" y="16744"/>
                  </a:lnTo>
                  <a:lnTo>
                    <a:pt x="991753" y="20092"/>
                  </a:lnTo>
                  <a:lnTo>
                    <a:pt x="971103" y="22325"/>
                  </a:lnTo>
                  <a:lnTo>
                    <a:pt x="945431" y="23441"/>
                  </a:lnTo>
                  <a:lnTo>
                    <a:pt x="925339" y="24557"/>
                  </a:lnTo>
                  <a:lnTo>
                    <a:pt x="899666" y="25115"/>
                  </a:lnTo>
                  <a:lnTo>
                    <a:pt x="880132" y="25673"/>
                  </a:lnTo>
                  <a:lnTo>
                    <a:pt x="855018" y="25673"/>
                  </a:lnTo>
                  <a:lnTo>
                    <a:pt x="835484" y="26231"/>
                  </a:lnTo>
                  <a:lnTo>
                    <a:pt x="810369" y="26231"/>
                  </a:lnTo>
                  <a:lnTo>
                    <a:pt x="790277" y="26231"/>
                  </a:lnTo>
                  <a:lnTo>
                    <a:pt x="762372" y="23441"/>
                  </a:lnTo>
                  <a:lnTo>
                    <a:pt x="740606" y="21208"/>
                  </a:lnTo>
                  <a:lnTo>
                    <a:pt x="714375" y="16744"/>
                  </a:lnTo>
                  <a:lnTo>
                    <a:pt x="693725" y="13953"/>
                  </a:lnTo>
                  <a:lnTo>
                    <a:pt x="668052" y="12279"/>
                  </a:lnTo>
                  <a:lnTo>
                    <a:pt x="647960" y="10604"/>
                  </a:lnTo>
                  <a:lnTo>
                    <a:pt x="619497" y="10046"/>
                  </a:lnTo>
                  <a:lnTo>
                    <a:pt x="597731" y="9488"/>
                  </a:lnTo>
                  <a:lnTo>
                    <a:pt x="568151" y="8930"/>
                  </a:lnTo>
                  <a:lnTo>
                    <a:pt x="545827" y="8930"/>
                  </a:lnTo>
                  <a:lnTo>
                    <a:pt x="515689" y="8930"/>
                  </a:lnTo>
                  <a:lnTo>
                    <a:pt x="492807" y="8372"/>
                  </a:lnTo>
                  <a:lnTo>
                    <a:pt x="462669" y="8372"/>
                  </a:lnTo>
                  <a:lnTo>
                    <a:pt x="439229" y="8372"/>
                  </a:lnTo>
                  <a:lnTo>
                    <a:pt x="406301" y="8372"/>
                  </a:lnTo>
                  <a:lnTo>
                    <a:pt x="380628" y="8372"/>
                  </a:lnTo>
                  <a:lnTo>
                    <a:pt x="346025" y="8372"/>
                  </a:lnTo>
                  <a:lnTo>
                    <a:pt x="319794" y="8372"/>
                  </a:lnTo>
                  <a:lnTo>
                    <a:pt x="284634" y="8372"/>
                  </a:lnTo>
                  <a:lnTo>
                    <a:pt x="257845" y="8372"/>
                  </a:lnTo>
                  <a:lnTo>
                    <a:pt x="219893" y="11163"/>
                  </a:lnTo>
                  <a:lnTo>
                    <a:pt x="190314" y="13395"/>
                  </a:lnTo>
                  <a:lnTo>
                    <a:pt x="150688" y="14511"/>
                  </a:lnTo>
                  <a:lnTo>
                    <a:pt x="120551" y="15627"/>
                  </a:lnTo>
                  <a:lnTo>
                    <a:pt x="96552" y="16744"/>
                  </a:lnTo>
                  <a:lnTo>
                    <a:pt x="77577" y="17860"/>
                  </a:lnTo>
                  <a:lnTo>
                    <a:pt x="42974" y="21208"/>
                  </a:lnTo>
                  <a:lnTo>
                    <a:pt x="23998" y="23441"/>
                  </a:lnTo>
                  <a:lnTo>
                    <a:pt x="0" y="26231"/>
                  </a:lnTo>
                </a:path>
              </a:pathLst>
            </a:custGeom>
            <a:noFill/>
            <a:ln w="106920">
              <a:solidFill>
                <a:srgbClr val="ffff00">
                  <a:alpha val="50000"/>
                </a:srgbClr>
              </a:solidFill>
              <a:round/>
            </a:ln>
          </p:spPr>
          <p:style>
            <a:lnRef idx="0"/>
            <a:fillRef idx="0"/>
            <a:effectRef idx="0"/>
            <a:fontRef idx="minor"/>
          </p:style>
          <p:txBody>
            <a:bodyPr lIns="90000" rIns="90000" tIns="-20520" bIns="-20520" anchor="ctr" anchorCtr="1">
              <a:noAutofit/>
            </a:bodyPr>
            <a:p>
              <a:endParaRPr b="0" lang="en-US" sz="1800" spc="-1" strike="noStrike">
                <a:solidFill>
                  <a:srgbClr val="000000"/>
                </a:solidFill>
                <a:latin typeface="Arial"/>
              </a:endParaRPr>
            </a:p>
          </p:txBody>
        </p:sp>
        <p:sp>
          <p:nvSpPr>
            <p:cNvPr id="202" name="c1ab2c7d-275b-4bf7-ba41-680ad0a9b975"/>
            <p:cNvSpPr/>
            <p:nvPr/>
          </p:nvSpPr>
          <p:spPr>
            <a:xfrm>
              <a:off x="1561680" y="5139720"/>
              <a:ext cx="3947400" cy="146520"/>
            </a:xfrm>
            <a:custGeom>
              <a:avLst/>
              <a:gdLst>
                <a:gd name="textAreaLeft" fmla="*/ 0 w 3947400"/>
                <a:gd name="textAreaRight" fmla="*/ 3947760 w 3947400"/>
                <a:gd name="textAreaTop" fmla="*/ 0 h 146520"/>
                <a:gd name="textAreaBottom" fmla="*/ 146880 h 146520"/>
              </a:gdLst>
              <a:ahLst/>
              <a:rect l="textAreaLeft" t="textAreaTop" r="textAreaRight" b="textAreaBottom"/>
              <a:pathLst>
                <a:path w="3946922" h="146782">
                  <a:moveTo>
                    <a:pt x="3946923" y="24557"/>
                  </a:moveTo>
                  <a:lnTo>
                    <a:pt x="3920133" y="33487"/>
                  </a:lnTo>
                  <a:lnTo>
                    <a:pt x="3899483" y="40184"/>
                  </a:lnTo>
                  <a:lnTo>
                    <a:pt x="3867671" y="49672"/>
                  </a:lnTo>
                  <a:lnTo>
                    <a:pt x="3843115" y="57485"/>
                  </a:lnTo>
                  <a:lnTo>
                    <a:pt x="3806281" y="67531"/>
                  </a:lnTo>
                  <a:lnTo>
                    <a:pt x="3777817" y="74787"/>
                  </a:lnTo>
                  <a:lnTo>
                    <a:pt x="3754935" y="80368"/>
                  </a:lnTo>
                  <a:lnTo>
                    <a:pt x="3718099" y="85391"/>
                  </a:lnTo>
                  <a:lnTo>
                    <a:pt x="3689079" y="89297"/>
                  </a:lnTo>
                  <a:lnTo>
                    <a:pt x="3665637" y="92646"/>
                  </a:lnTo>
                  <a:lnTo>
                    <a:pt x="3628803" y="96553"/>
                  </a:lnTo>
                  <a:lnTo>
                    <a:pt x="3599223" y="99901"/>
                  </a:lnTo>
                  <a:lnTo>
                    <a:pt x="3575783" y="102134"/>
                  </a:lnTo>
                  <a:lnTo>
                    <a:pt x="3532809" y="103250"/>
                  </a:lnTo>
                  <a:lnTo>
                    <a:pt x="3499323" y="103808"/>
                  </a:lnTo>
                  <a:lnTo>
                    <a:pt x="3471975" y="104366"/>
                  </a:lnTo>
                  <a:lnTo>
                    <a:pt x="3425095" y="104366"/>
                  </a:lnTo>
                  <a:lnTo>
                    <a:pt x="3388259" y="104924"/>
                  </a:lnTo>
                  <a:lnTo>
                    <a:pt x="3357563" y="104924"/>
                  </a:lnTo>
                  <a:lnTo>
                    <a:pt x="3327425" y="104924"/>
                  </a:lnTo>
                  <a:lnTo>
                    <a:pt x="3301195" y="104924"/>
                  </a:lnTo>
                  <a:lnTo>
                    <a:pt x="3257105" y="104924"/>
                  </a:lnTo>
                  <a:lnTo>
                    <a:pt x="3221943" y="105482"/>
                  </a:lnTo>
                  <a:lnTo>
                    <a:pt x="3190689" y="107157"/>
                  </a:lnTo>
                  <a:lnTo>
                    <a:pt x="3163343" y="108273"/>
                  </a:lnTo>
                  <a:lnTo>
                    <a:pt x="3117019" y="109947"/>
                  </a:lnTo>
                  <a:lnTo>
                    <a:pt x="3080185" y="111063"/>
                  </a:lnTo>
                  <a:lnTo>
                    <a:pt x="3048373" y="111622"/>
                  </a:lnTo>
                  <a:lnTo>
                    <a:pt x="3021025" y="110505"/>
                  </a:lnTo>
                  <a:lnTo>
                    <a:pt x="2997027" y="109389"/>
                  </a:lnTo>
                  <a:lnTo>
                    <a:pt x="2956285" y="107715"/>
                  </a:lnTo>
                  <a:lnTo>
                    <a:pt x="2922241" y="106599"/>
                  </a:lnTo>
                  <a:lnTo>
                    <a:pt x="2891545" y="106040"/>
                  </a:lnTo>
                  <a:lnTo>
                    <a:pt x="2861965" y="106040"/>
                  </a:lnTo>
                  <a:lnTo>
                    <a:pt x="2835735" y="105482"/>
                  </a:lnTo>
                  <a:lnTo>
                    <a:pt x="2791645" y="105482"/>
                  </a:lnTo>
                  <a:lnTo>
                    <a:pt x="2755925" y="104924"/>
                  </a:lnTo>
                  <a:lnTo>
                    <a:pt x="2724671" y="104924"/>
                  </a:lnTo>
                  <a:lnTo>
                    <a:pt x="2696209" y="104924"/>
                  </a:lnTo>
                  <a:lnTo>
                    <a:pt x="2671093" y="104924"/>
                  </a:lnTo>
                  <a:lnTo>
                    <a:pt x="2628677" y="104924"/>
                  </a:lnTo>
                  <a:lnTo>
                    <a:pt x="2593517" y="105482"/>
                  </a:lnTo>
                  <a:lnTo>
                    <a:pt x="2561705" y="106040"/>
                  </a:lnTo>
                  <a:lnTo>
                    <a:pt x="2532125" y="107157"/>
                  </a:lnTo>
                  <a:lnTo>
                    <a:pt x="2505895" y="108831"/>
                  </a:lnTo>
                  <a:lnTo>
                    <a:pt x="2461805" y="110505"/>
                  </a:lnTo>
                  <a:lnTo>
                    <a:pt x="2426085" y="112180"/>
                  </a:lnTo>
                  <a:lnTo>
                    <a:pt x="2394273" y="112738"/>
                  </a:lnTo>
                  <a:lnTo>
                    <a:pt x="2365811" y="112738"/>
                  </a:lnTo>
                  <a:lnTo>
                    <a:pt x="2340695" y="113296"/>
                  </a:lnTo>
                  <a:lnTo>
                    <a:pt x="2298279" y="113296"/>
                  </a:lnTo>
                  <a:lnTo>
                    <a:pt x="2263119" y="113854"/>
                  </a:lnTo>
                  <a:lnTo>
                    <a:pt x="2231307" y="114970"/>
                  </a:lnTo>
                  <a:lnTo>
                    <a:pt x="2201727" y="116086"/>
                  </a:lnTo>
                  <a:lnTo>
                    <a:pt x="2175497" y="117761"/>
                  </a:lnTo>
                  <a:lnTo>
                    <a:pt x="2131405" y="119435"/>
                  </a:lnTo>
                  <a:lnTo>
                    <a:pt x="2095686" y="121109"/>
                  </a:lnTo>
                  <a:lnTo>
                    <a:pt x="2063874" y="122784"/>
                  </a:lnTo>
                  <a:lnTo>
                    <a:pt x="2035411" y="124458"/>
                  </a:lnTo>
                  <a:lnTo>
                    <a:pt x="2010296" y="125574"/>
                  </a:lnTo>
                  <a:lnTo>
                    <a:pt x="1967880" y="128365"/>
                  </a:lnTo>
                  <a:lnTo>
                    <a:pt x="1933278" y="130039"/>
                  </a:lnTo>
                  <a:lnTo>
                    <a:pt x="1903140" y="131713"/>
                  </a:lnTo>
                  <a:lnTo>
                    <a:pt x="1876351" y="133388"/>
                  </a:lnTo>
                  <a:lnTo>
                    <a:pt x="1852352" y="134504"/>
                  </a:lnTo>
                  <a:lnTo>
                    <a:pt x="1812727" y="137294"/>
                  </a:lnTo>
                  <a:lnTo>
                    <a:pt x="1779799" y="138969"/>
                  </a:lnTo>
                  <a:lnTo>
                    <a:pt x="1749661" y="140643"/>
                  </a:lnTo>
                  <a:lnTo>
                    <a:pt x="1722872" y="142317"/>
                  </a:lnTo>
                  <a:lnTo>
                    <a:pt x="1677665" y="145108"/>
                  </a:lnTo>
                  <a:lnTo>
                    <a:pt x="1641947" y="146782"/>
                  </a:lnTo>
                  <a:lnTo>
                    <a:pt x="1610693" y="145666"/>
                  </a:lnTo>
                  <a:lnTo>
                    <a:pt x="1583346" y="144550"/>
                  </a:lnTo>
                  <a:lnTo>
                    <a:pt x="1537023" y="143434"/>
                  </a:lnTo>
                  <a:lnTo>
                    <a:pt x="1500746" y="142317"/>
                  </a:lnTo>
                  <a:lnTo>
                    <a:pt x="1470608" y="141759"/>
                  </a:lnTo>
                  <a:lnTo>
                    <a:pt x="1444377" y="141759"/>
                  </a:lnTo>
                  <a:lnTo>
                    <a:pt x="1400287" y="141201"/>
                  </a:lnTo>
                  <a:lnTo>
                    <a:pt x="1365685" y="141201"/>
                  </a:lnTo>
                  <a:lnTo>
                    <a:pt x="1337221" y="141201"/>
                  </a:lnTo>
                  <a:lnTo>
                    <a:pt x="1312665" y="141201"/>
                  </a:lnTo>
                  <a:lnTo>
                    <a:pt x="1271365" y="140643"/>
                  </a:lnTo>
                  <a:lnTo>
                    <a:pt x="1237878" y="140085"/>
                  </a:lnTo>
                  <a:lnTo>
                    <a:pt x="1209973" y="138411"/>
                  </a:lnTo>
                  <a:lnTo>
                    <a:pt x="1185416" y="137294"/>
                  </a:lnTo>
                  <a:lnTo>
                    <a:pt x="1144675" y="135062"/>
                  </a:lnTo>
                  <a:lnTo>
                    <a:pt x="1112305" y="133388"/>
                  </a:lnTo>
                  <a:lnTo>
                    <a:pt x="1084399" y="131713"/>
                  </a:lnTo>
                  <a:lnTo>
                    <a:pt x="1060401" y="130039"/>
                  </a:lnTo>
                  <a:lnTo>
                    <a:pt x="1020217" y="127248"/>
                  </a:lnTo>
                  <a:lnTo>
                    <a:pt x="987847" y="124458"/>
                  </a:lnTo>
                  <a:lnTo>
                    <a:pt x="941524" y="117761"/>
                  </a:lnTo>
                  <a:lnTo>
                    <a:pt x="905248" y="112738"/>
                  </a:lnTo>
                  <a:lnTo>
                    <a:pt x="876784" y="108831"/>
                  </a:lnTo>
                  <a:lnTo>
                    <a:pt x="831578" y="101576"/>
                  </a:lnTo>
                  <a:lnTo>
                    <a:pt x="796975" y="95995"/>
                  </a:lnTo>
                  <a:lnTo>
                    <a:pt x="771302" y="91530"/>
                  </a:lnTo>
                  <a:lnTo>
                    <a:pt x="748978" y="87065"/>
                  </a:lnTo>
                  <a:lnTo>
                    <a:pt x="711585" y="80368"/>
                  </a:lnTo>
                  <a:lnTo>
                    <a:pt x="682005" y="74787"/>
                  </a:lnTo>
                  <a:lnTo>
                    <a:pt x="639589" y="66973"/>
                  </a:lnTo>
                  <a:lnTo>
                    <a:pt x="606661" y="60834"/>
                  </a:lnTo>
                  <a:lnTo>
                    <a:pt x="562571" y="54695"/>
                  </a:lnTo>
                  <a:lnTo>
                    <a:pt x="527968" y="49672"/>
                  </a:lnTo>
                  <a:lnTo>
                    <a:pt x="502853" y="45207"/>
                  </a:lnTo>
                  <a:lnTo>
                    <a:pt x="480529" y="41300"/>
                  </a:lnTo>
                  <a:lnTo>
                    <a:pt x="443694" y="35161"/>
                  </a:lnTo>
                  <a:lnTo>
                    <a:pt x="415231" y="30138"/>
                  </a:lnTo>
                  <a:lnTo>
                    <a:pt x="381186" y="25115"/>
                  </a:lnTo>
                  <a:lnTo>
                    <a:pt x="354397" y="21767"/>
                  </a:lnTo>
                  <a:lnTo>
                    <a:pt x="313656" y="16744"/>
                  </a:lnTo>
                  <a:lnTo>
                    <a:pt x="282960" y="12837"/>
                  </a:lnTo>
                  <a:lnTo>
                    <a:pt x="245567" y="10604"/>
                  </a:lnTo>
                  <a:lnTo>
                    <a:pt x="216545" y="9488"/>
                  </a:lnTo>
                  <a:lnTo>
                    <a:pt x="177478" y="8372"/>
                  </a:lnTo>
                  <a:lnTo>
                    <a:pt x="147340" y="7814"/>
                  </a:lnTo>
                  <a:lnTo>
                    <a:pt x="113296" y="4465"/>
                  </a:lnTo>
                  <a:lnTo>
                    <a:pt x="87065" y="2233"/>
                  </a:lnTo>
                  <a:lnTo>
                    <a:pt x="67531" y="559"/>
                  </a:lnTo>
                  <a:lnTo>
                    <a:pt x="51904" y="0"/>
                  </a:lnTo>
                  <a:lnTo>
                    <a:pt x="27348" y="1675"/>
                  </a:lnTo>
                  <a:lnTo>
                    <a:pt x="15069" y="3907"/>
                  </a:lnTo>
                  <a:lnTo>
                    <a:pt x="0" y="6698"/>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3" name="dea16887-10cb-449f-908d-77d01acdb3ac"/>
            <p:cNvSpPr/>
            <p:nvPr/>
          </p:nvSpPr>
          <p:spPr>
            <a:xfrm>
              <a:off x="6375600" y="5334120"/>
              <a:ext cx="615960" cy="571320"/>
            </a:xfrm>
            <a:custGeom>
              <a:avLst/>
              <a:gdLst>
                <a:gd name="textAreaLeft" fmla="*/ 0 w 615960"/>
                <a:gd name="textAreaRight" fmla="*/ 616320 w 615960"/>
                <a:gd name="textAreaTop" fmla="*/ 0 h 571320"/>
                <a:gd name="textAreaBottom" fmla="*/ 571680 h 571320"/>
              </a:gdLst>
              <a:ahLst/>
              <a:rect l="textAreaLeft" t="textAreaTop" r="textAreaRight" b="textAreaBottom"/>
              <a:pathLst>
                <a:path w="616148" h="571500">
                  <a:moveTo>
                    <a:pt x="0" y="0"/>
                  </a:moveTo>
                  <a:lnTo>
                    <a:pt x="2232" y="6697"/>
                  </a:lnTo>
                  <a:lnTo>
                    <a:pt x="8930" y="17860"/>
                  </a:lnTo>
                  <a:lnTo>
                    <a:pt x="22882" y="32928"/>
                  </a:lnTo>
                  <a:lnTo>
                    <a:pt x="44648" y="53578"/>
                  </a:lnTo>
                  <a:lnTo>
                    <a:pt x="60275" y="68089"/>
                  </a:lnTo>
                  <a:lnTo>
                    <a:pt x="79251" y="84274"/>
                  </a:lnTo>
                  <a:lnTo>
                    <a:pt x="98785" y="101017"/>
                  </a:lnTo>
                  <a:lnTo>
                    <a:pt x="116086" y="116086"/>
                  </a:lnTo>
                  <a:lnTo>
                    <a:pt x="143991" y="139526"/>
                  </a:lnTo>
                  <a:lnTo>
                    <a:pt x="169664" y="160735"/>
                  </a:lnTo>
                  <a:lnTo>
                    <a:pt x="200360" y="182501"/>
                  </a:lnTo>
                  <a:lnTo>
                    <a:pt x="232172" y="205383"/>
                  </a:lnTo>
                  <a:lnTo>
                    <a:pt x="262868" y="231614"/>
                  </a:lnTo>
                  <a:lnTo>
                    <a:pt x="294680" y="258961"/>
                  </a:lnTo>
                  <a:lnTo>
                    <a:pt x="329840" y="289657"/>
                  </a:lnTo>
                  <a:lnTo>
                    <a:pt x="366117" y="321469"/>
                  </a:lnTo>
                  <a:lnTo>
                    <a:pt x="402394" y="352723"/>
                  </a:lnTo>
                  <a:lnTo>
                    <a:pt x="437555" y="383977"/>
                  </a:lnTo>
                  <a:lnTo>
                    <a:pt x="470483" y="416347"/>
                  </a:lnTo>
                  <a:lnTo>
                    <a:pt x="500063" y="446485"/>
                  </a:lnTo>
                  <a:lnTo>
                    <a:pt x="523503" y="474390"/>
                  </a:lnTo>
                  <a:lnTo>
                    <a:pt x="544711" y="500063"/>
                  </a:lnTo>
                  <a:lnTo>
                    <a:pt x="568151" y="524061"/>
                  </a:lnTo>
                  <a:lnTo>
                    <a:pt x="589359" y="544711"/>
                  </a:lnTo>
                  <a:lnTo>
                    <a:pt x="607219" y="563129"/>
                  </a:lnTo>
                  <a:lnTo>
                    <a:pt x="613916" y="569826"/>
                  </a:lnTo>
                  <a:lnTo>
                    <a:pt x="616148" y="571500"/>
                  </a:lnTo>
                  <a:lnTo>
                    <a:pt x="612800" y="566477"/>
                  </a:lnTo>
                  <a:lnTo>
                    <a:pt x="604428" y="555315"/>
                  </a:lnTo>
                  <a:lnTo>
                    <a:pt x="595499" y="543595"/>
                  </a:lnTo>
                  <a:lnTo>
                    <a:pt x="589359" y="53578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4" name="f55f9aa4-ca97-4c7b-b1fa-1683221aa407"/>
            <p:cNvSpPr/>
            <p:nvPr/>
          </p:nvSpPr>
          <p:spPr>
            <a:xfrm>
              <a:off x="6383160" y="5234040"/>
              <a:ext cx="241920" cy="208440"/>
            </a:xfrm>
            <a:custGeom>
              <a:avLst/>
              <a:gdLst>
                <a:gd name="textAreaLeft" fmla="*/ 0 w 241920"/>
                <a:gd name="textAreaRight" fmla="*/ 242280 w 241920"/>
                <a:gd name="textAreaTop" fmla="*/ 0 h 208440"/>
                <a:gd name="textAreaBottom" fmla="*/ 208800 h 208440"/>
              </a:gdLst>
              <a:ahLst/>
              <a:rect l="textAreaLeft" t="textAreaTop" r="textAreaRight" b="textAreaBottom"/>
              <a:pathLst>
                <a:path w="242218" h="208732">
                  <a:moveTo>
                    <a:pt x="18976" y="162409"/>
                  </a:moveTo>
                  <a:lnTo>
                    <a:pt x="15627" y="167432"/>
                  </a:lnTo>
                  <a:lnTo>
                    <a:pt x="10046" y="174687"/>
                  </a:lnTo>
                  <a:lnTo>
                    <a:pt x="1117" y="189198"/>
                  </a:lnTo>
                  <a:lnTo>
                    <a:pt x="0" y="196453"/>
                  </a:lnTo>
                  <a:lnTo>
                    <a:pt x="0" y="204267"/>
                  </a:lnTo>
                  <a:lnTo>
                    <a:pt x="559" y="208732"/>
                  </a:lnTo>
                  <a:lnTo>
                    <a:pt x="1117" y="207057"/>
                  </a:lnTo>
                  <a:lnTo>
                    <a:pt x="1117" y="197570"/>
                  </a:lnTo>
                  <a:lnTo>
                    <a:pt x="1117" y="181385"/>
                  </a:lnTo>
                  <a:lnTo>
                    <a:pt x="1117" y="162967"/>
                  </a:lnTo>
                  <a:lnTo>
                    <a:pt x="1117" y="144550"/>
                  </a:lnTo>
                  <a:lnTo>
                    <a:pt x="1117" y="107715"/>
                  </a:lnTo>
                  <a:lnTo>
                    <a:pt x="1117" y="89297"/>
                  </a:lnTo>
                  <a:lnTo>
                    <a:pt x="1117" y="73112"/>
                  </a:lnTo>
                  <a:lnTo>
                    <a:pt x="1117" y="48555"/>
                  </a:lnTo>
                  <a:lnTo>
                    <a:pt x="1117" y="28464"/>
                  </a:lnTo>
                  <a:lnTo>
                    <a:pt x="0" y="12279"/>
                  </a:lnTo>
                  <a:lnTo>
                    <a:pt x="1117" y="1675"/>
                  </a:lnTo>
                  <a:lnTo>
                    <a:pt x="9488" y="0"/>
                  </a:lnTo>
                  <a:lnTo>
                    <a:pt x="18976" y="1675"/>
                  </a:lnTo>
                  <a:lnTo>
                    <a:pt x="27906" y="558"/>
                  </a:lnTo>
                  <a:lnTo>
                    <a:pt x="36835" y="1675"/>
                  </a:lnTo>
                  <a:lnTo>
                    <a:pt x="44091" y="8930"/>
                  </a:lnTo>
                  <a:lnTo>
                    <a:pt x="54695" y="19534"/>
                  </a:lnTo>
                  <a:lnTo>
                    <a:pt x="64183" y="26231"/>
                  </a:lnTo>
                  <a:lnTo>
                    <a:pt x="75903" y="34045"/>
                  </a:lnTo>
                  <a:lnTo>
                    <a:pt x="99343" y="46323"/>
                  </a:lnTo>
                  <a:lnTo>
                    <a:pt x="117761" y="51346"/>
                  </a:lnTo>
                  <a:lnTo>
                    <a:pt x="135062" y="55253"/>
                  </a:lnTo>
                  <a:lnTo>
                    <a:pt x="154038" y="64182"/>
                  </a:lnTo>
                  <a:lnTo>
                    <a:pt x="170781" y="73112"/>
                  </a:lnTo>
                  <a:lnTo>
                    <a:pt x="185291" y="78135"/>
                  </a:lnTo>
                  <a:lnTo>
                    <a:pt x="197570" y="82042"/>
                  </a:lnTo>
                  <a:lnTo>
                    <a:pt x="206500" y="86507"/>
                  </a:lnTo>
                  <a:lnTo>
                    <a:pt x="215429" y="90971"/>
                  </a:lnTo>
                  <a:lnTo>
                    <a:pt x="229940" y="96552"/>
                  </a:lnTo>
                  <a:lnTo>
                    <a:pt x="237195" y="98785"/>
                  </a:lnTo>
                  <a:lnTo>
                    <a:pt x="242218" y="9990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5" name="f08779fb-f7de-4a59-ae92-602a476bd4d1"/>
            <p:cNvSpPr/>
            <p:nvPr/>
          </p:nvSpPr>
          <p:spPr>
            <a:xfrm>
              <a:off x="7161480" y="5664600"/>
              <a:ext cx="669600" cy="437400"/>
            </a:xfrm>
            <a:custGeom>
              <a:avLst/>
              <a:gdLst>
                <a:gd name="textAreaLeft" fmla="*/ 0 w 669600"/>
                <a:gd name="textAreaRight" fmla="*/ 669960 w 669600"/>
                <a:gd name="textAreaTop" fmla="*/ 0 h 437400"/>
                <a:gd name="textAreaBottom" fmla="*/ 437760 h 437400"/>
              </a:gdLst>
              <a:ahLst/>
              <a:rect l="textAreaLeft" t="textAreaTop" r="textAreaRight" b="textAreaBottom"/>
              <a:pathLst>
                <a:path w="669726" h="437554">
                  <a:moveTo>
                    <a:pt x="17859" y="178593"/>
                  </a:moveTo>
                  <a:lnTo>
                    <a:pt x="14510" y="176361"/>
                  </a:lnTo>
                  <a:lnTo>
                    <a:pt x="11720" y="176361"/>
                  </a:lnTo>
                  <a:lnTo>
                    <a:pt x="8929" y="178593"/>
                  </a:lnTo>
                  <a:lnTo>
                    <a:pt x="3348" y="190314"/>
                  </a:lnTo>
                  <a:lnTo>
                    <a:pt x="1116" y="200359"/>
                  </a:lnTo>
                  <a:lnTo>
                    <a:pt x="0" y="214312"/>
                  </a:lnTo>
                  <a:lnTo>
                    <a:pt x="1116" y="235520"/>
                  </a:lnTo>
                  <a:lnTo>
                    <a:pt x="3906" y="262867"/>
                  </a:lnTo>
                  <a:lnTo>
                    <a:pt x="7255" y="290214"/>
                  </a:lnTo>
                  <a:lnTo>
                    <a:pt x="8929" y="312539"/>
                  </a:lnTo>
                  <a:lnTo>
                    <a:pt x="9487" y="327607"/>
                  </a:lnTo>
                  <a:lnTo>
                    <a:pt x="8929" y="338211"/>
                  </a:lnTo>
                  <a:lnTo>
                    <a:pt x="8929" y="357187"/>
                  </a:lnTo>
                  <a:lnTo>
                    <a:pt x="12836" y="381186"/>
                  </a:lnTo>
                  <a:lnTo>
                    <a:pt x="15626" y="392906"/>
                  </a:lnTo>
                  <a:lnTo>
                    <a:pt x="17859" y="401836"/>
                  </a:lnTo>
                  <a:lnTo>
                    <a:pt x="21766" y="413556"/>
                  </a:lnTo>
                  <a:lnTo>
                    <a:pt x="26789" y="419695"/>
                  </a:lnTo>
                  <a:lnTo>
                    <a:pt x="35718" y="422485"/>
                  </a:lnTo>
                  <a:lnTo>
                    <a:pt x="44648" y="419695"/>
                  </a:lnTo>
                  <a:lnTo>
                    <a:pt x="49113" y="412440"/>
                  </a:lnTo>
                  <a:lnTo>
                    <a:pt x="53578" y="401836"/>
                  </a:lnTo>
                  <a:lnTo>
                    <a:pt x="61949" y="390673"/>
                  </a:lnTo>
                  <a:lnTo>
                    <a:pt x="71437" y="375046"/>
                  </a:lnTo>
                  <a:lnTo>
                    <a:pt x="75902" y="363326"/>
                  </a:lnTo>
                  <a:lnTo>
                    <a:pt x="80367" y="348815"/>
                  </a:lnTo>
                  <a:lnTo>
                    <a:pt x="84832" y="334305"/>
                  </a:lnTo>
                  <a:lnTo>
                    <a:pt x="89296" y="321468"/>
                  </a:lnTo>
                  <a:lnTo>
                    <a:pt x="98226" y="303051"/>
                  </a:lnTo>
                  <a:lnTo>
                    <a:pt x="107156" y="285750"/>
                  </a:lnTo>
                  <a:lnTo>
                    <a:pt x="117202" y="266774"/>
                  </a:lnTo>
                  <a:lnTo>
                    <a:pt x="125015" y="250031"/>
                  </a:lnTo>
                  <a:lnTo>
                    <a:pt x="126131" y="243892"/>
                  </a:lnTo>
                  <a:lnTo>
                    <a:pt x="125015" y="238869"/>
                  </a:lnTo>
                  <a:lnTo>
                    <a:pt x="125015" y="232171"/>
                  </a:lnTo>
                  <a:lnTo>
                    <a:pt x="133387" y="230497"/>
                  </a:lnTo>
                  <a:lnTo>
                    <a:pt x="142875" y="232171"/>
                  </a:lnTo>
                  <a:lnTo>
                    <a:pt x="151804" y="233846"/>
                  </a:lnTo>
                  <a:lnTo>
                    <a:pt x="156269" y="236078"/>
                  </a:lnTo>
                  <a:lnTo>
                    <a:pt x="160734" y="241101"/>
                  </a:lnTo>
                  <a:lnTo>
                    <a:pt x="165199" y="250031"/>
                  </a:lnTo>
                  <a:lnTo>
                    <a:pt x="169664" y="261193"/>
                  </a:lnTo>
                  <a:lnTo>
                    <a:pt x="178593" y="285750"/>
                  </a:lnTo>
                  <a:lnTo>
                    <a:pt x="188081" y="308632"/>
                  </a:lnTo>
                  <a:lnTo>
                    <a:pt x="196453" y="330398"/>
                  </a:lnTo>
                  <a:lnTo>
                    <a:pt x="205382" y="366117"/>
                  </a:lnTo>
                  <a:lnTo>
                    <a:pt x="205940" y="375605"/>
                  </a:lnTo>
                  <a:lnTo>
                    <a:pt x="205382" y="385650"/>
                  </a:lnTo>
                  <a:lnTo>
                    <a:pt x="205382" y="392906"/>
                  </a:lnTo>
                  <a:lnTo>
                    <a:pt x="207057" y="383976"/>
                  </a:lnTo>
                  <a:lnTo>
                    <a:pt x="209847" y="367791"/>
                  </a:lnTo>
                  <a:lnTo>
                    <a:pt x="212638" y="348815"/>
                  </a:lnTo>
                  <a:lnTo>
                    <a:pt x="214312" y="330398"/>
                  </a:lnTo>
                  <a:lnTo>
                    <a:pt x="214870" y="311981"/>
                  </a:lnTo>
                  <a:lnTo>
                    <a:pt x="214312" y="291889"/>
                  </a:lnTo>
                  <a:lnTo>
                    <a:pt x="214312" y="273471"/>
                  </a:lnTo>
                  <a:lnTo>
                    <a:pt x="214312" y="258961"/>
                  </a:lnTo>
                  <a:lnTo>
                    <a:pt x="215986" y="251147"/>
                  </a:lnTo>
                  <a:lnTo>
                    <a:pt x="217661" y="246682"/>
                  </a:lnTo>
                  <a:lnTo>
                    <a:pt x="223242" y="241101"/>
                  </a:lnTo>
                  <a:lnTo>
                    <a:pt x="231613" y="229939"/>
                  </a:lnTo>
                  <a:lnTo>
                    <a:pt x="236636" y="225474"/>
                  </a:lnTo>
                  <a:lnTo>
                    <a:pt x="241101" y="223242"/>
                  </a:lnTo>
                  <a:lnTo>
                    <a:pt x="250031" y="227707"/>
                  </a:lnTo>
                  <a:lnTo>
                    <a:pt x="258960" y="241101"/>
                  </a:lnTo>
                  <a:lnTo>
                    <a:pt x="263425" y="252263"/>
                  </a:lnTo>
                  <a:lnTo>
                    <a:pt x="267890" y="266216"/>
                  </a:lnTo>
                  <a:lnTo>
                    <a:pt x="276820" y="294679"/>
                  </a:lnTo>
                  <a:lnTo>
                    <a:pt x="294679" y="339328"/>
                  </a:lnTo>
                  <a:lnTo>
                    <a:pt x="303051" y="358303"/>
                  </a:lnTo>
                  <a:lnTo>
                    <a:pt x="312539" y="375046"/>
                  </a:lnTo>
                  <a:lnTo>
                    <a:pt x="327049" y="389557"/>
                  </a:lnTo>
                  <a:lnTo>
                    <a:pt x="339328" y="401836"/>
                  </a:lnTo>
                  <a:lnTo>
                    <a:pt x="344351" y="413556"/>
                  </a:lnTo>
                  <a:lnTo>
                    <a:pt x="348257" y="419695"/>
                  </a:lnTo>
                  <a:lnTo>
                    <a:pt x="356071" y="416904"/>
                  </a:lnTo>
                  <a:lnTo>
                    <a:pt x="366117" y="410765"/>
                  </a:lnTo>
                  <a:lnTo>
                    <a:pt x="377837" y="409091"/>
                  </a:lnTo>
                  <a:lnTo>
                    <a:pt x="385092" y="407417"/>
                  </a:lnTo>
                  <a:lnTo>
                    <a:pt x="392906" y="401836"/>
                  </a:lnTo>
                  <a:lnTo>
                    <a:pt x="404068" y="391790"/>
                  </a:lnTo>
                  <a:lnTo>
                    <a:pt x="416346" y="377837"/>
                  </a:lnTo>
                  <a:lnTo>
                    <a:pt x="428625" y="362768"/>
                  </a:lnTo>
                  <a:lnTo>
                    <a:pt x="437554" y="348257"/>
                  </a:lnTo>
                  <a:lnTo>
                    <a:pt x="442577" y="335421"/>
                  </a:lnTo>
                  <a:lnTo>
                    <a:pt x="444251" y="322585"/>
                  </a:lnTo>
                  <a:lnTo>
                    <a:pt x="446484" y="294679"/>
                  </a:lnTo>
                  <a:lnTo>
                    <a:pt x="452065" y="260077"/>
                  </a:lnTo>
                  <a:lnTo>
                    <a:pt x="455414" y="223242"/>
                  </a:lnTo>
                  <a:lnTo>
                    <a:pt x="452065" y="187523"/>
                  </a:lnTo>
                  <a:lnTo>
                    <a:pt x="446484" y="151804"/>
                  </a:lnTo>
                  <a:lnTo>
                    <a:pt x="441461" y="115527"/>
                  </a:lnTo>
                  <a:lnTo>
                    <a:pt x="437554" y="80367"/>
                  </a:lnTo>
                  <a:lnTo>
                    <a:pt x="436996" y="50787"/>
                  </a:lnTo>
                  <a:lnTo>
                    <a:pt x="437554" y="26789"/>
                  </a:lnTo>
                  <a:lnTo>
                    <a:pt x="440903" y="6697"/>
                  </a:lnTo>
                  <a:lnTo>
                    <a:pt x="443693" y="558"/>
                  </a:lnTo>
                  <a:lnTo>
                    <a:pt x="446484" y="0"/>
                  </a:lnTo>
                  <a:lnTo>
                    <a:pt x="450391" y="7255"/>
                  </a:lnTo>
                  <a:lnTo>
                    <a:pt x="455414" y="20649"/>
                  </a:lnTo>
                  <a:lnTo>
                    <a:pt x="464343" y="53578"/>
                  </a:lnTo>
                  <a:lnTo>
                    <a:pt x="469366" y="87622"/>
                  </a:lnTo>
                  <a:lnTo>
                    <a:pt x="473273" y="125015"/>
                  </a:lnTo>
                  <a:lnTo>
                    <a:pt x="477180" y="164641"/>
                  </a:lnTo>
                  <a:lnTo>
                    <a:pt x="482203" y="205382"/>
                  </a:lnTo>
                  <a:lnTo>
                    <a:pt x="490574" y="246124"/>
                  </a:lnTo>
                  <a:lnTo>
                    <a:pt x="500062" y="285750"/>
                  </a:lnTo>
                  <a:lnTo>
                    <a:pt x="508434" y="324259"/>
                  </a:lnTo>
                  <a:lnTo>
                    <a:pt x="517921" y="357187"/>
                  </a:lnTo>
                  <a:lnTo>
                    <a:pt x="531316" y="382860"/>
                  </a:lnTo>
                  <a:lnTo>
                    <a:pt x="544710" y="401836"/>
                  </a:lnTo>
                  <a:lnTo>
                    <a:pt x="554756" y="412998"/>
                  </a:lnTo>
                  <a:lnTo>
                    <a:pt x="562570" y="419695"/>
                  </a:lnTo>
                  <a:lnTo>
                    <a:pt x="570383" y="424718"/>
                  </a:lnTo>
                  <a:lnTo>
                    <a:pt x="580429" y="428625"/>
                  </a:lnTo>
                  <a:lnTo>
                    <a:pt x="597730" y="434206"/>
                  </a:lnTo>
                  <a:lnTo>
                    <a:pt x="616148" y="437554"/>
                  </a:lnTo>
                  <a:lnTo>
                    <a:pt x="630101" y="434764"/>
                  </a:lnTo>
                  <a:lnTo>
                    <a:pt x="642937" y="428625"/>
                  </a:lnTo>
                  <a:lnTo>
                    <a:pt x="658006" y="419137"/>
                  </a:lnTo>
                  <a:lnTo>
                    <a:pt x="669726" y="41076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6" name="d0bd046e-5b71-448d-8162-02c515897db6"/>
            <p:cNvSpPr/>
            <p:nvPr/>
          </p:nvSpPr>
          <p:spPr>
            <a:xfrm>
              <a:off x="7536600" y="5798520"/>
              <a:ext cx="232200" cy="36000"/>
            </a:xfrm>
            <a:custGeom>
              <a:avLst/>
              <a:gdLst>
                <a:gd name="textAreaLeft" fmla="*/ 0 w 232200"/>
                <a:gd name="textAreaRight" fmla="*/ 232560 w 232200"/>
                <a:gd name="textAreaTop" fmla="*/ 0 h 36000"/>
                <a:gd name="textAreaBottom" fmla="*/ 36360 h 36000"/>
              </a:gdLst>
              <a:ahLst/>
              <a:rect l="textAreaLeft" t="textAreaTop" r="textAreaRight" b="textAreaBottom"/>
              <a:pathLst>
                <a:path w="232172" h="36277">
                  <a:moveTo>
                    <a:pt x="0" y="35719"/>
                  </a:moveTo>
                  <a:lnTo>
                    <a:pt x="2233" y="36277"/>
                  </a:lnTo>
                  <a:lnTo>
                    <a:pt x="8930" y="35719"/>
                  </a:lnTo>
                  <a:lnTo>
                    <a:pt x="22883" y="32370"/>
                  </a:lnTo>
                  <a:lnTo>
                    <a:pt x="32370" y="30138"/>
                  </a:lnTo>
                  <a:lnTo>
                    <a:pt x="44649" y="26789"/>
                  </a:lnTo>
                  <a:lnTo>
                    <a:pt x="62508" y="22882"/>
                  </a:lnTo>
                  <a:lnTo>
                    <a:pt x="84274" y="17859"/>
                  </a:lnTo>
                  <a:lnTo>
                    <a:pt x="106599" y="12836"/>
                  </a:lnTo>
                  <a:lnTo>
                    <a:pt x="125016" y="8930"/>
                  </a:lnTo>
                  <a:lnTo>
                    <a:pt x="138969" y="6139"/>
                  </a:lnTo>
                  <a:lnTo>
                    <a:pt x="150131" y="3349"/>
                  </a:lnTo>
                  <a:lnTo>
                    <a:pt x="169664" y="0"/>
                  </a:lnTo>
                  <a:lnTo>
                    <a:pt x="205383" y="0"/>
                  </a:lnTo>
                  <a:lnTo>
                    <a:pt x="221010" y="0"/>
                  </a:lnTo>
                  <a:lnTo>
                    <a:pt x="232172" y="0"/>
                  </a:lnTo>
                </a:path>
              </a:pathLst>
            </a:custGeom>
            <a:noFill/>
            <a:ln w="17640">
              <a:solidFill>
                <a:srgbClr val="0000ff"/>
              </a:solidFill>
              <a:round/>
            </a:ln>
          </p:spPr>
          <p:style>
            <a:lnRef idx="0"/>
            <a:fillRef idx="0"/>
            <a:effectRef idx="0"/>
            <a:fontRef idx="minor"/>
          </p:style>
          <p:txBody>
            <a:bodyPr lIns="90000" rIns="90000" tIns="-10440" bIns="-10440" anchor="ctr" anchorCtr="1">
              <a:noAutofit/>
            </a:bodyPr>
            <a:p>
              <a:endParaRPr b="0" lang="en-US" sz="1800" spc="-1" strike="noStrike">
                <a:solidFill>
                  <a:srgbClr val="000000"/>
                </a:solidFill>
                <a:latin typeface="Arial"/>
              </a:endParaRPr>
            </a:p>
          </p:txBody>
        </p:sp>
        <p:sp>
          <p:nvSpPr>
            <p:cNvPr id="207" name="7311127c-309a-43fa-ab91-9542abe72d73"/>
            <p:cNvSpPr/>
            <p:nvPr/>
          </p:nvSpPr>
          <p:spPr>
            <a:xfrm>
              <a:off x="8036640" y="609336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4465" y="4464"/>
                  </a:lnTo>
                  <a:lnTo>
                    <a:pt x="8930" y="8929"/>
                  </a:lnTo>
                </a:path>
              </a:pathLst>
            </a:custGeom>
            <a:noFill/>
            <a:ln w="17640">
              <a:solidFill>
                <a:srgbClr val="0000ff"/>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208" name="1ae4c265-4d59-4fc4-883a-43a062e91a2c"/>
            <p:cNvSpPr/>
            <p:nvPr/>
          </p:nvSpPr>
          <p:spPr>
            <a:xfrm>
              <a:off x="8188560" y="5833080"/>
              <a:ext cx="464400" cy="252000"/>
            </a:xfrm>
            <a:custGeom>
              <a:avLst/>
              <a:gdLst>
                <a:gd name="textAreaLeft" fmla="*/ 0 w 464400"/>
                <a:gd name="textAreaRight" fmla="*/ 464760 w 464400"/>
                <a:gd name="textAreaTop" fmla="*/ 0 h 252000"/>
                <a:gd name="textAreaBottom" fmla="*/ 252360 h 252000"/>
              </a:gdLst>
              <a:ahLst/>
              <a:rect l="textAreaLeft" t="textAreaTop" r="textAreaRight" b="textAreaBottom"/>
              <a:pathLst>
                <a:path w="464343" h="252264">
                  <a:moveTo>
                    <a:pt x="17859" y="143992"/>
                  </a:moveTo>
                  <a:lnTo>
                    <a:pt x="19533" y="150131"/>
                  </a:lnTo>
                  <a:lnTo>
                    <a:pt x="21208" y="158502"/>
                  </a:lnTo>
                  <a:lnTo>
                    <a:pt x="23998" y="166874"/>
                  </a:lnTo>
                  <a:lnTo>
                    <a:pt x="26789" y="170781"/>
                  </a:lnTo>
                  <a:lnTo>
                    <a:pt x="30695" y="169664"/>
                  </a:lnTo>
                  <a:lnTo>
                    <a:pt x="35718" y="164642"/>
                  </a:lnTo>
                  <a:lnTo>
                    <a:pt x="44648" y="152921"/>
                  </a:lnTo>
                  <a:lnTo>
                    <a:pt x="50229" y="146782"/>
                  </a:lnTo>
                  <a:lnTo>
                    <a:pt x="52461" y="142317"/>
                  </a:lnTo>
                  <a:lnTo>
                    <a:pt x="53578" y="135062"/>
                  </a:lnTo>
                  <a:lnTo>
                    <a:pt x="54694" y="123900"/>
                  </a:lnTo>
                  <a:lnTo>
                    <a:pt x="54694" y="109389"/>
                  </a:lnTo>
                  <a:lnTo>
                    <a:pt x="54694" y="94320"/>
                  </a:lnTo>
                  <a:lnTo>
                    <a:pt x="53578" y="81484"/>
                  </a:lnTo>
                  <a:lnTo>
                    <a:pt x="50229" y="61950"/>
                  </a:lnTo>
                  <a:lnTo>
                    <a:pt x="44648" y="45765"/>
                  </a:lnTo>
                  <a:lnTo>
                    <a:pt x="35718" y="31812"/>
                  </a:lnTo>
                  <a:lnTo>
                    <a:pt x="26789" y="18976"/>
                  </a:lnTo>
                  <a:lnTo>
                    <a:pt x="22324" y="8372"/>
                  </a:lnTo>
                  <a:lnTo>
                    <a:pt x="17859" y="1117"/>
                  </a:lnTo>
                  <a:lnTo>
                    <a:pt x="12836" y="0"/>
                  </a:lnTo>
                  <a:lnTo>
                    <a:pt x="6697" y="0"/>
                  </a:lnTo>
                  <a:lnTo>
                    <a:pt x="1674" y="559"/>
                  </a:lnTo>
                  <a:lnTo>
                    <a:pt x="0" y="1117"/>
                  </a:lnTo>
                  <a:lnTo>
                    <a:pt x="2790" y="1117"/>
                  </a:lnTo>
                  <a:lnTo>
                    <a:pt x="8929" y="559"/>
                  </a:lnTo>
                  <a:lnTo>
                    <a:pt x="26789" y="1117"/>
                  </a:lnTo>
                  <a:lnTo>
                    <a:pt x="38509" y="2791"/>
                  </a:lnTo>
                  <a:lnTo>
                    <a:pt x="53020" y="5581"/>
                  </a:lnTo>
                  <a:lnTo>
                    <a:pt x="67530" y="8372"/>
                  </a:lnTo>
                  <a:lnTo>
                    <a:pt x="80367" y="10046"/>
                  </a:lnTo>
                  <a:lnTo>
                    <a:pt x="99900" y="10604"/>
                  </a:lnTo>
                  <a:lnTo>
                    <a:pt x="116086" y="10046"/>
                  </a:lnTo>
                  <a:lnTo>
                    <a:pt x="130596" y="10604"/>
                  </a:lnTo>
                  <a:lnTo>
                    <a:pt x="142875" y="10046"/>
                  </a:lnTo>
                  <a:lnTo>
                    <a:pt x="148456" y="7814"/>
                  </a:lnTo>
                  <a:lnTo>
                    <a:pt x="153479" y="3907"/>
                  </a:lnTo>
                  <a:lnTo>
                    <a:pt x="157943" y="1117"/>
                  </a:lnTo>
                  <a:lnTo>
                    <a:pt x="160734" y="1117"/>
                  </a:lnTo>
                  <a:lnTo>
                    <a:pt x="163524" y="10604"/>
                  </a:lnTo>
                  <a:lnTo>
                    <a:pt x="160734" y="27906"/>
                  </a:lnTo>
                  <a:lnTo>
                    <a:pt x="156827" y="39626"/>
                  </a:lnTo>
                  <a:lnTo>
                    <a:pt x="151246" y="53020"/>
                  </a:lnTo>
                  <a:lnTo>
                    <a:pt x="146223" y="67531"/>
                  </a:lnTo>
                  <a:lnTo>
                    <a:pt x="142875" y="81484"/>
                  </a:lnTo>
                  <a:lnTo>
                    <a:pt x="145665" y="108831"/>
                  </a:lnTo>
                  <a:lnTo>
                    <a:pt x="151804" y="135062"/>
                  </a:lnTo>
                  <a:lnTo>
                    <a:pt x="155711" y="158502"/>
                  </a:lnTo>
                  <a:lnTo>
                    <a:pt x="160734" y="179710"/>
                  </a:lnTo>
                  <a:lnTo>
                    <a:pt x="178593" y="215429"/>
                  </a:lnTo>
                  <a:lnTo>
                    <a:pt x="191430" y="230498"/>
                  </a:lnTo>
                  <a:lnTo>
                    <a:pt x="205382" y="242218"/>
                  </a:lnTo>
                  <a:lnTo>
                    <a:pt x="218219" y="248357"/>
                  </a:lnTo>
                  <a:lnTo>
                    <a:pt x="232171" y="251148"/>
                  </a:lnTo>
                  <a:lnTo>
                    <a:pt x="249473" y="252264"/>
                  </a:lnTo>
                  <a:lnTo>
                    <a:pt x="267890" y="251148"/>
                  </a:lnTo>
                  <a:lnTo>
                    <a:pt x="286866" y="249474"/>
                  </a:lnTo>
                  <a:lnTo>
                    <a:pt x="303609" y="242218"/>
                  </a:lnTo>
                  <a:lnTo>
                    <a:pt x="313655" y="226033"/>
                  </a:lnTo>
                  <a:lnTo>
                    <a:pt x="321468" y="206499"/>
                  </a:lnTo>
                  <a:lnTo>
                    <a:pt x="330956" y="189756"/>
                  </a:lnTo>
                  <a:lnTo>
                    <a:pt x="339328" y="170781"/>
                  </a:lnTo>
                  <a:lnTo>
                    <a:pt x="346025" y="145108"/>
                  </a:lnTo>
                  <a:lnTo>
                    <a:pt x="348257" y="117203"/>
                  </a:lnTo>
                  <a:lnTo>
                    <a:pt x="346025" y="104924"/>
                  </a:lnTo>
                  <a:lnTo>
                    <a:pt x="341002" y="93204"/>
                  </a:lnTo>
                  <a:lnTo>
                    <a:pt x="330398" y="72554"/>
                  </a:lnTo>
                  <a:lnTo>
                    <a:pt x="321468" y="56369"/>
                  </a:lnTo>
                  <a:lnTo>
                    <a:pt x="312539" y="45765"/>
                  </a:lnTo>
                  <a:lnTo>
                    <a:pt x="303609" y="43533"/>
                  </a:lnTo>
                  <a:lnTo>
                    <a:pt x="294679" y="45765"/>
                  </a:lnTo>
                  <a:lnTo>
                    <a:pt x="285191" y="48556"/>
                  </a:lnTo>
                  <a:lnTo>
                    <a:pt x="276820" y="54695"/>
                  </a:lnTo>
                  <a:lnTo>
                    <a:pt x="271239" y="64183"/>
                  </a:lnTo>
                  <a:lnTo>
                    <a:pt x="269565" y="71438"/>
                  </a:lnTo>
                  <a:lnTo>
                    <a:pt x="267890" y="81484"/>
                  </a:lnTo>
                  <a:lnTo>
                    <a:pt x="266774" y="97111"/>
                  </a:lnTo>
                  <a:lnTo>
                    <a:pt x="266216" y="116644"/>
                  </a:lnTo>
                  <a:lnTo>
                    <a:pt x="266774" y="136178"/>
                  </a:lnTo>
                  <a:lnTo>
                    <a:pt x="267890" y="152921"/>
                  </a:lnTo>
                  <a:lnTo>
                    <a:pt x="275146" y="178036"/>
                  </a:lnTo>
                  <a:lnTo>
                    <a:pt x="285750" y="197570"/>
                  </a:lnTo>
                  <a:lnTo>
                    <a:pt x="298586" y="212639"/>
                  </a:lnTo>
                  <a:lnTo>
                    <a:pt x="312539" y="224359"/>
                  </a:lnTo>
                  <a:lnTo>
                    <a:pt x="325933" y="234963"/>
                  </a:lnTo>
                  <a:lnTo>
                    <a:pt x="339328" y="242218"/>
                  </a:lnTo>
                  <a:lnTo>
                    <a:pt x="352164" y="243334"/>
                  </a:lnTo>
                  <a:lnTo>
                    <a:pt x="366117" y="242218"/>
                  </a:lnTo>
                  <a:lnTo>
                    <a:pt x="383418" y="243893"/>
                  </a:lnTo>
                  <a:lnTo>
                    <a:pt x="401836" y="242218"/>
                  </a:lnTo>
                  <a:lnTo>
                    <a:pt x="420811" y="231614"/>
                  </a:lnTo>
                  <a:lnTo>
                    <a:pt x="437554" y="215429"/>
                  </a:lnTo>
                  <a:lnTo>
                    <a:pt x="445368" y="204825"/>
                  </a:lnTo>
                  <a:lnTo>
                    <a:pt x="453181" y="191431"/>
                  </a:lnTo>
                  <a:lnTo>
                    <a:pt x="459878" y="179152"/>
                  </a:lnTo>
                  <a:lnTo>
                    <a:pt x="464343" y="17078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9" name="6f78bbd0-befc-48e6-bb79-ccfe8806c976"/>
            <p:cNvSpPr/>
            <p:nvPr/>
          </p:nvSpPr>
          <p:spPr>
            <a:xfrm>
              <a:off x="8607600" y="5718240"/>
              <a:ext cx="152280" cy="428400"/>
            </a:xfrm>
            <a:custGeom>
              <a:avLst/>
              <a:gdLst>
                <a:gd name="textAreaLeft" fmla="*/ 0 w 152280"/>
                <a:gd name="textAreaRight" fmla="*/ 152640 w 152280"/>
                <a:gd name="textAreaTop" fmla="*/ 0 h 428400"/>
                <a:gd name="textAreaBottom" fmla="*/ 428760 h 428400"/>
              </a:gdLst>
              <a:ahLst/>
              <a:rect l="textAreaLeft" t="textAreaTop" r="textAreaRight" b="textAreaBottom"/>
              <a:pathLst>
                <a:path w="152363" h="428625">
                  <a:moveTo>
                    <a:pt x="558" y="0"/>
                  </a:moveTo>
                  <a:lnTo>
                    <a:pt x="0" y="2790"/>
                  </a:lnTo>
                  <a:lnTo>
                    <a:pt x="558" y="8929"/>
                  </a:lnTo>
                  <a:lnTo>
                    <a:pt x="3348" y="18975"/>
                  </a:lnTo>
                  <a:lnTo>
                    <a:pt x="9488" y="35718"/>
                  </a:lnTo>
                  <a:lnTo>
                    <a:pt x="15069" y="48555"/>
                  </a:lnTo>
                  <a:lnTo>
                    <a:pt x="22324" y="64182"/>
                  </a:lnTo>
                  <a:lnTo>
                    <a:pt x="36277" y="98226"/>
                  </a:lnTo>
                  <a:lnTo>
                    <a:pt x="45206" y="132829"/>
                  </a:lnTo>
                  <a:lnTo>
                    <a:pt x="54136" y="169664"/>
                  </a:lnTo>
                  <a:lnTo>
                    <a:pt x="66972" y="209847"/>
                  </a:lnTo>
                  <a:lnTo>
                    <a:pt x="80925" y="250031"/>
                  </a:lnTo>
                  <a:lnTo>
                    <a:pt x="94878" y="286866"/>
                  </a:lnTo>
                  <a:lnTo>
                    <a:pt x="107714" y="321468"/>
                  </a:lnTo>
                  <a:lnTo>
                    <a:pt x="116644" y="354397"/>
                  </a:lnTo>
                  <a:lnTo>
                    <a:pt x="125574" y="383976"/>
                  </a:lnTo>
                  <a:lnTo>
                    <a:pt x="132829" y="398487"/>
                  </a:lnTo>
                  <a:lnTo>
                    <a:pt x="141759" y="413556"/>
                  </a:lnTo>
                  <a:lnTo>
                    <a:pt x="149014" y="424718"/>
                  </a:lnTo>
                  <a:lnTo>
                    <a:pt x="152363" y="428625"/>
                  </a:lnTo>
                  <a:lnTo>
                    <a:pt x="151804" y="423044"/>
                  </a:lnTo>
                  <a:lnTo>
                    <a:pt x="147340" y="409649"/>
                  </a:lnTo>
                  <a:lnTo>
                    <a:pt x="141200" y="392348"/>
                  </a:lnTo>
                  <a:lnTo>
                    <a:pt x="134503" y="375047"/>
                  </a:lnTo>
                  <a:lnTo>
                    <a:pt x="126132" y="356629"/>
                  </a:lnTo>
                  <a:lnTo>
                    <a:pt x="115528" y="335979"/>
                  </a:lnTo>
                  <a:lnTo>
                    <a:pt x="105482" y="317004"/>
                  </a:lnTo>
                  <a:lnTo>
                    <a:pt x="98784" y="30360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10" name="52a18c01-b2e8-4959-acbf-78f4e09bfa2a"/>
            <p:cNvSpPr/>
            <p:nvPr/>
          </p:nvSpPr>
          <p:spPr>
            <a:xfrm>
              <a:off x="8626320" y="5851440"/>
              <a:ext cx="160560" cy="18720"/>
            </a:xfrm>
            <a:custGeom>
              <a:avLst/>
              <a:gdLst>
                <a:gd name="textAreaLeft" fmla="*/ 0 w 160560"/>
                <a:gd name="textAreaRight" fmla="*/ 160920 w 160560"/>
                <a:gd name="textAreaTop" fmla="*/ 0 h 18720"/>
                <a:gd name="textAreaBottom" fmla="*/ 19080 h 18720"/>
              </a:gdLst>
              <a:ahLst/>
              <a:rect l="textAreaLeft" t="textAreaTop" r="textAreaRight" b="textAreaBottom"/>
              <a:pathLst>
                <a:path w="160735" h="18975">
                  <a:moveTo>
                    <a:pt x="0" y="18417"/>
                  </a:moveTo>
                  <a:lnTo>
                    <a:pt x="3349" y="18975"/>
                  </a:lnTo>
                  <a:lnTo>
                    <a:pt x="8930" y="18417"/>
                  </a:lnTo>
                  <a:lnTo>
                    <a:pt x="17302" y="13953"/>
                  </a:lnTo>
                  <a:lnTo>
                    <a:pt x="26789" y="9488"/>
                  </a:lnTo>
                  <a:lnTo>
                    <a:pt x="34045" y="9488"/>
                  </a:lnTo>
                  <a:lnTo>
                    <a:pt x="44649" y="9488"/>
                  </a:lnTo>
                  <a:lnTo>
                    <a:pt x="54136" y="7813"/>
                  </a:lnTo>
                  <a:lnTo>
                    <a:pt x="65857" y="5023"/>
                  </a:lnTo>
                  <a:lnTo>
                    <a:pt x="89297" y="558"/>
                  </a:lnTo>
                  <a:lnTo>
                    <a:pt x="107715" y="0"/>
                  </a:lnTo>
                  <a:lnTo>
                    <a:pt x="125016" y="558"/>
                  </a:lnTo>
                  <a:lnTo>
                    <a:pt x="145666" y="558"/>
                  </a:lnTo>
                  <a:lnTo>
                    <a:pt x="154595" y="558"/>
                  </a:lnTo>
                  <a:lnTo>
                    <a:pt x="160735" y="558"/>
                  </a:lnTo>
                </a:path>
              </a:pathLst>
            </a:custGeom>
            <a:noFill/>
            <a:ln w="17640">
              <a:solidFill>
                <a:srgbClr val="0000ff"/>
              </a:solidFill>
              <a:round/>
            </a:ln>
          </p:spPr>
          <p:style>
            <a:lnRef idx="0"/>
            <a:fillRef idx="0"/>
            <a:effectRef idx="0"/>
            <a:fontRef idx="minor"/>
          </p:style>
          <p:txBody>
            <a:bodyPr lIns="90000" rIns="90000" tIns="-27720" bIns="-27720" anchor="ctr" anchorCtr="1">
              <a:noAutofit/>
            </a:bodyPr>
            <a:p>
              <a:endParaRPr b="0" lang="en-US" sz="1800" spc="-1" strike="noStrike">
                <a:solidFill>
                  <a:srgbClr val="000000"/>
                </a:solidFill>
                <a:latin typeface="Arial"/>
              </a:endParaRPr>
            </a:p>
          </p:txBody>
        </p:sp>
        <p:sp>
          <p:nvSpPr>
            <p:cNvPr id="211" name="05997912-6656-48c9-8a65-668273ee3902"/>
            <p:cNvSpPr/>
            <p:nvPr/>
          </p:nvSpPr>
          <p:spPr>
            <a:xfrm>
              <a:off x="9001440" y="6138000"/>
              <a:ext cx="8640" cy="360"/>
            </a:xfrm>
            <a:custGeom>
              <a:avLst/>
              <a:gdLst/>
              <a:ahLst/>
              <a:rect l="l" t="t" r="r" b="b"/>
              <a:pathLst>
                <a:path w="8930" h="0">
                  <a:moveTo>
                    <a:pt x="0" y="0"/>
                  </a:moveTo>
                  <a:lnTo>
                    <a:pt x="4465" y="0"/>
                  </a:lnTo>
                  <a:lnTo>
                    <a:pt x="8930" y="0"/>
                  </a:lnTo>
                </a:path>
              </a:pathLst>
            </a:custGeom>
            <a:noFill/>
            <a:ln w="17640">
              <a:solidFill>
                <a:srgbClr val="0000ff"/>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sp>
          <p:nvSpPr>
            <p:cNvPr id="212" name="a08cb1f5-6592-4f57-8bd5-390382390536"/>
            <p:cNvSpPr/>
            <p:nvPr/>
          </p:nvSpPr>
          <p:spPr>
            <a:xfrm>
              <a:off x="7241760" y="5771520"/>
              <a:ext cx="8640" cy="360"/>
            </a:xfrm>
            <a:custGeom>
              <a:avLst/>
              <a:gdLst/>
              <a:ahLst/>
              <a:rect l="l" t="t" r="r" b="b"/>
              <a:pathLst>
                <a:path w="8929" h="0">
                  <a:moveTo>
                    <a:pt x="8929" y="0"/>
                  </a:moveTo>
                  <a:lnTo>
                    <a:pt x="4465" y="0"/>
                  </a:lnTo>
                  <a:lnTo>
                    <a:pt x="0" y="0"/>
                  </a:lnTo>
                </a:path>
              </a:pathLst>
            </a:custGeom>
            <a:noFill/>
            <a:ln w="17640">
              <a:solidFill>
                <a:srgbClr val="0000ff"/>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216" name="Titolo 1"/>
          <p:cNvSpPr/>
          <p:nvPr/>
        </p:nvSpPr>
        <p:spPr>
          <a:xfrm>
            <a:off x="1042920" y="620640"/>
            <a:ext cx="6842160" cy="851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Calibri"/>
              </a:rPr>
              <a:t>La prima Catilinaria (63 .C.)</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1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2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2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2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7" name="Segnaposto contenuto 3"/>
          <p:cNvSpPr/>
          <p:nvPr/>
        </p:nvSpPr>
        <p:spPr>
          <a:xfrm>
            <a:off x="468360" y="1628640"/>
            <a:ext cx="403848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r>
              <a:rPr b="0" lang="it-IT" sz="2200" spc="-1" strike="noStrike">
                <a:solidFill>
                  <a:srgbClr val="464646"/>
                </a:solidFill>
                <a:latin typeface="Times New Roman"/>
                <a:ea typeface="Times New Roman"/>
              </a:rPr>
              <a:t>Quo usque tandem abutere, Catilina, patientia nostra? quam diu etiam </a:t>
            </a:r>
            <a:r>
              <a:rPr b="0" lang="it-IT" sz="2200" spc="-1" strike="noStrike">
                <a:solidFill>
                  <a:srgbClr val="00b0f0"/>
                </a:solidFill>
                <a:latin typeface="Times New Roman"/>
                <a:ea typeface="Times New Roman"/>
              </a:rPr>
              <a:t>furor</a:t>
            </a:r>
            <a:r>
              <a:rPr b="0" lang="it-IT" sz="2200" spc="-1" strike="noStrike">
                <a:solidFill>
                  <a:srgbClr val="464646"/>
                </a:solidFill>
                <a:latin typeface="Times New Roman"/>
                <a:ea typeface="Times New Roman"/>
              </a:rPr>
              <a:t> iste tuus nos eludet? quem ad finem sese </a:t>
            </a:r>
            <a:r>
              <a:rPr b="0" lang="it-IT" sz="2200" spc="-1" strike="noStrike">
                <a:solidFill>
                  <a:srgbClr val="00b0f0"/>
                </a:solidFill>
                <a:latin typeface="Times New Roman"/>
                <a:ea typeface="Times New Roman"/>
              </a:rPr>
              <a:t>effrenata</a:t>
            </a:r>
            <a:r>
              <a:rPr b="0" lang="it-IT" sz="2200" spc="-1" strike="noStrike">
                <a:solidFill>
                  <a:srgbClr val="464646"/>
                </a:solidFill>
                <a:latin typeface="Times New Roman"/>
                <a:ea typeface="Times New Roman"/>
              </a:rPr>
              <a:t> iactabit </a:t>
            </a:r>
            <a:r>
              <a:rPr b="0" lang="it-IT" sz="2200" spc="-1" strike="noStrike">
                <a:solidFill>
                  <a:srgbClr val="00b0f0"/>
                </a:solidFill>
                <a:latin typeface="Times New Roman"/>
                <a:ea typeface="Times New Roman"/>
              </a:rPr>
              <a:t>audacia</a:t>
            </a:r>
            <a:r>
              <a:rPr b="0" lang="it-IT" sz="2200" spc="-1" strike="noStrike">
                <a:solidFill>
                  <a:srgbClr val="464646"/>
                </a:solidFill>
                <a:latin typeface="Times New Roman"/>
                <a:ea typeface="Times New Roman"/>
              </a:rPr>
              <a:t>?</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464646"/>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30d70"/>
                </a:solidFill>
                <a:latin typeface="Times New Roman"/>
                <a:ea typeface="Times New Roman"/>
              </a:rPr>
              <a:t>	</a:t>
            </a:r>
            <a:r>
              <a:rPr b="1" lang="it-IT" sz="2200" spc="-1" strike="noStrike">
                <a:solidFill>
                  <a:srgbClr val="f30d70"/>
                </a:solidFill>
                <a:latin typeface="Times New Roman"/>
                <a:ea typeface="Times New Roman"/>
              </a:rPr>
              <a:t>Nihilne</a:t>
            </a:r>
            <a:r>
              <a:rPr b="0" lang="it-IT" sz="2200" spc="-1" strike="noStrike">
                <a:solidFill>
                  <a:srgbClr val="464646"/>
                </a:solidFill>
                <a:latin typeface="Times New Roman"/>
                <a:ea typeface="Times New Roman"/>
              </a:rPr>
              <a:t> te </a:t>
            </a:r>
            <a:r>
              <a:rPr b="0" lang="it-IT" sz="2200" spc="-1" strike="noStrike" u="sng">
                <a:solidFill>
                  <a:srgbClr val="00b050"/>
                </a:solidFill>
                <a:uFillTx/>
                <a:latin typeface="Times New Roman"/>
                <a:ea typeface="Times New Roman"/>
              </a:rPr>
              <a:t>nocturnum praesidium Palati</a:t>
            </a:r>
            <a:r>
              <a:rPr b="1" lang="it-IT" sz="2200" spc="-1" strike="noStrike" u="sng">
                <a:solidFill>
                  <a:srgbClr val="464646"/>
                </a:solidFill>
                <a:uFillTx/>
                <a:latin typeface="Times New Roman"/>
                <a:ea typeface="Times New Roman"/>
              </a:rPr>
              <a:t>,</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urbis vigiliae</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timor populi,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concursus bonorum omnium, </a:t>
            </a:r>
            <a:r>
              <a:rPr b="1" lang="it-IT" sz="2200" spc="-1" strike="noStrike">
                <a:solidFill>
                  <a:srgbClr val="f30d70"/>
                </a:solidFill>
                <a:latin typeface="Times New Roman"/>
                <a:ea typeface="Times New Roman"/>
              </a:rPr>
              <a:t>nihil</a:t>
            </a:r>
            <a:r>
              <a:rPr b="0" lang="it-IT" sz="2200" spc="-1" strike="noStrike">
                <a:solidFill>
                  <a:srgbClr val="464646"/>
                </a:solidFill>
                <a:latin typeface="Times New Roman"/>
                <a:ea typeface="Times New Roman"/>
              </a:rPr>
              <a:t> hic munitissimus habendi senatus locus</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 </a:t>
            </a:r>
            <a:r>
              <a:rPr b="0" lang="it-IT" sz="2200" spc="-1" strike="noStrike">
                <a:solidFill>
                  <a:srgbClr val="464646"/>
                </a:solidFill>
                <a:latin typeface="Times New Roman"/>
                <a:ea typeface="Times New Roman"/>
              </a:rPr>
              <a:t>horum ora voltusque moverunt? </a:t>
            </a:r>
            <a:endParaRPr b="0" lang="en-US" sz="2200" spc="-1" strike="noStrike">
              <a:solidFill>
                <a:srgbClr val="000000"/>
              </a:solidFill>
              <a:latin typeface="Arial"/>
            </a:endParaRPr>
          </a:p>
        </p:txBody>
      </p:sp>
      <p:sp>
        <p:nvSpPr>
          <p:cNvPr id="238" name=""/>
          <p:cNvSpPr txBox="1"/>
          <p:nvPr/>
        </p:nvSpPr>
        <p:spPr>
          <a:xfrm>
            <a:off x="4716000" y="1700280"/>
            <a:ext cx="4038840" cy="4525920"/>
          </a:xfrm>
          <a:prstGeom prst="rect">
            <a:avLst/>
          </a:prstGeom>
          <a:noFill/>
          <a:ln w="0">
            <a:noFill/>
          </a:ln>
        </p:spPr>
        <p:txBody>
          <a:bodyPr anchor="t">
            <a:normAutofit/>
          </a:bodyPr>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b0f0"/>
                </a:solidFill>
                <a:latin typeface="Times New Roman"/>
                <a:ea typeface="Times New Roman"/>
              </a:rPr>
              <a:t>furor effrenata audacia. Perché questi termini?</a:t>
            </a:r>
            <a:endParaRPr b="0" lang="en-US" sz="2200" spc="-1" strike="noStrike">
              <a:solidFill>
                <a:srgbClr val="000000"/>
              </a:solidFill>
              <a:latin typeface="Calibri"/>
            </a:endParaRPr>
          </a:p>
          <a:p>
            <a:pPr marL="343080" indent="-343080">
              <a:lnSpc>
                <a:spcPts val="1925"/>
              </a:lnSpc>
              <a:spcBef>
                <a:spcPts val="201"/>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ts val="1925"/>
              </a:lnSpc>
              <a:spcBef>
                <a:spcPts val="201"/>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Times New Roman"/>
                <a:ea typeface="Times New Roman"/>
              </a:rPr>
              <a:t>Cicerone, venuto a conoscenza di un complotto per un attentato contro di lui, aveva chiesto che il Palatino dov’era la sua dimora, venisse presidiato</a:t>
            </a:r>
            <a:endParaRPr b="0" lang="en-US" sz="900" spc="-1" strike="noStrike">
              <a:solidFill>
                <a:srgbClr val="000000"/>
              </a:solidFill>
              <a:latin typeface="Calibri"/>
            </a:endParaRPr>
          </a:p>
          <a:p>
            <a:pPr marL="343080" indent="-343080">
              <a:lnSpc>
                <a:spcPts val="1925"/>
              </a:lnSpc>
              <a:spcBef>
                <a:spcPts val="201"/>
              </a:spcBef>
              <a:spcAft>
                <a:spcPts val="1712"/>
              </a:spcAft>
              <a:buClr>
                <a:srgbClr val="f30d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30d70"/>
                </a:solidFill>
                <a:latin typeface="Times New Roman"/>
                <a:ea typeface="Times New Roman"/>
              </a:rPr>
              <a:t>Nihil…nihil…=……………?</a:t>
            </a:r>
            <a:endParaRPr b="0" lang="en-US" sz="9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41"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42"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43"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44"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5"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6"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7"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8"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9"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0"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1"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2"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3"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4"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5"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6"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7"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8"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9" name="Segnaposto contenuto 2"/>
          <p:cNvSpPr/>
          <p:nvPr/>
        </p:nvSpPr>
        <p:spPr>
          <a:xfrm>
            <a:off x="457200" y="1600200"/>
            <a:ext cx="4038480" cy="4525920"/>
          </a:xfrm>
          <a:prstGeom prst="rect">
            <a:avLst/>
          </a:prstGeom>
          <a:solidFill>
            <a:srgbClr val="f2f2f2"/>
          </a:solidFill>
          <a:ln w="9360">
            <a:solidFill>
              <a:srgbClr val="262626"/>
            </a:solidFill>
            <a:miter/>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imes New Roman"/>
                <a:ea typeface="Times New Roman"/>
              </a:rPr>
              <a:t>Patere</a:t>
            </a:r>
            <a:r>
              <a:rPr b="0" lang="it-IT" sz="2600" spc="-1" strike="noStrike">
                <a:solidFill>
                  <a:srgbClr val="464646"/>
                </a:solidFill>
                <a:latin typeface="Times New Roman"/>
                <a:ea typeface="Times New Roman"/>
              </a:rPr>
              <a:t> tua consilia </a:t>
            </a:r>
            <a:r>
              <a:rPr b="1" lang="it-IT" sz="2600" spc="-1" strike="noStrike">
                <a:solidFill>
                  <a:srgbClr val="054387"/>
                </a:solidFill>
                <a:latin typeface="Times New Roman"/>
                <a:ea typeface="Times New Roman"/>
              </a:rPr>
              <a:t>non sentis, </a:t>
            </a:r>
            <a:r>
              <a:rPr b="0" lang="it-IT" sz="2600" spc="-1" strike="noStrike" u="sng">
                <a:solidFill>
                  <a:srgbClr val="464646"/>
                </a:solidFill>
                <a:uFillTx/>
                <a:latin typeface="Times New Roman"/>
                <a:ea typeface="Times New Roman"/>
              </a:rPr>
              <a:t>constrictam</a:t>
            </a:r>
            <a:r>
              <a:rPr b="0" lang="it-IT" sz="2600" spc="-1" strike="noStrike">
                <a:solidFill>
                  <a:srgbClr val="464646"/>
                </a:solidFill>
                <a:latin typeface="Times New Roman"/>
                <a:ea typeface="Times New Roman"/>
              </a:rPr>
              <a:t> iam horum omnium scientia </a:t>
            </a:r>
            <a:r>
              <a:rPr b="1" lang="it-IT" sz="2600" spc="-1" strike="noStrike" u="sng">
                <a:solidFill>
                  <a:srgbClr val="054387"/>
                </a:solidFill>
                <a:uFillTx/>
                <a:latin typeface="Times New Roman"/>
                <a:ea typeface="Times New Roman"/>
              </a:rPr>
              <a:t>teneri</a:t>
            </a:r>
            <a:r>
              <a:rPr b="0" lang="it-IT" sz="2600" spc="-1" strike="noStrike">
                <a:solidFill>
                  <a:srgbClr val="464646"/>
                </a:solidFill>
                <a:latin typeface="Times New Roman"/>
                <a:ea typeface="Times New Roman"/>
              </a:rPr>
              <a:t> </a:t>
            </a:r>
            <a:r>
              <a:rPr b="0" lang="it-IT" sz="2600" spc="-1" strike="noStrike" u="sng">
                <a:solidFill>
                  <a:srgbClr val="464646"/>
                </a:solidFill>
                <a:uFillTx/>
                <a:latin typeface="Times New Roman"/>
                <a:ea typeface="Times New Roman"/>
              </a:rPr>
              <a:t>coniurationem tuam</a:t>
            </a:r>
            <a:r>
              <a:rPr b="0" lang="it-IT" sz="2600" spc="-1" strike="noStrike">
                <a:solidFill>
                  <a:srgbClr val="464646"/>
                </a:solidFill>
                <a:latin typeface="Times New Roman"/>
                <a:ea typeface="Times New Roman"/>
              </a:rPr>
              <a:t> </a:t>
            </a:r>
            <a:r>
              <a:rPr b="1" lang="it-IT" sz="2600" spc="-1" strike="noStrike">
                <a:solidFill>
                  <a:srgbClr val="054387"/>
                </a:solidFill>
                <a:latin typeface="Times New Roman"/>
                <a:ea typeface="Times New Roman"/>
              </a:rPr>
              <a:t>non vides</a:t>
            </a:r>
            <a:r>
              <a:rPr b="0" lang="it-IT" sz="2600" spc="-1" strike="noStrike">
                <a:solidFill>
                  <a:srgbClr val="464646"/>
                </a:solidFill>
                <a:latin typeface="Times New Roman"/>
                <a:ea typeface="Times New Roman"/>
              </a:rPr>
              <a:t>?</a:t>
            </a:r>
            <a:endParaRPr b="0" lang="en-US" sz="26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464646"/>
                </a:solidFill>
                <a:latin typeface="Times New Roman"/>
                <a:ea typeface="Times New Roman"/>
              </a:rPr>
              <a:t>	</a:t>
            </a:r>
            <a:r>
              <a:rPr b="1" lang="it-IT" sz="2600" spc="-1" strike="noStrike">
                <a:solidFill>
                  <a:srgbClr val="f30d70"/>
                </a:solidFill>
                <a:latin typeface="Times New Roman"/>
                <a:ea typeface="Times New Roman"/>
              </a:rPr>
              <a:t>Quid</a:t>
            </a:r>
            <a:r>
              <a:rPr b="0" lang="it-IT" sz="2600" spc="-1" strike="noStrike">
                <a:solidFill>
                  <a:srgbClr val="7030a0"/>
                </a:solidFill>
                <a:latin typeface="Times New Roman"/>
                <a:ea typeface="Times New Roman"/>
              </a:rPr>
              <a:t> proxima, </a:t>
            </a:r>
            <a:r>
              <a:rPr b="1" lang="it-IT" sz="2600" spc="-1" strike="noStrike">
                <a:solidFill>
                  <a:srgbClr val="f30d70"/>
                </a:solidFill>
                <a:latin typeface="Times New Roman"/>
                <a:ea typeface="Times New Roman"/>
              </a:rPr>
              <a:t>quid</a:t>
            </a:r>
            <a:r>
              <a:rPr b="0" lang="it-IT" sz="2600" spc="-1" strike="noStrike">
                <a:solidFill>
                  <a:srgbClr val="7030a0"/>
                </a:solidFill>
                <a:latin typeface="Times New Roman"/>
                <a:ea typeface="Times New Roman"/>
              </a:rPr>
              <a:t> superiore nocte egeris, ubi fueris, </a:t>
            </a:r>
            <a:r>
              <a:rPr b="1" lang="it-IT" sz="2600" spc="-1" strike="noStrike">
                <a:solidFill>
                  <a:srgbClr val="993776"/>
                </a:solidFill>
                <a:latin typeface="Times New Roman"/>
                <a:ea typeface="Times New Roman"/>
              </a:rPr>
              <a:t>quos </a:t>
            </a:r>
            <a:r>
              <a:rPr b="0" lang="it-IT" sz="2600" spc="-1" strike="noStrike">
                <a:solidFill>
                  <a:srgbClr val="7030a0"/>
                </a:solidFill>
                <a:latin typeface="Times New Roman"/>
                <a:ea typeface="Times New Roman"/>
              </a:rPr>
              <a:t>convocaveris, </a:t>
            </a:r>
            <a:r>
              <a:rPr b="1" lang="it-IT" sz="2600" spc="-1" strike="noStrike">
                <a:solidFill>
                  <a:srgbClr val="f30d70"/>
                </a:solidFill>
                <a:latin typeface="Times New Roman"/>
                <a:ea typeface="Times New Roman"/>
              </a:rPr>
              <a:t>quid </a:t>
            </a:r>
            <a:r>
              <a:rPr b="0" lang="it-IT" sz="2600" spc="-1" strike="noStrike">
                <a:solidFill>
                  <a:srgbClr val="7030a0"/>
                </a:solidFill>
                <a:latin typeface="Times New Roman"/>
                <a:ea typeface="Times New Roman"/>
              </a:rPr>
              <a:t>consilii ceperis, quem nostrum ignorare arbitraris?</a:t>
            </a:r>
            <a:endParaRPr b="0" lang="en-US" sz="2600" spc="-1" strike="noStrike">
              <a:solidFill>
                <a:srgbClr val="000000"/>
              </a:solidFill>
              <a:latin typeface="Arial"/>
            </a:endParaRPr>
          </a:p>
        </p:txBody>
      </p:sp>
      <p:sp>
        <p:nvSpPr>
          <p:cNvPr id="260"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54387"/>
                </a:solidFill>
                <a:latin typeface="Trebuchet MS"/>
                <a:ea typeface="Times New Roman"/>
              </a:rPr>
              <a:t>	</a:t>
            </a:r>
            <a:r>
              <a:rPr b="1" lang="it-IT" sz="1100" spc="-1" strike="noStrike">
                <a:solidFill>
                  <a:srgbClr val="054387"/>
                </a:solidFill>
                <a:latin typeface="Times New Roman"/>
                <a:ea typeface="Times New Roman"/>
              </a:rPr>
              <a:t>Concinnitas. Perchè?</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r>
              <a:rPr b="1" lang="it-IT" sz="1100" spc="-1" strike="noStrike">
                <a:solidFill>
                  <a:srgbClr val="f30d70"/>
                </a:solidFill>
                <a:latin typeface="Times New Roman"/>
                <a:ea typeface="Times New Roman"/>
              </a:rPr>
              <a:t>Quid…quid…Che figura retorica?</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r>
              <a:rPr b="1" lang="it-IT" sz="1100" spc="-1" strike="noStrike">
                <a:solidFill>
                  <a:srgbClr val="f30d70"/>
                </a:solidFill>
                <a:latin typeface="Times New Roman"/>
                <a:ea typeface="Times New Roman"/>
              </a:rPr>
              <a:t>+</a:t>
            </a:r>
            <a:r>
              <a:rPr b="1" lang="it-IT" sz="1100" spc="-1" strike="noStrike">
                <a:solidFill>
                  <a:srgbClr val="993776"/>
                </a:solidFill>
                <a:latin typeface="Times New Roman"/>
                <a:ea typeface="Times New Roman"/>
              </a:rPr>
              <a:t> Quos. </a:t>
            </a:r>
            <a:r>
              <a:rPr b="1" lang="it-IT" sz="1100" spc="-1" strike="noStrike">
                <a:solidFill>
                  <a:srgbClr val="f30d70"/>
                </a:solidFill>
                <a:latin typeface="Times New Roman"/>
                <a:ea typeface="Times New Roman"/>
              </a:rPr>
              <a:t>Che figura retorica?</a:t>
            </a:r>
            <a:endParaRPr b="0" lang="en-US" sz="11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7030a0"/>
                </a:solidFill>
                <a:latin typeface="Times New Roman"/>
                <a:ea typeface="Times New Roman"/>
              </a:rPr>
              <a:t>	</a:t>
            </a:r>
            <a:r>
              <a:rPr b="0" lang="it-IT" sz="1100" spc="-1" strike="noStrike">
                <a:solidFill>
                  <a:srgbClr val="7030a0"/>
                </a:solidFill>
                <a:latin typeface="Times New Roman"/>
                <a:ea typeface="Times New Roman"/>
              </a:rPr>
              <a:t>Costruzione: quem nostrum arbitraris ignorare quid etc….</a:t>
            </a:r>
            <a:endParaRPr b="0" lang="en-US" sz="11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63"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64"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65"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66"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7"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8"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9"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0"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1"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2"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3"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4"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5"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6"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7"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8"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9"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0"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1"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464646"/>
                </a:solidFill>
                <a:latin typeface="Trebuchet MS"/>
                <a:ea typeface="Times New Roman"/>
              </a:rPr>
              <a:t>	</a:t>
            </a:r>
            <a:r>
              <a:rPr b="1" lang="it-IT" sz="1100" spc="-1" strike="noStrike">
                <a:solidFill>
                  <a:srgbClr val="464646"/>
                </a:solidFill>
                <a:latin typeface="Trebuchet MS"/>
                <a:ea typeface="Times New Roman"/>
              </a:rPr>
              <a:t> </a:t>
            </a:r>
            <a:r>
              <a:rPr b="1" lang="it-IT" sz="1800" spc="-1" strike="noStrike">
                <a:solidFill>
                  <a:srgbClr val="464646"/>
                </a:solidFill>
                <a:latin typeface="Times New Roman"/>
                <a:ea typeface="Times New Roman"/>
              </a:rPr>
              <a:t>O TEMPORA, O MORES</a:t>
            </a:r>
            <a:r>
              <a:rPr b="0" lang="it-IT" sz="1800" spc="-1" strike="noStrike">
                <a:solidFill>
                  <a:srgbClr val="464646"/>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r>
              <a:rPr b="0" lang="it-IT" sz="1800" spc="-1" strike="noStrike">
                <a:solidFill>
                  <a:srgbClr val="464646"/>
                </a:solidFill>
                <a:latin typeface="Times New Roman"/>
                <a:ea typeface="Times New Roman"/>
              </a:rPr>
              <a:t>Senatus haec intellegit. Consul videt; hic tamen</a:t>
            </a:r>
            <a:r>
              <a:rPr b="1" lang="it-IT" sz="1800" spc="-1" strike="noStrike">
                <a:solidFill>
                  <a:srgbClr val="ff0000"/>
                </a:solidFill>
                <a:latin typeface="Times New Roman"/>
                <a:ea typeface="Times New Roman"/>
              </a:rPr>
              <a:t> vivit. Vivit?</a:t>
            </a:r>
            <a:r>
              <a:rPr b="0" lang="it-IT" sz="1800" spc="-1" strike="noStrike">
                <a:solidFill>
                  <a:srgbClr val="464646"/>
                </a:solidFill>
                <a:latin typeface="Times New Roman"/>
                <a:ea typeface="Times New Roman"/>
              </a:rPr>
              <a:t> immo vero etiam in senatum venit, fit publici consilii particeps, </a:t>
            </a:r>
            <a:r>
              <a:rPr b="0" lang="it-IT" sz="1800" spc="-1" strike="noStrike" u="sng">
                <a:solidFill>
                  <a:srgbClr val="464646"/>
                </a:solidFill>
                <a:uFillTx/>
                <a:latin typeface="Times New Roman"/>
                <a:ea typeface="Times New Roman"/>
              </a:rPr>
              <a:t>notat</a:t>
            </a:r>
            <a:r>
              <a:rPr b="0" lang="it-IT" sz="1800" spc="-1" strike="noStrike">
                <a:solidFill>
                  <a:srgbClr val="464646"/>
                </a:solidFill>
                <a:latin typeface="Times New Roman"/>
                <a:ea typeface="Times New Roman"/>
              </a:rPr>
              <a:t> et designat oculis ad caedem </a:t>
            </a:r>
            <a:r>
              <a:rPr b="0" lang="it-IT" sz="1800" spc="-1" strike="noStrike" u="sng">
                <a:solidFill>
                  <a:srgbClr val="464646"/>
                </a:solidFill>
                <a:uFillTx/>
                <a:latin typeface="Times New Roman"/>
                <a:ea typeface="Times New Roman"/>
              </a:rPr>
              <a:t>unum quemque nostrum</a:t>
            </a:r>
            <a:r>
              <a:rPr b="0" lang="it-IT" sz="1800" spc="-1" strike="noStrike">
                <a:solidFill>
                  <a:srgbClr val="464646"/>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r>
              <a:rPr b="0" lang="it-IT" sz="1800" spc="-1" strike="noStrike">
                <a:solidFill>
                  <a:srgbClr val="464646"/>
                </a:solidFill>
                <a:latin typeface="Times New Roman"/>
                <a:ea typeface="Times New Roman"/>
              </a:rPr>
              <a:t>Nos autem, </a:t>
            </a:r>
            <a:r>
              <a:rPr b="1" lang="it-IT" sz="1800" spc="-1" strike="noStrike">
                <a:solidFill>
                  <a:srgbClr val="054387"/>
                </a:solidFill>
                <a:latin typeface="Times New Roman"/>
                <a:ea typeface="Times New Roman"/>
              </a:rPr>
              <a:t>fortes viri</a:t>
            </a:r>
            <a:r>
              <a:rPr b="0" lang="it-IT" sz="1800" spc="-1" strike="noStrike">
                <a:solidFill>
                  <a:srgbClr val="464646"/>
                </a:solidFill>
                <a:latin typeface="Times New Roman"/>
                <a:ea typeface="Times New Roman"/>
              </a:rPr>
              <a:t>, satis facere rei publicae videmur, si istius furorem ac tela vitamus. </a:t>
            </a:r>
            <a:endParaRPr b="0" lang="en-US" sz="1800" spc="-1" strike="noStrike">
              <a:solidFill>
                <a:srgbClr val="000000"/>
              </a:solidFill>
              <a:latin typeface="Calibri"/>
            </a:endParaRPr>
          </a:p>
        </p:txBody>
      </p:sp>
      <p:sp>
        <p:nvSpPr>
          <p:cNvPr id="282" name="Segnaposto contenuto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rebuchet MS"/>
                <a:ea typeface="Times New Roman"/>
              </a:rPr>
              <a:t>	</a:t>
            </a:r>
            <a:r>
              <a:rPr b="1" lang="it-IT" sz="2800" spc="-1" strike="noStrike">
                <a:solidFill>
                  <a:srgbClr val="ff0000"/>
                </a:solidFill>
                <a:latin typeface="Times New Roman"/>
                <a:ea typeface="Times New Roman"/>
              </a:rPr>
              <a:t>Anadiplosi</a:t>
            </a: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	</a:t>
            </a: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Fortes viri antifrastico. Che vuol dir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85"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86"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87"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88"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9"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0"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1"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2"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3"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4"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5"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6"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7"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8"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9"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0"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1"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2"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3" name="Segnaposto contenuto 2"/>
          <p:cNvSpPr/>
          <p:nvPr/>
        </p:nvSpPr>
        <p:spPr>
          <a:xfrm>
            <a:off x="609480" y="1752480"/>
            <a:ext cx="403884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464646"/>
                </a:solidFill>
                <a:latin typeface="Times New Roman"/>
                <a:ea typeface="Times New Roman"/>
              </a:rPr>
              <a:t>Ad mortem te, Catilin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46"/>
                </a:solidFill>
                <a:latin typeface="Times New Roman"/>
                <a:ea typeface="Times New Roman"/>
              </a:rPr>
              <a:t>	</a:t>
            </a:r>
            <a:r>
              <a:rPr b="0" lang="it-IT" sz="2400" spc="-1" strike="noStrike">
                <a:solidFill>
                  <a:srgbClr val="ff0000"/>
                </a:solidFill>
                <a:latin typeface="Times New Roman"/>
                <a:ea typeface="Times New Roman"/>
              </a:rPr>
              <a:t>duci</a:t>
            </a:r>
            <a:r>
              <a:rPr b="0" lang="it-IT" sz="2400" spc="-1" strike="noStrike">
                <a:solidFill>
                  <a:srgbClr val="464646"/>
                </a:solidFill>
                <a:latin typeface="Times New Roman"/>
                <a:ea typeface="Times New Roman"/>
              </a:rPr>
              <a:t> ,iussu consulis, iam pridem </a:t>
            </a:r>
            <a:r>
              <a:rPr b="0" lang="it-IT" sz="2400" spc="-1" strike="noStrike">
                <a:solidFill>
                  <a:srgbClr val="ff0000"/>
                </a:solidFill>
                <a:latin typeface="Times New Roman"/>
                <a:ea typeface="Times New Roman"/>
              </a:rPr>
              <a:t>oportebat</a:t>
            </a:r>
            <a:r>
              <a:rPr b="0" lang="it-IT" sz="2400" spc="-1" strike="noStrike">
                <a:solidFill>
                  <a:srgbClr val="464646"/>
                </a:solidFill>
                <a:latin typeface="Times New Roman"/>
                <a:ea typeface="Times New Roman"/>
              </a:rPr>
              <a:t>, in te</a:t>
            </a:r>
            <a:r>
              <a:rPr b="0" lang="it-IT" sz="2400" spc="-1" strike="noStrike">
                <a:solidFill>
                  <a:srgbClr val="ff0000"/>
                </a:solidFill>
                <a:latin typeface="Times New Roman"/>
                <a:ea typeface="Times New Roman"/>
              </a:rPr>
              <a:t> conferri</a:t>
            </a:r>
            <a:r>
              <a:rPr b="0" lang="it-IT" sz="2400" spc="-1" strike="noStrike">
                <a:solidFill>
                  <a:srgbClr val="464646"/>
                </a:solidFill>
                <a:latin typeface="Times New Roman"/>
                <a:ea typeface="Times New Roman"/>
              </a:rPr>
              <a:t> pestem, quam tu in nos omnes iam diu machinaris.</a:t>
            </a:r>
            <a:endParaRPr b="0" lang="en-US" sz="2400" spc="-1" strike="noStrike">
              <a:solidFill>
                <a:srgbClr val="000000"/>
              </a:solidFill>
              <a:latin typeface="Arial"/>
            </a:endParaRPr>
          </a:p>
        </p:txBody>
      </p:sp>
      <p:sp>
        <p:nvSpPr>
          <p:cNvPr id="304" name=""/>
          <p:cNvSpPr txBox="1"/>
          <p:nvPr/>
        </p:nvSpPr>
        <p:spPr>
          <a:xfrm>
            <a:off x="4800600" y="175248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400" spc="-1" strike="noStrike">
                <a:solidFill>
                  <a:srgbClr val="ff0000"/>
                </a:solidFill>
                <a:latin typeface="Times New Roman"/>
                <a:ea typeface="Times New Roman"/>
              </a:rPr>
              <a:t>Concinnitas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ea typeface="Times New Roman"/>
              </a:rPr>
              <a:t>   “</a:t>
            </a:r>
            <a:r>
              <a:rPr b="0" lang="it-IT" sz="2400" spc="-1" strike="noStrike">
                <a:solidFill>
                  <a:srgbClr val="ff0000"/>
                </a:solidFill>
                <a:latin typeface="Times New Roman"/>
                <a:ea typeface="Times New Roman"/>
              </a:rPr>
              <a:t>schema a … farfalla”. Perché?</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600200"/>
            <a:ext cx="4038480" cy="4525920"/>
          </a:xfrm>
          <a:prstGeom prst="rect">
            <a:avLst/>
          </a:prstGeom>
          <a:solidFill>
            <a:srgbClr val="f2f2f2"/>
          </a:solidFill>
          <a:ln w="9360">
            <a:solidFill>
              <a:srgbClr val="0070c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An vero vir amplissumus, P. Scipio, pontifex maximus, Ti. Gracchum mediocriter labefactantem statum rei publicae privatus interfeci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Catilinam, orbem terrae  caede atque incendiis vastare cupientem, nos</a:t>
            </a:r>
            <a:br>
              <a:rPr sz="2400"/>
            </a:br>
            <a:r>
              <a:rPr b="0" lang="it-IT" sz="2400" spc="-1" strike="noStrike">
                <a:solidFill>
                  <a:srgbClr val="000000"/>
                </a:solidFill>
                <a:latin typeface="Times New Roman"/>
                <a:ea typeface="Times New Roman"/>
              </a:rPr>
              <a:t>consules perferemus? </a:t>
            </a:r>
            <a:endParaRPr b="0" lang="en-US" sz="2400" spc="-1" strike="noStrike">
              <a:solidFill>
                <a:srgbClr val="000000"/>
              </a:solidFill>
              <a:latin typeface="Calibri"/>
            </a:endParaRPr>
          </a:p>
        </p:txBody>
      </p:sp>
      <p:sp>
        <p:nvSpPr>
          <p:cNvPr id="306" name=""/>
          <p:cNvSpPr txBox="1"/>
          <p:nvPr/>
        </p:nvSpPr>
        <p:spPr>
          <a:xfrm>
            <a:off x="4642920" y="1628640"/>
            <a:ext cx="403884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iasmo. Perché?</a:t>
            </a:r>
            <a:endParaRPr b="0" lang="en-US" sz="2800" spc="-1" strike="noStrike">
              <a:solidFill>
                <a:srgbClr val="000000"/>
              </a:solidFill>
              <a:latin typeface="Calibri"/>
            </a:endParaRPr>
          </a:p>
        </p:txBody>
      </p:sp>
      <p:sp>
        <p:nvSpPr>
          <p:cNvPr id="30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0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1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1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1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2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3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3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3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7"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000000"/>
                </a:solidFill>
                <a:latin typeface="Calibri"/>
              </a:rPr>
              <a:t> </a:t>
            </a:r>
            <a:r>
              <a:rPr b="0" lang="it-IT" sz="2400" spc="-1" strike="noStrike">
                <a:solidFill>
                  <a:srgbClr val="000000"/>
                </a:solidFill>
                <a:latin typeface="Times New Roman"/>
                <a:ea typeface="Times New Roman"/>
              </a:rPr>
              <a:t>Nam illa nimis antiqua praetereo, quod C. Servilius</a:t>
            </a:r>
            <a:br>
              <a:rPr sz="2400"/>
            </a:br>
            <a:r>
              <a:rPr b="0" lang="it-IT" sz="2400" spc="-1" strike="noStrike">
                <a:solidFill>
                  <a:srgbClr val="000000"/>
                </a:solidFill>
                <a:latin typeface="Times New Roman"/>
                <a:ea typeface="Times New Roman"/>
              </a:rPr>
              <a:t>Ahala Sp. Maelium novis rebus studentem manu sua occidit. </a:t>
            </a:r>
            <a:r>
              <a:rPr b="0" lang="it-IT" sz="2400" spc="-1" strike="noStrike">
                <a:solidFill>
                  <a:srgbClr val="ff0000"/>
                </a:solidFill>
                <a:latin typeface="Times New Roman"/>
                <a:ea typeface="Times New Roman"/>
              </a:rPr>
              <a:t>Fuit, fuit </a:t>
            </a:r>
            <a:r>
              <a:rPr b="0" lang="it-IT" sz="2400" spc="-1" strike="noStrike">
                <a:solidFill>
                  <a:srgbClr val="000000"/>
                </a:solidFill>
                <a:latin typeface="Times New Roman"/>
                <a:ea typeface="Times New Roman"/>
              </a:rPr>
              <a:t>ista quondam in hac re publica virtus, ut viri fortes acrioribus suppliciis civem perniciosum quam acerbissimum hostem coercerent.</a:t>
            </a:r>
            <a:endParaRPr b="0" lang="en-US" sz="2400" spc="-1" strike="noStrike">
              <a:solidFill>
                <a:srgbClr val="000000"/>
              </a:solidFill>
              <a:latin typeface="Calibri"/>
            </a:endParaRPr>
          </a:p>
        </p:txBody>
      </p:sp>
      <p:sp>
        <p:nvSpPr>
          <p:cNvPr id="348" name=""/>
          <p:cNvSpPr txBox="1"/>
          <p:nvPr/>
        </p:nvSpPr>
        <p:spPr>
          <a:xfrm>
            <a:off x="4716000" y="162864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e figura retorica è?</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51"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52"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53"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54"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5"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6"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7"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8"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9"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0"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1"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2"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3"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4"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5"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6"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7"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8"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9" name="Segnaposto contenuto 2"/>
          <p:cNvSpPr/>
          <p:nvPr/>
        </p:nvSpPr>
        <p:spPr>
          <a:xfrm>
            <a:off x="457200" y="1600200"/>
            <a:ext cx="403848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000000"/>
                </a:solidFill>
                <a:latin typeface="Times New Roman"/>
                <a:ea typeface="Times New Roman"/>
              </a:rPr>
              <a:t>Habemus senatus consultum in te,  Catilina,  vehemens et grave, non  deest rei publicae consilium neque auctoritas huius ordinis; </a:t>
            </a:r>
            <a:r>
              <a:rPr b="0" lang="it-IT" sz="2400" spc="-1" strike="noStrike">
                <a:solidFill>
                  <a:srgbClr val="ff0000"/>
                </a:solidFill>
                <a:latin typeface="Times New Roman"/>
                <a:ea typeface="Times New Roman"/>
              </a:rPr>
              <a:t>nos, nos</a:t>
            </a:r>
            <a:r>
              <a:rPr b="0" lang="it-IT" sz="2400" spc="-1" strike="noStrike">
                <a:solidFill>
                  <a:srgbClr val="000000"/>
                </a:solidFill>
                <a:latin typeface="Times New Roman"/>
                <a:ea typeface="Times New Roman"/>
              </a:rPr>
              <a:t>, dico aperte, consules</a:t>
            </a:r>
            <a:br>
              <a:rPr sz="2400"/>
            </a:br>
            <a:r>
              <a:rPr b="0" lang="it-IT" sz="2400" spc="-1" strike="noStrike">
                <a:solidFill>
                  <a:srgbClr val="000000"/>
                </a:solidFill>
                <a:latin typeface="Times New Roman"/>
                <a:ea typeface="Times New Roman"/>
              </a:rPr>
              <a:t>desumus!</a:t>
            </a:r>
            <a:endParaRPr b="0" lang="en-US" sz="2400" spc="-1" strike="noStrike">
              <a:solidFill>
                <a:srgbClr val="000000"/>
              </a:solidFill>
              <a:latin typeface="Arial"/>
            </a:endParaRPr>
          </a:p>
        </p:txBody>
      </p:sp>
      <p:sp>
        <p:nvSpPr>
          <p:cNvPr id="370" name=""/>
          <p:cNvSpPr txBox="1"/>
          <p:nvPr/>
        </p:nvSpPr>
        <p:spPr>
          <a:xfrm>
            <a:off x="4716000" y="162864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e figura retorica è?</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sercizio da svolgere nel corso dell’U.D. su Cicerone</a:t>
            </a:r>
            <a:endParaRPr b="0" lang="en-US" sz="2400" spc="-1" strike="noStrike">
              <a:solidFill>
                <a:srgbClr val="000000"/>
              </a:solidFill>
              <a:latin typeface="Calibri"/>
            </a:endParaRPr>
          </a:p>
        </p:txBody>
      </p:sp>
      <p:sp>
        <p:nvSpPr>
          <p:cNvPr id="45" name=""/>
          <p:cNvSpPr txBox="1"/>
          <p:nvPr/>
        </p:nvSpPr>
        <p:spPr>
          <a:xfrm>
            <a:off x="468360" y="1557360"/>
            <a:ext cx="3465360" cy="4525920"/>
          </a:xfrm>
          <a:prstGeom prst="rect">
            <a:avLst/>
          </a:prstGeom>
          <a:solidFill>
            <a:srgbClr val="e6b9b8"/>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Mommsen:</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superficia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giornalista nel sens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ggiore del termi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poco lungimiran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cangia bannera”</a:t>
            </a:r>
            <a:endParaRPr b="0" lang="en-US" sz="2400" spc="-1" strike="noStrike">
              <a:solidFill>
                <a:srgbClr val="000000"/>
              </a:solidFill>
              <a:latin typeface="Calibri"/>
            </a:endParaRPr>
          </a:p>
        </p:txBody>
      </p:sp>
      <p:sp>
        <p:nvSpPr>
          <p:cNvPr id="46" name="Segnaposto contenuto 2"/>
          <p:cNvSpPr/>
          <p:nvPr/>
        </p:nvSpPr>
        <p:spPr>
          <a:xfrm>
            <a:off x="4716360" y="1484280"/>
            <a:ext cx="4114800" cy="4525920"/>
          </a:xfrm>
          <a:prstGeom prst="rect">
            <a:avLst/>
          </a:prstGeom>
          <a:solidFill>
            <a:srgbClr val="b7dee8"/>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Ogg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p:txBody>
      </p:sp>
      <p:sp>
        <p:nvSpPr>
          <p:cNvPr id="47" name="Freccia a destra 4"/>
          <p:cNvSpPr/>
          <p:nvPr/>
        </p:nvSpPr>
        <p:spPr>
          <a:xfrm>
            <a:off x="3419640" y="3357720"/>
            <a:ext cx="1584000" cy="339480"/>
          </a:xfrm>
          <a:custGeom>
            <a:avLst/>
            <a:gdLst>
              <a:gd name="textAreaLeft" fmla="*/ 0 w 1584000"/>
              <a:gd name="textAreaRight" fmla="*/ 1499040 w 1584000"/>
              <a:gd name="textAreaTop" fmla="*/ 84960 h 339480"/>
              <a:gd name="textAreaBottom" fmla="*/ 254880 h 339480"/>
            </a:gdLst>
            <a:ahLst/>
            <a:rect l="textAreaLeft" t="textAreaTop" r="textAreaRight" b="textAreaBottom"/>
            <a:pathLst>
              <a:path w="21600" h="21600">
                <a:moveTo>
                  <a:pt x="0" y="5400"/>
                </a:moveTo>
                <a:lnTo>
                  <a:pt x="19278" y="5400"/>
                </a:lnTo>
                <a:lnTo>
                  <a:pt x="19278" y="0"/>
                </a:lnTo>
                <a:lnTo>
                  <a:pt x="21600" y="10800"/>
                </a:lnTo>
                <a:lnTo>
                  <a:pt x="19278" y="21600"/>
                </a:lnTo>
                <a:lnTo>
                  <a:pt x="19278"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8" name="CasellaDiTesto 5"/>
          <p:cNvSpPr/>
          <p:nvPr/>
        </p:nvSpPr>
        <p:spPr>
          <a:xfrm>
            <a:off x="539640" y="2133720"/>
            <a:ext cx="1871640" cy="368280"/>
          </a:xfrm>
          <a:prstGeom prst="rect">
            <a:avLst/>
          </a:prstGeom>
          <a:noFill/>
          <a:ln w="381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CasellaDiTesto 6"/>
          <p:cNvSpPr/>
          <p:nvPr/>
        </p:nvSpPr>
        <p:spPr>
          <a:xfrm>
            <a:off x="611280" y="4221000"/>
            <a:ext cx="2881080" cy="64260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CasellaDiTesto 7"/>
          <p:cNvSpPr/>
          <p:nvPr/>
        </p:nvSpPr>
        <p:spPr>
          <a:xfrm>
            <a:off x="539640" y="2997360"/>
            <a:ext cx="2880000" cy="91692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CasellaDiTesto 8"/>
          <p:cNvSpPr/>
          <p:nvPr/>
        </p:nvSpPr>
        <p:spPr>
          <a:xfrm>
            <a:off x="539640" y="5157720"/>
            <a:ext cx="2880000" cy="64260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ccia a destra 9"/>
          <p:cNvSpPr/>
          <p:nvPr/>
        </p:nvSpPr>
        <p:spPr>
          <a:xfrm>
            <a:off x="2411280" y="2133720"/>
            <a:ext cx="2448000" cy="339480"/>
          </a:xfrm>
          <a:custGeom>
            <a:avLst/>
            <a:gdLst>
              <a:gd name="textAreaLeft" fmla="*/ 0 w 2448000"/>
              <a:gd name="textAreaRight" fmla="*/ 2363040 w 2448000"/>
              <a:gd name="textAreaTop" fmla="*/ 84960 h 339480"/>
              <a:gd name="textAreaBottom" fmla="*/ 254880 h 339480"/>
            </a:gdLst>
            <a:ahLst/>
            <a:rect l="textAreaLeft" t="textAreaTop" r="textAreaRight" b="textAreaBottom"/>
            <a:pathLst>
              <a:path w="21600" h="21600">
                <a:moveTo>
                  <a:pt x="0" y="5400"/>
                </a:moveTo>
                <a:lnTo>
                  <a:pt x="20097" y="5400"/>
                </a:lnTo>
                <a:lnTo>
                  <a:pt x="20097" y="0"/>
                </a:lnTo>
                <a:lnTo>
                  <a:pt x="21600" y="10800"/>
                </a:lnTo>
                <a:lnTo>
                  <a:pt x="20097" y="21600"/>
                </a:lnTo>
                <a:lnTo>
                  <a:pt x="20097"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 name="Freccia a destra 10"/>
          <p:cNvSpPr/>
          <p:nvPr/>
        </p:nvSpPr>
        <p:spPr>
          <a:xfrm>
            <a:off x="3492360" y="4437000"/>
            <a:ext cx="1511280" cy="341280"/>
          </a:xfrm>
          <a:custGeom>
            <a:avLst/>
            <a:gdLst>
              <a:gd name="textAreaLeft" fmla="*/ 0 w 1511280"/>
              <a:gd name="textAreaRight" fmla="*/ 1426320 w 1511280"/>
              <a:gd name="textAreaTop" fmla="*/ 85320 h 341280"/>
              <a:gd name="textAreaBottom" fmla="*/ 255960 h 341280"/>
            </a:gdLst>
            <a:ahLst/>
            <a:rect l="textAreaLeft" t="textAreaTop" r="textAreaRight" b="textAreaBottom"/>
            <a:pathLst>
              <a:path w="21600" h="21600">
                <a:moveTo>
                  <a:pt x="0" y="5400"/>
                </a:moveTo>
                <a:lnTo>
                  <a:pt x="19167" y="5400"/>
                </a:lnTo>
                <a:lnTo>
                  <a:pt x="19167" y="0"/>
                </a:lnTo>
                <a:lnTo>
                  <a:pt x="21600" y="10800"/>
                </a:lnTo>
                <a:lnTo>
                  <a:pt x="19167" y="21600"/>
                </a:lnTo>
                <a:lnTo>
                  <a:pt x="19167"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4" name="Freccia a destra 11"/>
          <p:cNvSpPr/>
          <p:nvPr/>
        </p:nvSpPr>
        <p:spPr>
          <a:xfrm>
            <a:off x="3419640" y="5300640"/>
            <a:ext cx="1584000" cy="341280"/>
          </a:xfrm>
          <a:custGeom>
            <a:avLst/>
            <a:gdLst>
              <a:gd name="textAreaLeft" fmla="*/ 0 w 1584000"/>
              <a:gd name="textAreaRight" fmla="*/ 1499040 w 1584000"/>
              <a:gd name="textAreaTop" fmla="*/ 85320 h 341280"/>
              <a:gd name="textAreaBottom" fmla="*/ 255960 h 341280"/>
            </a:gdLst>
            <a:ahLst/>
            <a:rect l="textAreaLeft" t="textAreaTop" r="textAreaRight" b="textAreaBottom"/>
            <a:pathLst>
              <a:path w="21600" h="21600">
                <a:moveTo>
                  <a:pt x="0" y="5400"/>
                </a:moveTo>
                <a:lnTo>
                  <a:pt x="19278" y="5400"/>
                </a:lnTo>
                <a:lnTo>
                  <a:pt x="19278" y="0"/>
                </a:lnTo>
                <a:lnTo>
                  <a:pt x="21600" y="10800"/>
                </a:lnTo>
                <a:lnTo>
                  <a:pt x="19278" y="21600"/>
                </a:lnTo>
                <a:lnTo>
                  <a:pt x="19278"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1/4</a:t>
            </a:r>
            <a:endParaRPr b="0" lang="en-US" sz="2400" spc="-1" strike="noStrike">
              <a:solidFill>
                <a:srgbClr val="000000"/>
              </a:solidFill>
              <a:latin typeface="Calibri"/>
            </a:endParaRPr>
          </a:p>
        </p:txBody>
      </p:sp>
      <p:sp>
        <p:nvSpPr>
          <p:cNvPr id="372" name=""/>
          <p:cNvSpPr txBox="1"/>
          <p:nvPr/>
        </p:nvSpPr>
        <p:spPr>
          <a:xfrm>
            <a:off x="457200" y="1600200"/>
            <a:ext cx="4330800" cy="452592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1" lang="it-IT" sz="1600" spc="-1" strike="noStrike">
                <a:solidFill>
                  <a:srgbClr val="000000"/>
                </a:solidFill>
                <a:latin typeface="Times New Roman"/>
                <a:ea typeface="Times New Roman"/>
              </a:rPr>
              <a:t>13. </a:t>
            </a:r>
            <a:r>
              <a:rPr b="0" lang="it-IT" sz="1600" spc="-1" strike="noStrike">
                <a:solidFill>
                  <a:srgbClr val="000000"/>
                </a:solidFill>
                <a:latin typeface="Times New Roman"/>
                <a:ea typeface="Times New Roman"/>
              </a:rPr>
              <a:t>Ma perché tu, Africano, sia più sollecito nel difendere lo Stato, tieni ben presente quanto segue: </a:t>
            </a:r>
            <a:r>
              <a:rPr b="1" lang="it-IT" sz="1600" spc="-1" strike="noStrike">
                <a:solidFill>
                  <a:srgbClr val="00b0f0"/>
                </a:solidFill>
                <a:latin typeface="Times New Roman"/>
                <a:ea typeface="Times New Roman"/>
              </a:rPr>
              <a:t>per tutti gli uomini che abbiano conservato gli ordinamenti della patria, si siano adoperati per essa, l'abbiano resa potente, è assicurato in cielo un luogo ben definito, dove da beati fruiscono di una vita sempiterna.</a:t>
            </a:r>
            <a:r>
              <a:rPr b="0" lang="it-IT" sz="1600" spc="-1" strike="noStrike">
                <a:solidFill>
                  <a:srgbClr val="000000"/>
                </a:solidFill>
                <a:latin typeface="Times New Roman"/>
                <a:ea typeface="Times New Roman"/>
              </a:rPr>
              <a:t> A quel sommo dio che regge tutto l'universo, nulla di ciò che accade in terra è infatti più caro delle unioni e aggregazioni di uomini, associate sulla base del diritto, che vanno sotto il nome di città: coloro che le reggono e ne custodiscono gli ordinamenti partono da questa zona del cielo e poi vi ritornano».</a:t>
            </a:r>
            <a:r>
              <a:rPr b="1" lang="it-IT" sz="1600" spc="-1" strike="noStrike">
                <a:solidFill>
                  <a:srgbClr val="000000"/>
                </a:solidFill>
                <a:latin typeface="Times New Roman"/>
                <a:ea typeface="Times New Roman"/>
              </a:rPr>
              <a:t>14</a:t>
            </a:r>
            <a:r>
              <a:rPr b="0" lang="it-IT" sz="1600" spc="-1" strike="noStrike">
                <a:solidFill>
                  <a:srgbClr val="000000"/>
                </a:solidFill>
                <a:latin typeface="Times New Roman"/>
                <a:ea typeface="Times New Roman"/>
              </a:rPr>
              <a:t>. A questo punto io, anche se ero rimasto atterrito non tanto dal timore della morte, quanto dall'idea del tradimento dei miei, gli chiesi tuttavia se fosse ancora in vita egli stesso e mio padre Paolo e gli altri che noi riteniamo estinti. </a:t>
            </a:r>
            <a:endParaRPr b="0" lang="en-US" sz="1600" spc="-1" strike="noStrike">
              <a:solidFill>
                <a:srgbClr val="000000"/>
              </a:solidFill>
              <a:latin typeface="Calibri"/>
            </a:endParaRPr>
          </a:p>
        </p:txBody>
      </p:sp>
      <p:sp>
        <p:nvSpPr>
          <p:cNvPr id="373" name="CasellaDiTesto 5"/>
          <p:cNvSpPr/>
          <p:nvPr/>
        </p:nvSpPr>
        <p:spPr>
          <a:xfrm>
            <a:off x="5313960" y="2708280"/>
            <a:ext cx="366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cerone cerca una concili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a il modello di vita contempl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quello attivo</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2/4</a:t>
            </a:r>
            <a:endParaRPr b="0" lang="en-US" sz="2400" spc="-1" strike="noStrike">
              <a:solidFill>
                <a:srgbClr val="000000"/>
              </a:solidFill>
              <a:latin typeface="Calibri"/>
            </a:endParaRPr>
          </a:p>
        </p:txBody>
      </p:sp>
      <p:sp>
        <p:nvSpPr>
          <p:cNvPr id="375" name=""/>
          <p:cNvSpPr txBox="1"/>
          <p:nvPr/>
        </p:nvSpPr>
        <p:spPr>
          <a:xfrm>
            <a:off x="457200" y="1600200"/>
            <a:ext cx="4330800" cy="4525920"/>
          </a:xfrm>
          <a:prstGeom prst="rect">
            <a:avLst/>
          </a:prstGeom>
          <a:no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Al contrario», disse, «sono costoro i vivi, costoro che sono volati via dalle catene del corpo come da una prigione, mentre la vostra, che ha nome vita, è in realtà una morte. Non scorgi tuo padre Paolo, che ti viene incontro?».</a:t>
            </a:r>
            <a:r>
              <a:rPr b="1"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Non appena lo vidi, versai davvero un fiume di lacrime, mentre egli, abbracciandomi e baciandomi, cercava di frenare il mio pianto.».</a:t>
            </a:r>
            <a:r>
              <a:rPr b="1" lang="it-IT" sz="1600" spc="-1" strike="noStrike">
                <a:solidFill>
                  <a:srgbClr val="000000"/>
                </a:solidFill>
                <a:latin typeface="Times New Roman"/>
                <a:ea typeface="Times New Roman"/>
              </a:rPr>
              <a:t> 15. </a:t>
            </a:r>
            <a:r>
              <a:rPr b="0" lang="it-IT" sz="1600" spc="-1" strike="noStrike">
                <a:solidFill>
                  <a:srgbClr val="000000"/>
                </a:solidFill>
                <a:latin typeface="Times New Roman"/>
                <a:ea typeface="Times New Roman"/>
              </a:rPr>
              <a:t> E io, non appena riuscii a trattenere le lacrime e potei riprendere a parlare: «Ti prego», dissi, «padre mio santissimo e ottimo: se questa è la vera vita, a quanto sento dire dall'Africano, come mai indugio sulla terra? Perché non mi affretto a raggiungervi qui?». «No», rispose. «</a:t>
            </a:r>
            <a:r>
              <a:rPr b="1" lang="it-IT" sz="1600" spc="-1" strike="noStrike">
                <a:solidFill>
                  <a:srgbClr val="00b0f0"/>
                </a:solidFill>
                <a:latin typeface="Times New Roman"/>
                <a:ea typeface="Times New Roman"/>
              </a:rPr>
              <a:t>Se non ti avrà liberato dal carcere del corpo quel dio </a:t>
            </a:r>
            <a:r>
              <a:rPr b="0" lang="it-IT" sz="1600" spc="-1" strike="noStrike">
                <a:solidFill>
                  <a:srgbClr val="000000"/>
                </a:solidFill>
                <a:latin typeface="Times New Roman"/>
                <a:ea typeface="Times New Roman"/>
              </a:rPr>
              <a:t>cui appartiene tutto lo spazio celeste che vedi, non può accadere che per te sia praticabile l'accesso a questo luogo.</a:t>
            </a:r>
            <a:endParaRPr b="0" lang="en-US" sz="1600" spc="-1" strike="noStrike">
              <a:solidFill>
                <a:srgbClr val="000000"/>
              </a:solidFill>
              <a:latin typeface="Calibri"/>
            </a:endParaRPr>
          </a:p>
        </p:txBody>
      </p:sp>
      <p:sp>
        <p:nvSpPr>
          <p:cNvPr id="376" name="CasellaDiTesto 4"/>
          <p:cNvSpPr/>
          <p:nvPr/>
        </p:nvSpPr>
        <p:spPr>
          <a:xfrm>
            <a:off x="5292720" y="3716280"/>
            <a:ext cx="3851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f0"/>
                </a:solidFill>
                <a:latin typeface="Arial"/>
              </a:rPr>
              <a:t>La pratica politica raccorda il mondo delle idee platonico alla realtà sensib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3/4</a:t>
            </a:r>
            <a:endParaRPr b="0" lang="en-US" sz="2400" spc="-1" strike="noStrike">
              <a:solidFill>
                <a:srgbClr val="000000"/>
              </a:solidFill>
              <a:latin typeface="Calibri"/>
            </a:endParaRPr>
          </a:p>
        </p:txBody>
      </p:sp>
      <p:sp>
        <p:nvSpPr>
          <p:cNvPr id="378" name=""/>
          <p:cNvSpPr txBox="1"/>
          <p:nvPr/>
        </p:nvSpPr>
        <p:spPr>
          <a:xfrm>
            <a:off x="539280" y="1600200"/>
            <a:ext cx="4319640" cy="452592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	</a:t>
            </a:r>
            <a:r>
              <a:rPr b="1" lang="it-IT" sz="1800" spc="-1" strike="noStrike">
                <a:solidFill>
                  <a:srgbClr val="00b0f0"/>
                </a:solidFill>
                <a:latin typeface="Times New Roman"/>
                <a:ea typeface="Times New Roman"/>
              </a:rPr>
              <a:t>Gli uomini sono stati infatti generati col seguente impegno, di custodire quella sfera là, chiamata terra</a:t>
            </a:r>
            <a:r>
              <a:rPr b="0" lang="it-IT" sz="1800" spc="-1" strike="noStrike">
                <a:solidFill>
                  <a:srgbClr val="000000"/>
                </a:solidFill>
                <a:latin typeface="Times New Roman"/>
                <a:ea typeface="Times New Roman"/>
              </a:rPr>
              <a:t>, che tu scorgi al centro di questo spazio celeste; a loro viene fornita l'anima dai fuochi sempiterni cui voi date nome di costellazioni e stelle, quei globi sferici che, animati da menti divine, compiono le loro circonvoluzioni e orbite con velocità sorprendente. Anche tu, dunque, Publio, come tutti gli uomini pii, devi tenere l'anima sotto la sorveglianza del corpo, né sei tenuto a migrare dalla vita degli uomini senza il consenso del dio da cui l'avete ricevuta, perché non sembri che intendiate esimervi dal compito umano </a:t>
            </a:r>
            <a:r>
              <a:rPr b="0" lang="it-IT" sz="2000" spc="-1" strike="noStrike">
                <a:solidFill>
                  <a:srgbClr val="000000"/>
                </a:solidFill>
                <a:latin typeface="Times New Roman"/>
                <a:ea typeface="Times New Roman"/>
              </a:rPr>
              <a:t>assegnato dalla divinità. </a:t>
            </a:r>
            <a:endParaRPr b="0" lang="en-US" sz="20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95280" y="33300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4/4</a:t>
            </a:r>
            <a:endParaRPr b="0" lang="en-US" sz="2400" spc="-1" strike="noStrike">
              <a:solidFill>
                <a:srgbClr val="000000"/>
              </a:solidFill>
              <a:latin typeface="Calibri"/>
            </a:endParaRPr>
          </a:p>
        </p:txBody>
      </p:sp>
      <p:sp>
        <p:nvSpPr>
          <p:cNvPr id="380" name="Rettangolo 3"/>
          <p:cNvSpPr/>
          <p:nvPr/>
        </p:nvSpPr>
        <p:spPr>
          <a:xfrm>
            <a:off x="611280" y="170028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a qui, a me che contemplavo l'universo, tutto pareva magnifico e meraviglioso. C'erano, tra l'altro, stelle che non vediamo mai dalle nostre regioni terrene; inoltre, le dimensioni di tutti i corpi celesti erano maggiori di quanto avessimo mai creduto; tra di essi, il più piccolo era l'astro che, essendo il più lontano dalla volta celeste e il più vicino alla terra, brillava di luce riflessa. I volumi delle stelle, poi, superavano nettamente le dimensioni della terra. Anzi, a dire il vero, </a:t>
            </a:r>
            <a:r>
              <a:rPr b="1" lang="it-IT" sz="1800" spc="-1" strike="noStrike">
                <a:solidFill>
                  <a:srgbClr val="00b0f0"/>
                </a:solidFill>
                <a:latin typeface="Times New Roman"/>
                <a:ea typeface="Times New Roman"/>
              </a:rPr>
              <a:t>perfino la terra mi sembrò così piccola, che provai vergogna del nostro dominio, con il quale occupiamo, per così dire, solo un punto del globo</a:t>
            </a:r>
            <a:r>
              <a:rPr b="0" lang="it-IT"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381" name="Rettangolo 5"/>
          <p:cNvSpPr/>
          <p:nvPr/>
        </p:nvSpPr>
        <p:spPr>
          <a:xfrm>
            <a:off x="5763240" y="414972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f0"/>
                </a:solidFill>
                <a:latin typeface="Arial"/>
              </a:rPr>
              <a:t>…</a:t>
            </a:r>
            <a:r>
              <a:rPr b="0" lang="it-IT" sz="1800" spc="-1" strike="noStrike">
                <a:solidFill>
                  <a:srgbClr val="00b0f0"/>
                </a:solidFill>
                <a:latin typeface="Arial"/>
              </a:rPr>
              <a:t>con qualche difficoltà</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Immagine 4" descr=""/>
          <p:cNvPicPr/>
          <p:nvPr/>
        </p:nvPicPr>
        <p:blipFill>
          <a:blip r:embed="rId1"/>
          <a:stretch/>
        </p:blipFill>
        <p:spPr>
          <a:xfrm>
            <a:off x="1189080" y="66600"/>
            <a:ext cx="6242040" cy="6662880"/>
          </a:xfrm>
          <a:prstGeom prst="rect">
            <a:avLst/>
          </a:prstGeom>
          <a:ln w="0">
            <a:noFill/>
          </a:ln>
        </p:spPr>
      </p:pic>
      <p:sp>
        <p:nvSpPr>
          <p:cNvPr id="383" name="CasellaDiTesto 5"/>
          <p:cNvSpPr/>
          <p:nvPr/>
        </p:nvSpPr>
        <p:spPr>
          <a:xfrm>
            <a:off x="4427640" y="1773360"/>
            <a:ext cx="2592360" cy="1006560"/>
          </a:xfrm>
          <a:prstGeom prst="rect">
            <a:avLst/>
          </a:prstGeom>
          <a:solidFill>
            <a:srgbClr val="e6b9b8"/>
          </a:solidFill>
          <a:ln w="28440">
            <a:solidFill>
              <a:srgbClr val="f30d7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0000"/>
                </a:solidFill>
                <a:latin typeface="Times New Roman"/>
                <a:ea typeface="Times New Roman"/>
              </a:rPr>
              <a:t>SCUOLA  ATTICISTA </a:t>
            </a:r>
            <a:r>
              <a:rPr b="0" lang="it-IT" sz="1200" spc="-1" strike="noStrike">
                <a:solidFill>
                  <a:srgbClr val="000000"/>
                </a:solidFill>
                <a:latin typeface="Times New Roman"/>
                <a:ea typeface="Times New Roman"/>
              </a:rPr>
              <a:t>(IV sec.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tile sobrio equilibrato (misurato uso di figure retor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isia retorica giudizia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socrate epidittica</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CasellaDiTesto 2"/>
          <p:cNvGrpSpPr/>
          <p:nvPr/>
        </p:nvGrpSpPr>
        <p:grpSpPr>
          <a:xfrm>
            <a:off x="981720" y="2457360"/>
            <a:ext cx="6750720" cy="1835280"/>
            <a:chOff x="981720" y="2457360"/>
            <a:chExt cx="6750720" cy="1835280"/>
          </a:xfrm>
        </p:grpSpPr>
        <p:pic>
          <p:nvPicPr>
            <p:cNvPr id="385" name="CasellaDiTesto 2" descr=""/>
            <p:cNvPicPr/>
            <p:nvPr/>
          </p:nvPicPr>
          <p:blipFill>
            <a:blip r:embed="rId1"/>
            <a:stretch/>
          </p:blipFill>
          <p:spPr>
            <a:xfrm>
              <a:off x="1298520" y="2457360"/>
              <a:ext cx="6046920" cy="1773360"/>
            </a:xfrm>
            <a:prstGeom prst="rect">
              <a:avLst/>
            </a:prstGeom>
            <a:ln w="0">
              <a:noFill/>
            </a:ln>
          </p:spPr>
        </p:pic>
        <p:sp>
          <p:nvSpPr>
            <p:cNvPr id="386" name=""/>
            <p:cNvSpPr/>
            <p:nvPr/>
          </p:nvSpPr>
          <p:spPr>
            <a:xfrm>
              <a:off x="981720" y="2492280"/>
              <a:ext cx="67507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dobe Garamond Pro"/>
                </a:rPr>
                <a:t>La morte di Cicerone in Plutarco , Liv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dobe Garamond Pro"/>
                </a:rPr>
                <a:t> </a:t>
              </a:r>
              <a:r>
                <a:rPr b="0" lang="it-IT" sz="2800" spc="-1" strike="noStrike">
                  <a:solidFill>
                    <a:srgbClr val="ffffff"/>
                  </a:solidFill>
                  <a:latin typeface="Adobe Garamond Pro"/>
                </a:rPr>
                <a:t>e nella versione di Fruttero e Lucentin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ttangolo 2"/>
          <p:cNvSpPr/>
          <p:nvPr/>
        </p:nvSpPr>
        <p:spPr>
          <a:xfrm>
            <a:off x="395280" y="620640"/>
            <a:ext cx="85694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MORTE DI CICERONE (Tito Livio, </a:t>
            </a:r>
            <a:r>
              <a:rPr b="0" i="1" lang="it-IT" sz="2000" spc="-1" strike="noStrike">
                <a:solidFill>
                  <a:srgbClr val="000000"/>
                </a:solidFill>
                <a:latin typeface="Times New Roman"/>
                <a:ea typeface="Times New Roman"/>
              </a:rPr>
              <a:t>Ab urbe condita libr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M. Cicero </a:t>
            </a:r>
            <a:r>
              <a:rPr b="0" lang="it-IT" sz="2000" spc="-1" strike="noStrike" u="sng">
                <a:solidFill>
                  <a:srgbClr val="000000"/>
                </a:solidFill>
                <a:uFillTx/>
                <a:latin typeface="Times New Roman"/>
                <a:ea typeface="Times New Roman"/>
              </a:rPr>
              <a:t>sub</a:t>
            </a:r>
            <a:r>
              <a:rPr b="0" lang="it-IT" sz="2000" spc="-1" strike="noStrike">
                <a:solidFill>
                  <a:srgbClr val="000000"/>
                </a:solidFill>
                <a:latin typeface="Times New Roman"/>
                <a:ea typeface="Times New Roman"/>
              </a:rPr>
              <a:t> adventum triumvirorum urbe cesserat pro certo habens, </a:t>
            </a:r>
            <a:r>
              <a:rPr b="0" lang="it-IT" sz="2000" spc="-1" strike="noStrike" u="sng">
                <a:solidFill>
                  <a:srgbClr val="000000"/>
                </a:solidFill>
                <a:uFillTx/>
                <a:latin typeface="Times New Roman"/>
                <a:ea typeface="Times New Roman"/>
              </a:rPr>
              <a:t>id quod erat</a:t>
            </a:r>
            <a:r>
              <a:rPr b="0" lang="it-IT" sz="2000" spc="-1" strike="noStrike">
                <a:solidFill>
                  <a:srgbClr val="000000"/>
                </a:solidFill>
                <a:latin typeface="Times New Roman"/>
                <a:ea typeface="Times New Roman"/>
              </a:rPr>
              <a:t>, non magis se Antonio eripi quam Caesari Cassium et Brutum posse; primo in Tusculanum fugerat; inde transversis itineribus in Formianum, a Caieta navem </a:t>
            </a:r>
            <a:r>
              <a:rPr b="0" lang="it-IT" sz="2000" spc="-1" strike="noStrike" u="sng">
                <a:solidFill>
                  <a:srgbClr val="000000"/>
                </a:solidFill>
                <a:uFillTx/>
                <a:latin typeface="Times New Roman"/>
                <a:ea typeface="Times New Roman"/>
              </a:rPr>
              <a:t>conscensurus</a:t>
            </a:r>
            <a:r>
              <a:rPr b="0" lang="it-IT" sz="2000" spc="-1" strike="noStrike">
                <a:solidFill>
                  <a:srgbClr val="000000"/>
                </a:solidFill>
                <a:latin typeface="Times New Roman"/>
                <a:ea typeface="Times New Roman"/>
              </a:rPr>
              <a:t>, proficiscitur. Unde aliquoties in altum provectum, </a:t>
            </a:r>
            <a:r>
              <a:rPr b="0" lang="it-IT" sz="2000" spc="-1" strike="noStrike" u="sng">
                <a:solidFill>
                  <a:srgbClr val="000000"/>
                </a:solidFill>
                <a:uFillTx/>
                <a:latin typeface="Times New Roman"/>
                <a:ea typeface="Times New Roman"/>
              </a:rPr>
              <a:t>cum</a:t>
            </a:r>
            <a:r>
              <a:rPr b="0" lang="it-IT" sz="2000" spc="-1" strike="noStrike">
                <a:solidFill>
                  <a:srgbClr val="000000"/>
                </a:solidFill>
                <a:latin typeface="Times New Roman"/>
                <a:ea typeface="Times New Roman"/>
              </a:rPr>
              <a:t> modo venti adversi retulissent, modo ipse iactationem navis caeco volvente fluctu pati non posset, taedium tandem eum et fugae et vitae cepit, regressusque ad superiorem villam, quae paulo plus mille </a:t>
            </a:r>
            <a:r>
              <a:rPr b="0" lang="it-IT" sz="2000" spc="-1" strike="noStrike" u="sng">
                <a:solidFill>
                  <a:srgbClr val="000000"/>
                </a:solidFill>
                <a:uFillTx/>
                <a:latin typeface="Times New Roman"/>
                <a:ea typeface="Times New Roman"/>
              </a:rPr>
              <a:t>passibus</a:t>
            </a:r>
            <a:r>
              <a:rPr b="0" lang="it-IT" sz="2000" spc="-1" strike="noStrike">
                <a:solidFill>
                  <a:srgbClr val="000000"/>
                </a:solidFill>
                <a:latin typeface="Times New Roman"/>
                <a:ea typeface="Times New Roman"/>
              </a:rPr>
              <a:t> a mari abest, </a:t>
            </a:r>
            <a:r>
              <a:rPr b="0" lang="it-IT" sz="2000" spc="-1" strike="noStrike">
                <a:solidFill>
                  <a:srgbClr val="0070c0"/>
                </a:solidFill>
                <a:latin typeface="Times New Roman"/>
                <a:ea typeface="Times New Roman"/>
              </a:rPr>
              <a:t>"Moriar" inquit "in patria saepe servata". </a:t>
            </a:r>
            <a:r>
              <a:rPr b="0" lang="it-IT" sz="2000" spc="-1" strike="noStrike">
                <a:solidFill>
                  <a:srgbClr val="000000"/>
                </a:solidFill>
                <a:latin typeface="Times New Roman"/>
                <a:ea typeface="Times New Roman"/>
              </a:rPr>
              <a:t>Satis constat servos fortiter fideliterque paratos fuisse </a:t>
            </a:r>
            <a:r>
              <a:rPr b="0" lang="it-IT" sz="2000" spc="-1" strike="noStrike">
                <a:solidFill>
                  <a:srgbClr val="00b050"/>
                </a:solidFill>
                <a:latin typeface="Times New Roman"/>
                <a:ea typeface="Times New Roman"/>
              </a:rPr>
              <a:t>ad dimicandum; </a:t>
            </a:r>
            <a:r>
              <a:rPr b="0" lang="it-IT" sz="2000" spc="-1" strike="noStrike">
                <a:solidFill>
                  <a:srgbClr val="000000"/>
                </a:solidFill>
                <a:latin typeface="Times New Roman"/>
                <a:ea typeface="Times New Roman"/>
              </a:rPr>
              <a:t>ipsum deponi lecticam et quietos pati, quod sors iniqua </a:t>
            </a:r>
            <a:r>
              <a:rPr b="0" lang="it-IT" sz="2000" spc="-1" strike="noStrike" u="sng">
                <a:solidFill>
                  <a:srgbClr val="000000"/>
                </a:solidFill>
                <a:uFillTx/>
                <a:latin typeface="Times New Roman"/>
                <a:ea typeface="Times New Roman"/>
              </a:rPr>
              <a:t>cogeret</a:t>
            </a:r>
            <a:r>
              <a:rPr b="0" lang="it-IT" sz="2000" spc="-1" strike="noStrike">
                <a:solidFill>
                  <a:srgbClr val="000000"/>
                </a:solidFill>
                <a:latin typeface="Times New Roman"/>
                <a:ea typeface="Times New Roman"/>
              </a:rPr>
              <a:t>,(1) iussisse. </a:t>
            </a:r>
            <a:r>
              <a:rPr b="0" lang="it-IT" sz="2000" spc="-1" strike="noStrike" u="sng">
                <a:solidFill>
                  <a:srgbClr val="000000"/>
                </a:solidFill>
                <a:uFillTx/>
                <a:latin typeface="Times New Roman"/>
                <a:ea typeface="Times New Roman"/>
              </a:rPr>
              <a:t>Prominenti</a:t>
            </a:r>
            <a:r>
              <a:rPr b="0" lang="it-IT" sz="2000" spc="-1" strike="noStrike">
                <a:solidFill>
                  <a:srgbClr val="000000"/>
                </a:solidFill>
                <a:latin typeface="Times New Roman"/>
                <a:ea typeface="Times New Roman"/>
              </a:rPr>
              <a:t> ex lectica </a:t>
            </a:r>
            <a:r>
              <a:rPr b="0" lang="it-IT" sz="2000" spc="-1" strike="noStrike" u="sng">
                <a:solidFill>
                  <a:srgbClr val="000000"/>
                </a:solidFill>
                <a:uFillTx/>
                <a:latin typeface="Times New Roman"/>
                <a:ea typeface="Times New Roman"/>
              </a:rPr>
              <a:t>praebenti</a:t>
            </a:r>
            <a:r>
              <a:rPr b="0" lang="it-IT" sz="2000" spc="-1" strike="noStrike">
                <a:solidFill>
                  <a:srgbClr val="000000"/>
                </a:solidFill>
                <a:latin typeface="Times New Roman"/>
                <a:ea typeface="Times New Roman"/>
              </a:rPr>
              <a:t>que inmotam cervicem caput praecisum est. Nec satis stolidae crudelitati militum fuit; manus quoque, scripsisse in Antonium aliquid </a:t>
            </a:r>
            <a:r>
              <a:rPr b="0" lang="it-IT" sz="2000" spc="-1" strike="noStrike" u="sng">
                <a:solidFill>
                  <a:srgbClr val="000000"/>
                </a:solidFill>
                <a:uFillTx/>
                <a:latin typeface="Times New Roman"/>
                <a:ea typeface="Times New Roman"/>
              </a:rPr>
              <a:t>exprobrantes</a:t>
            </a:r>
            <a:r>
              <a:rPr b="0" lang="it-IT" sz="2000" spc="-1" strike="noStrike">
                <a:solidFill>
                  <a:srgbClr val="000000"/>
                </a:solidFill>
                <a:latin typeface="Times New Roman"/>
                <a:ea typeface="Times New Roman"/>
              </a:rPr>
              <a:t>, praeciderunt. Ita relatum caput ad Antonium iussuque eius inter duas manus in rostris positu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_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Cogo aliquem ad aliquid /cogo aliquem + accusativo del neutro agg o pron</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393336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1" lang="it-IT" sz="1600" spc="-1" strike="noStrike">
                <a:solidFill>
                  <a:srgbClr val="0070c0"/>
                </a:solidFill>
                <a:latin typeface="Times New Roman"/>
                <a:ea typeface="Times New Roman"/>
              </a:rPr>
              <a:t>Plutarco, Le vite parallele, Cicerone</a:t>
            </a:r>
            <a:br>
              <a:rPr sz="1600"/>
            </a:br>
            <a:r>
              <a:rPr b="1" lang="it-IT" sz="1600" spc="-1" strike="noStrike">
                <a:solidFill>
                  <a:srgbClr val="0070c0"/>
                </a:solidFill>
                <a:latin typeface="Times New Roman"/>
                <a:ea typeface="Times New Roman"/>
              </a:rPr>
              <a:t>morte di Cicerone:</a:t>
            </a:r>
            <a:br>
              <a:rPr sz="1600"/>
            </a:br>
            <a:r>
              <a:rPr b="0" lang="it-IT" sz="1600" spc="-1" strike="noStrike">
                <a:solidFill>
                  <a:srgbClr val="000000"/>
                </a:solidFill>
                <a:latin typeface="Times New Roman"/>
                <a:ea typeface="Times New Roman"/>
              </a:rPr>
              <a:t>I primi due giorni Cesare si batté per Cicerone (così si racconta), ma al terzo mostrò segni di cedimento e abbandonò l'oratore alla sua sorte. Ci fu un vero e proprio compromesso, così articolato: Cesare dové sacrificare Cicerone, ma Lepido suo fratello Paullo, Antonio Lucio Cesare, che era suo zio per parte di madre.</a:t>
            </a:r>
            <a:br>
              <a:rPr sz="1600"/>
            </a:br>
            <a:r>
              <a:rPr b="0" lang="it-IT" sz="1600" spc="-1" strike="noStrike">
                <a:solidFill>
                  <a:srgbClr val="000000"/>
                </a:solidFill>
                <a:latin typeface="Times New Roman"/>
                <a:ea typeface="Times New Roman"/>
              </a:rPr>
              <a:t>6. Così rabbia e furore li tennero lontani da ogni ragione umana: o meglio, dimostrarono come nessuna bestia è più selvaggia dell'uomo quando a un'indole passionale si aggiunge il potere.</a:t>
            </a:r>
            <a:br>
              <a:rPr sz="1600"/>
            </a:br>
            <a:r>
              <a:rPr b="0" lang="it-IT" sz="1600" spc="-1" strike="noStrike">
                <a:solidFill>
                  <a:srgbClr val="000000"/>
                </a:solidFill>
                <a:latin typeface="Times New Roman"/>
                <a:ea typeface="Times New Roman"/>
              </a:rPr>
              <a:t>XLVII - 1. </a:t>
            </a:r>
            <a:r>
              <a:rPr b="0" lang="it-IT" sz="1600" spc="-1" strike="noStrike">
                <a:solidFill>
                  <a:srgbClr val="ff0000"/>
                </a:solidFill>
                <a:latin typeface="Times New Roman"/>
                <a:ea typeface="Times New Roman"/>
              </a:rPr>
              <a:t>Mentre i tre prendevano accordi, Cicerone si trovava in compagnia del fratello nei suoi possedimenti di TUSCOLO. Appena seppero dell'ondata di proscrizioni, decisero di trasferirsi ad ASTURA</a:t>
            </a:r>
            <a:r>
              <a:rPr b="0" lang="it-IT" sz="1600" spc="-1" strike="noStrike">
                <a:solidFill>
                  <a:srgbClr val="000000"/>
                </a:solidFill>
                <a:latin typeface="Times New Roman"/>
                <a:ea typeface="Times New Roman"/>
              </a:rPr>
              <a:t>, dove Cicerone aveva un suo podere sul mare: di là avrebbero navigato in Macedonia per raggiungere Bruto. Da qualche tempo, infatti, correva voce che la posizione di questo fosse divenuta autorevole.</a:t>
            </a:r>
            <a:br>
              <a:rPr sz="1600"/>
            </a:br>
            <a:r>
              <a:rPr b="0" lang="it-IT" sz="1600" spc="-1" strike="noStrike">
                <a:solidFill>
                  <a:srgbClr val="000000"/>
                </a:solidFill>
                <a:latin typeface="Times New Roman"/>
                <a:ea typeface="Times New Roman"/>
              </a:rPr>
              <a:t>2. Si fecero trasportare su lettighe, in preda alla disperazione più cupa: ogni tanto, fermandosi lungo la strada, avvicinavano le portantine e si consolavano a vicenda.</a:t>
            </a:r>
            <a:br>
              <a:rPr sz="1600"/>
            </a:br>
            <a:r>
              <a:rPr b="0" lang="it-IT" sz="1600" spc="-1" strike="noStrike">
                <a:solidFill>
                  <a:srgbClr val="000000"/>
                </a:solidFill>
                <a:latin typeface="Times New Roman"/>
                <a:ea typeface="Times New Roman"/>
              </a:rPr>
              <a:t>3. il più angosciato era Quinto, perché non faceva che pensare alle mille difficoltà che avrebbero incontrato: ripeteva che da casa sua non aveva portato nulla e anche Cicerone aveva scarse provviste per il viaggio. Sarebbe stato meglio, quindi, che Cicerone continuasse a fuggire, mentre lui sarebbe corso a casa a prendere il necessario per entrambi.</a:t>
            </a:r>
            <a:br>
              <a:rPr sz="1600"/>
            </a:br>
            <a:r>
              <a:rPr b="0" lang="it-IT" sz="1600" spc="-1" strike="noStrike">
                <a:solidFill>
                  <a:srgbClr val="000000"/>
                </a:solidFill>
                <a:latin typeface="Times New Roman"/>
                <a:ea typeface="Times New Roman"/>
              </a:rPr>
              <a:t>4. Così fu deciso: e i due, tra abbracci e lacrime, si separarono. Qualche giorno dopo, venduto dai suoi servi agli uomini sulle sue tracce, Quinto fu ucciso con il figlio. Cicerone, nel frattempo, giunse ad Astura dove, trovata un'imbarcazione, prese sùbito il largo e, approfittando di un vento favorevole, </a:t>
            </a:r>
            <a:r>
              <a:rPr b="0" lang="it-IT" sz="1600" spc="-1" strike="noStrike">
                <a:solidFill>
                  <a:srgbClr val="ff0000"/>
                </a:solidFill>
                <a:latin typeface="Times New Roman"/>
                <a:ea typeface="Times New Roman"/>
              </a:rPr>
              <a:t>navigò lungo la costa fino al Circeo.</a:t>
            </a:r>
            <a:br>
              <a:rPr sz="1600"/>
            </a:br>
            <a:r>
              <a:rPr b="0" lang="it-IT" sz="1600" spc="-1" strike="noStrike">
                <a:solidFill>
                  <a:srgbClr val="000000"/>
                </a:solidFill>
                <a:latin typeface="Times New Roman"/>
                <a:ea typeface="Times New Roman"/>
              </a:rPr>
              <a:t>5</a:t>
            </a:r>
            <a:r>
              <a:rPr b="0" lang="it-IT" sz="1600" spc="-1" strike="noStrike">
                <a:solidFill>
                  <a:srgbClr val="ff0000"/>
                </a:solidFill>
                <a:latin typeface="Times New Roman"/>
                <a:ea typeface="Times New Roman"/>
              </a:rPr>
              <a:t>. I piloti volevano ripartire immediatamente; ma l'oratore, un po' per paura del mare, un po' perché non aveva ancora perso del tutto la fiducia in Cesare, preferì sbarcare e percorrere a piedi un centinaio di stadi in direzione di Roma.</a:t>
            </a:r>
            <a:br>
              <a:rPr sz="800"/>
            </a:br>
            <a:br>
              <a:rPr sz="800"/>
            </a:br>
            <a:br>
              <a:rPr sz="800"/>
            </a:br>
            <a:endParaRPr b="0" lang="en-US" sz="1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836640"/>
            <a:ext cx="8229600" cy="452592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6</a:t>
            </a:r>
            <a:r>
              <a:rPr b="0" lang="it-IT" sz="1400" spc="-1" strike="noStrike">
                <a:solidFill>
                  <a:srgbClr val="000000"/>
                </a:solidFill>
                <a:latin typeface="Times New Roman"/>
                <a:ea typeface="Times New Roman"/>
              </a:rPr>
              <a:t>. Ma ancora lo assalirono dubbi, perplessità e alla fine cambiò idea: scese di nuovo verso il mare, ad Astura. Là trascorse la notte, assillato da incubi e orribili pensieri: arrivò persino a immaginare di introdursi di nascosto in casa di Cesare e di togliersi la vita presso il focolare, in modo da eccitargli contro le furie vendicatrici.</a:t>
            </a:r>
            <a:br>
              <a:rPr sz="1400"/>
            </a:br>
            <a:r>
              <a:rPr b="0" lang="it-IT" sz="1400" spc="-1" strike="noStrike">
                <a:solidFill>
                  <a:srgbClr val="000000"/>
                </a:solidFill>
                <a:latin typeface="Times New Roman"/>
                <a:ea typeface="Times New Roman"/>
              </a:rPr>
              <a:t>7. Ma il timore di incorrere nella tortura, in caso avesse fallito, lo fece desistere da questo proposito. Alla fine, dopo aver fatto e disfatto con la mente un gran numero di progetti, uno più confuso dell'altro, </a:t>
            </a:r>
            <a:r>
              <a:rPr b="0" lang="it-IT" sz="1400" spc="-1" strike="noStrike">
                <a:solidFill>
                  <a:srgbClr val="ff0000"/>
                </a:solidFill>
                <a:latin typeface="Times New Roman"/>
                <a:ea typeface="Times New Roman"/>
              </a:rPr>
              <a:t>ordinò ai suoi servi di condurlo per mare A GAETA: là, </a:t>
            </a:r>
            <a:r>
              <a:rPr b="0" lang="it-IT" sz="1400" spc="-1" strike="noStrike">
                <a:solidFill>
                  <a:srgbClr val="000000"/>
                </a:solidFill>
                <a:latin typeface="Times New Roman"/>
                <a:ea typeface="Times New Roman"/>
              </a:rPr>
              <a:t>infatti, possedeva un podere, ameno rifugio alla calura estiva, quando con piacevolissima brezza soffiavano i venti etesi.</a:t>
            </a:r>
            <a:br>
              <a:rPr sz="1400"/>
            </a:br>
            <a:r>
              <a:rPr b="0" lang="it-IT" sz="1400" spc="-1" strike="noStrike">
                <a:solidFill>
                  <a:srgbClr val="000000"/>
                </a:solidFill>
                <a:latin typeface="Times New Roman"/>
                <a:ea typeface="Times New Roman"/>
              </a:rPr>
              <a:t>8. In quella località vi era anche un tempietto, alto sul mare, consacrato ad Apollo. Dal promontorio uno stormo di corvi gracchianti si alzò in volo per dirigersi all'imbarcazione di Cicerone, che procedeva verso terra a forza di remi. Gli uccelli si posarono su entrambi i lati dell'antenna e in parte si misero a rumoreggiare, in parte spezzarono i capi delle corde. A tutti il presagio sembrò rivelarsi funesto.</a:t>
            </a:r>
            <a:br>
              <a:rPr sz="1400"/>
            </a:br>
            <a:r>
              <a:rPr b="0" lang="it-IT" sz="1400" spc="-1" strike="noStrike">
                <a:solidFill>
                  <a:srgbClr val="000000"/>
                </a:solidFill>
                <a:latin typeface="Times New Roman"/>
                <a:ea typeface="Times New Roman"/>
              </a:rPr>
              <a:t>9. </a:t>
            </a:r>
            <a:r>
              <a:rPr b="0" lang="it-IT" sz="1400" spc="-1" strike="noStrike">
                <a:solidFill>
                  <a:srgbClr val="ff0000"/>
                </a:solidFill>
                <a:latin typeface="Times New Roman"/>
                <a:ea typeface="Times New Roman"/>
              </a:rPr>
              <a:t>Cicerone, comunque, sbarcò e, recatosi nella sua </a:t>
            </a:r>
            <a:r>
              <a:rPr b="0" lang="it-IT" sz="1400" spc="-1" strike="noStrike">
                <a:solidFill>
                  <a:srgbClr val="000000"/>
                </a:solidFill>
                <a:latin typeface="Times New Roman"/>
                <a:ea typeface="Times New Roman"/>
              </a:rPr>
              <a:t>villa, si coricò per riposare. Ma i corvi si appollaiarono qua e là sulla finestra in gran numero, con grande frastuono; uno di essi, poi, volò giù sul letto, afferrò col becco la veste con cui Cicerone si era coperto il volto, e a poco a poco la sfilò via.</a:t>
            </a:r>
            <a:br>
              <a:rPr sz="1400"/>
            </a:br>
            <a:r>
              <a:rPr b="0" lang="it-IT" sz="1400" spc="-1" strike="noStrike">
                <a:solidFill>
                  <a:srgbClr val="000000"/>
                </a:solidFill>
                <a:latin typeface="Times New Roman"/>
                <a:ea typeface="Times New Roman"/>
              </a:rPr>
              <a:t>10</a:t>
            </a:r>
            <a:r>
              <a:rPr b="0" lang="it-IT" sz="1400" spc="-1" strike="noStrike">
                <a:solidFill>
                  <a:srgbClr val="ff0000"/>
                </a:solidFill>
                <a:latin typeface="Times New Roman"/>
                <a:ea typeface="Times New Roman"/>
              </a:rPr>
              <a:t>. I servi</a:t>
            </a:r>
            <a:r>
              <a:rPr b="0" lang="it-IT" sz="1400" spc="-1" strike="noStrike">
                <a:solidFill>
                  <a:srgbClr val="000000"/>
                </a:solidFill>
                <a:latin typeface="Times New Roman"/>
                <a:ea typeface="Times New Roman"/>
              </a:rPr>
              <a:t>, assistendo a uno spettacolo del genere, si rimproverarono di restare impotenti a guardare l'assassinio del loro padrone, senza difenderlo, mentre persino una bestiola cercava di soccorrerlo, prendendosi cura di lui, vittima di una sorte avversa: per questo, </a:t>
            </a:r>
            <a:r>
              <a:rPr b="0" lang="it-IT" sz="1400" spc="-1" strike="noStrike">
                <a:solidFill>
                  <a:srgbClr val="ff0000"/>
                </a:solidFill>
                <a:latin typeface="Times New Roman"/>
                <a:ea typeface="Times New Roman"/>
              </a:rPr>
              <a:t>un po' con le preghiere, un po' con la forza, lo sollevarono di peso e lo trasportarono in lettiga fino al mare.</a:t>
            </a:r>
            <a:br>
              <a:rPr sz="1400"/>
            </a:br>
            <a:r>
              <a:rPr b="0" lang="it-IT" sz="1400" spc="-1" strike="noStrike">
                <a:solidFill>
                  <a:srgbClr val="000000"/>
                </a:solidFill>
                <a:latin typeface="Times New Roman"/>
                <a:ea typeface="Times New Roman"/>
              </a:rPr>
              <a:t>XLVIII - 1. </a:t>
            </a:r>
            <a:r>
              <a:rPr b="0" lang="it-IT" sz="1400" spc="-1" strike="noStrike">
                <a:solidFill>
                  <a:srgbClr val="ff0000"/>
                </a:solidFill>
                <a:latin typeface="Times New Roman"/>
                <a:ea typeface="Times New Roman"/>
              </a:rPr>
              <a:t>Nel frattempo, sopraggiunsero i sicari: Erennio, un centurione</a:t>
            </a:r>
            <a:r>
              <a:rPr b="0" lang="it-IT" sz="1400" spc="-1" strike="noStrike">
                <a:solidFill>
                  <a:srgbClr val="000000"/>
                </a:solidFill>
                <a:latin typeface="Times New Roman"/>
                <a:ea typeface="Times New Roman"/>
              </a:rPr>
              <a:t>, e Popillio, tribuno militare che, a suo tempo, Cicerone aveva difeso dall'accusa di parricidio. Con loro, un gruppetto di soldati.</a:t>
            </a:r>
            <a:br>
              <a:rPr sz="1400"/>
            </a:br>
            <a:r>
              <a:rPr b="0" lang="it-IT" sz="1400" spc="-1" strike="noStrike">
                <a:solidFill>
                  <a:srgbClr val="000000"/>
                </a:solidFill>
                <a:latin typeface="Times New Roman"/>
                <a:ea typeface="Times New Roman"/>
              </a:rPr>
              <a:t>2. Trovando le porte serrate, le abbatterono a spallate, ma dentro Cicerone non c'era e i servi di casa ripetevano di non sapere dove fosse finito. Si racconta, però, che un giovinetto, a cui Cicerone aveva fatto da maestro negli studi letterari e scientifici, che formano l'uomo di condizione libera, liberto del fratello Quinto, di nome Filologo, rivelò al tribuno che l'oratore era diretto in lettiga verso il mare attraverso un percorso ombreggiato, segnato da alberi.</a:t>
            </a:r>
            <a:endParaRPr b="0" lang="en-US" sz="1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3. Il tribuno, allora, presi con sé pochi uomini, fece di corsa il giro della casa, dirigendosi verso l'uscita; Erennio, invece, si lanciò in gran fretta lungo i viali. Cicerone se ne accorse e ordinò ai suoi servi di depositare la portantina a terra.</a:t>
            </a:r>
            <a:br>
              <a:rPr sz="1600"/>
            </a:br>
            <a:r>
              <a:rPr b="0" lang="it-IT" sz="1600" spc="-1" strike="noStrike">
                <a:solidFill>
                  <a:srgbClr val="000000"/>
                </a:solidFill>
                <a:latin typeface="Times New Roman"/>
                <a:ea typeface="Times New Roman"/>
              </a:rPr>
              <a:t>4. Con un gesto che era solito fare, appoggiò il mento sulla mano sinistra e fissò lo sguardo in quello dei suoi assassini. I capelli erano sporchi e e arruffati, il volto segnato dalle preoccupazioni di quei giorni: quasi tutti i presenti preferirono coprirsi gli occhi, quando Erennio lo colpì a morte.</a:t>
            </a:r>
            <a:br>
              <a:rPr sz="1600"/>
            </a:br>
            <a:r>
              <a:rPr b="0" lang="it-IT" sz="1600" spc="-1" strike="noStrike">
                <a:solidFill>
                  <a:srgbClr val="000000"/>
                </a:solidFill>
                <a:latin typeface="Times New Roman"/>
                <a:ea typeface="Times New Roman"/>
              </a:rPr>
              <a:t>5. Fu ucciso mentre protendeva il collo dalla lettiga. Aveva sessantaquattro anni.</a:t>
            </a:r>
            <a:br>
              <a:rPr sz="1600"/>
            </a:br>
            <a:r>
              <a:rPr b="0" lang="it-IT" sz="1600" spc="-1" strike="noStrike">
                <a:solidFill>
                  <a:srgbClr val="000000"/>
                </a:solidFill>
                <a:latin typeface="Times New Roman"/>
                <a:ea typeface="Times New Roman"/>
              </a:rPr>
              <a:t>6. Per ordine di Antonio gli vennero tagliate la testa e anche le mani, perché con quelle aveva scritto le Filippiche. Era questo il titolo scelto da Cicerone per le sue invettive contro Antonio e ancora oggi l'opera si chiama così.</a:t>
            </a:r>
            <a:br>
              <a:rPr sz="1600"/>
            </a:br>
            <a:r>
              <a:rPr b="0" lang="it-IT" sz="1600" spc="-1" strike="noStrike">
                <a:solidFill>
                  <a:srgbClr val="000000"/>
                </a:solidFill>
                <a:latin typeface="Times New Roman"/>
                <a:ea typeface="Times New Roman"/>
              </a:rPr>
              <a:t>XLIX  - 1. Quando il corpo scempiato di Cicerone venne portato a Roma, Antonio era casualmente impegnato nell'elezione di alcuni magistrati. Appena ne ebbe notizia e vide con i suoi occhi, levò un grido e disse che ora le proscrizioni erano finite davvero.</a:t>
            </a:r>
            <a:br>
              <a:rPr sz="1600"/>
            </a:br>
            <a:r>
              <a:rPr b="0" lang="it-IT" sz="1600" spc="-1" strike="noStrike">
                <a:solidFill>
                  <a:srgbClr val="000000"/>
                </a:solidFill>
                <a:latin typeface="Times New Roman"/>
                <a:ea typeface="Times New Roman"/>
              </a:rPr>
              <a:t>2. </a:t>
            </a:r>
            <a:r>
              <a:rPr b="0" lang="it-IT" sz="1600" spc="-1" strike="noStrike">
                <a:solidFill>
                  <a:srgbClr val="ff0000"/>
                </a:solidFill>
                <a:latin typeface="Times New Roman"/>
                <a:ea typeface="Times New Roman"/>
              </a:rPr>
              <a:t>Comandò poi di porre testa e mani sopra i rostri che si trovano sulla tribuna degli oratori: uno spettacolo raccapricciante per i Romani, i quali credettero di vedere in quei tratti non il volto di Cicerone, ma l'immagine dell'animo di Antonio</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29600" cy="5616720"/>
          </a:xfrm>
          <a:prstGeom prst="rect">
            <a:avLst/>
          </a:prstGeom>
          <a:solidFill>
            <a:srgbClr val="d9d9d9"/>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Marco Tullio Cicerone </a:t>
            </a:r>
            <a:r>
              <a:rPr b="0" lang="it-IT" sz="1800" spc="-1" strike="noStrike">
                <a:solidFill>
                  <a:srgbClr val="000000"/>
                </a:solidFill>
                <a:latin typeface="Times New Roman"/>
                <a:ea typeface="Times New Roman"/>
              </a:rPr>
              <a:t>nacque nel 106 a.C. ad Arpino , nei pressi dell' attuale Frosinone , da agiata famiglia equestre ; </a:t>
            </a:r>
            <a:br>
              <a:rPr sz="1800"/>
            </a:br>
            <a:br>
              <a:rPr sz="1800"/>
            </a:br>
            <a:r>
              <a:rPr b="0" lang="it-IT" sz="1800" spc="-1" strike="noStrike">
                <a:solidFill>
                  <a:srgbClr val="000000"/>
                </a:solidFill>
                <a:latin typeface="Times New Roman"/>
                <a:ea typeface="Times New Roman"/>
              </a:rPr>
              <a:t>compì ottimi studi di retorica e di filosofia a Roma e iniziò a frequentare il foro sotto la guida del grande oratore Lucio Licinio Crasso e dei due Scevola . </a:t>
            </a:r>
            <a:br>
              <a:rPr sz="1800"/>
            </a:br>
            <a:br>
              <a:rPr sz="1800"/>
            </a:br>
            <a:r>
              <a:rPr b="0" lang="it-IT" sz="1800" spc="-1" strike="noStrike">
                <a:solidFill>
                  <a:srgbClr val="000000"/>
                </a:solidFill>
                <a:latin typeface="Times New Roman"/>
                <a:ea typeface="Times New Roman"/>
              </a:rPr>
              <a:t>Strinse con Tito Pomponio </a:t>
            </a:r>
            <a:r>
              <a:rPr b="1" lang="it-IT" sz="1800" spc="-1" strike="noStrike">
                <a:solidFill>
                  <a:srgbClr val="000000"/>
                </a:solidFill>
                <a:latin typeface="Times New Roman"/>
                <a:ea typeface="Times New Roman"/>
              </a:rPr>
              <a:t>Attico</a:t>
            </a:r>
            <a:r>
              <a:rPr b="0" lang="it-IT" sz="1800" spc="-1" strike="noStrike">
                <a:solidFill>
                  <a:srgbClr val="000000"/>
                </a:solidFill>
                <a:latin typeface="Times New Roman"/>
                <a:ea typeface="Times New Roman"/>
              </a:rPr>
              <a:t> (detto Attico per i continui viaggi in Grecia)  un' amicizia destinata a durare per tutta la vita . Pubblicherà le opere di Cicerone e di altri autori latini, un vero e proprio </a:t>
            </a:r>
            <a:r>
              <a:rPr b="1" lang="it-IT" sz="1800" spc="-1" strike="noStrike">
                <a:solidFill>
                  <a:srgbClr val="000000"/>
                </a:solidFill>
                <a:latin typeface="Times New Roman"/>
                <a:ea typeface="Times New Roman"/>
              </a:rPr>
              <a:t>editore</a:t>
            </a:r>
            <a:r>
              <a:rPr b="0" lang="it-IT" sz="1800" spc="-1" strike="noStrike">
                <a:solidFill>
                  <a:srgbClr val="000000"/>
                </a:solidFill>
                <a:latin typeface="Times New Roman"/>
                <a:ea typeface="Times New Roman"/>
              </a:rPr>
              <a:t>. </a:t>
            </a:r>
            <a:br>
              <a:rPr sz="1800"/>
            </a:br>
            <a:br>
              <a:rPr sz="1800"/>
            </a:br>
            <a:r>
              <a:rPr b="0" lang="it-IT" sz="1800" spc="-1" strike="noStrike">
                <a:solidFill>
                  <a:srgbClr val="000000"/>
                </a:solidFill>
                <a:latin typeface="Times New Roman"/>
                <a:ea typeface="Times New Roman"/>
              </a:rPr>
              <a:t> nell' 80 debuttò come avvocato  con la  Pro Se xto Roscio Armerino </a:t>
            </a:r>
            <a:br>
              <a:rPr sz="1800"/>
            </a:br>
            <a:r>
              <a:rPr b="0" lang="it-IT" sz="1800" spc="-1" strike="noStrike">
                <a:solidFill>
                  <a:srgbClr val="000000"/>
                </a:solidFill>
                <a:latin typeface="Times New Roman"/>
                <a:ea typeface="Times New Roman"/>
              </a:rPr>
              <a:t> ( il suo assistito era stato accusato di parricidio ) , che lo mise in conflitto con autorevoli esponenti del regime sillano . </a:t>
            </a:r>
            <a:br>
              <a:rPr sz="1800"/>
            </a:br>
            <a:br>
              <a:rPr sz="1800"/>
            </a:br>
            <a:r>
              <a:rPr b="0" lang="it-IT" sz="1800" spc="-1" strike="noStrike">
                <a:solidFill>
                  <a:srgbClr val="000000"/>
                </a:solidFill>
                <a:latin typeface="Times New Roman"/>
                <a:ea typeface="Times New Roman"/>
              </a:rPr>
              <a:t>Tra il 79 e il 77 si allontanò da Roma ( forse per paura di rappresaglie dopo il grande successo della sua orazione a difesa di Roscio ) ed effettuò un lungo viaggio in Grecia e in Asia dove studiò la filosofia e , sotto la guida di </a:t>
            </a:r>
            <a:r>
              <a:rPr b="1" lang="it-IT" sz="1800" spc="-1" strike="noStrike">
                <a:solidFill>
                  <a:srgbClr val="000000"/>
                </a:solidFill>
                <a:latin typeface="Times New Roman"/>
                <a:ea typeface="Times New Roman"/>
              </a:rPr>
              <a:t>Molone di Rodi </a:t>
            </a:r>
            <a:r>
              <a:rPr b="0" lang="it-IT" sz="1800" spc="-1" strike="noStrike">
                <a:solidFill>
                  <a:srgbClr val="000000"/>
                </a:solidFill>
                <a:latin typeface="Times New Roman"/>
                <a:ea typeface="Times New Roman"/>
              </a:rPr>
              <a:t>, la retorica . </a:t>
            </a:r>
            <a:br>
              <a:rPr sz="1400"/>
            </a:br>
            <a:endParaRPr b="0" lang="en-US" sz="1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Immagine 3" descr=""/>
          <p:cNvPicPr/>
          <p:nvPr/>
        </p:nvPicPr>
        <p:blipFill>
          <a:blip r:embed="rId1"/>
          <a:stretch/>
        </p:blipFill>
        <p:spPr>
          <a:xfrm>
            <a:off x="324000" y="944640"/>
            <a:ext cx="7991280" cy="4213080"/>
          </a:xfrm>
          <a:prstGeom prst="rect">
            <a:avLst/>
          </a:prstGeom>
          <a:ln w="0">
            <a:noFill/>
          </a:ln>
        </p:spPr>
      </p:pic>
      <p:sp>
        <p:nvSpPr>
          <p:cNvPr id="393" name="PlaceHolder 1"/>
          <p:cNvSpPr>
            <a:spLocks noGrp="1"/>
          </p:cNvSpPr>
          <p:nvPr>
            <p:ph type="title"/>
          </p:nvPr>
        </p:nvSpPr>
        <p:spPr>
          <a:xfrm>
            <a:off x="1979280" y="-360"/>
            <a:ext cx="4762440" cy="849240"/>
          </a:xfrm>
          <a:prstGeom prst="rect">
            <a:avLst/>
          </a:prstGeom>
          <a:solidFill>
            <a:srgbClr val="d9d9d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Immagine 4" descr=""/>
          <p:cNvPicPr/>
          <p:nvPr/>
        </p:nvPicPr>
        <p:blipFill>
          <a:blip r:embed="rId1"/>
          <a:stretch/>
        </p:blipFill>
        <p:spPr>
          <a:xfrm>
            <a:off x="828720" y="109440"/>
            <a:ext cx="7493040" cy="6639120"/>
          </a:xfrm>
          <a:prstGeom prst="rect">
            <a:avLst/>
          </a:prstGeom>
          <a:ln w="0">
            <a:noFill/>
          </a:ln>
        </p:spPr>
      </p:pic>
      <p:sp>
        <p:nvSpPr>
          <p:cNvPr id="395" name="Freccia in giù 3"/>
          <p:cNvSpPr/>
          <p:nvPr/>
        </p:nvSpPr>
        <p:spPr>
          <a:xfrm rot="2573400">
            <a:off x="4325400" y="5411880"/>
            <a:ext cx="289080" cy="447480"/>
          </a:xfrm>
          <a:custGeom>
            <a:avLst/>
            <a:gdLst>
              <a:gd name="textAreaLeft" fmla="*/ 72000 w 289080"/>
              <a:gd name="textAreaRight" fmla="*/ 217080 w 289080"/>
              <a:gd name="textAreaTop" fmla="*/ 0 h 447480"/>
              <a:gd name="textAreaBottom" fmla="*/ 375480 h 447480"/>
            </a:gdLst>
            <a:ahLst/>
            <a:rect l="textAreaLeft" t="textAreaTop" r="textAreaRight" b="textAreaBottom"/>
            <a:pathLst>
              <a:path w="21600" h="21600">
                <a:moveTo>
                  <a:pt x="5400" y="0"/>
                </a:moveTo>
                <a:lnTo>
                  <a:pt x="5400" y="14630"/>
                </a:lnTo>
                <a:lnTo>
                  <a:pt x="0" y="14630"/>
                </a:lnTo>
                <a:lnTo>
                  <a:pt x="10800" y="21600"/>
                </a:lnTo>
                <a:lnTo>
                  <a:pt x="21600" y="14630"/>
                </a:lnTo>
                <a:lnTo>
                  <a:pt x="16200" y="14630"/>
                </a:lnTo>
                <a:lnTo>
                  <a:pt x="16200" y="0"/>
                </a:lnTo>
                <a:close/>
              </a:path>
            </a:pathLst>
          </a:custGeom>
          <a:solidFill>
            <a:srgbClr val="ff0000"/>
          </a:solidFill>
          <a:ln w="25560">
            <a:solidFill>
              <a:srgbClr val="f30d7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7" name="Titolo 3"/>
          <p:cNvSpPr/>
          <p:nvPr/>
        </p:nvSpPr>
        <p:spPr>
          <a:xfrm>
            <a:off x="250920" y="1052640"/>
            <a:ext cx="8229600" cy="56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l ritorno sposò Terenzia , dalla quale nacquero Tullia ( che Cicerone appellò affettuosamente " Tulliola " ) , nel 76 , e Marco , nel 6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75 fu </a:t>
            </a:r>
            <a:r>
              <a:rPr b="0" lang="it-IT" sz="1800" spc="-1" strike="noStrike">
                <a:solidFill>
                  <a:srgbClr val="0070c0"/>
                </a:solidFill>
                <a:latin typeface="Times New Roman"/>
                <a:ea typeface="Times New Roman"/>
              </a:rPr>
              <a:t>questore</a:t>
            </a:r>
            <a:r>
              <a:rPr b="0" lang="it-IT" sz="1800" spc="-1" strike="noStrike">
                <a:solidFill>
                  <a:srgbClr val="000000"/>
                </a:solidFill>
                <a:latin typeface="Times New Roman"/>
                <a:ea typeface="Times New Roman"/>
              </a:rPr>
              <a:t> di Sicilia . Corretto e puntigli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70 sostenne trionfalmente l' accusa dei Siciliani contro l' ex governatore </a:t>
            </a:r>
            <a:r>
              <a:rPr b="0" lang="it-IT" sz="1800" spc="-1" strike="noStrike">
                <a:solidFill>
                  <a:srgbClr val="ff0000"/>
                </a:solidFill>
                <a:latin typeface="Times New Roman"/>
                <a:ea typeface="Times New Roman"/>
              </a:rPr>
              <a:t>Verre </a:t>
            </a:r>
            <a:r>
              <a:rPr b="0" lang="it-IT" sz="1800" spc="-1" strike="noStrike">
                <a:solidFill>
                  <a:srgbClr val="000000"/>
                </a:solidFill>
                <a:latin typeface="Times New Roman"/>
                <a:ea typeface="Times New Roman"/>
              </a:rPr>
              <a:t>, accusato di truffa e di empietà . Sette </a:t>
            </a:r>
            <a:r>
              <a:rPr b="1" lang="it-IT" sz="1800" spc="-1" strike="noStrike">
                <a:solidFill>
                  <a:srgbClr val="0070c0"/>
                </a:solidFill>
                <a:latin typeface="Times New Roman"/>
                <a:ea typeface="Times New Roman"/>
              </a:rPr>
              <a:t>Verrine </a:t>
            </a:r>
            <a:r>
              <a:rPr b="0" lang="it-IT" sz="1800" spc="-1" strike="noStrike">
                <a:solidFill>
                  <a:srgbClr val="000000"/>
                </a:solidFill>
                <a:latin typeface="Times New Roman"/>
                <a:ea typeface="Times New Roman"/>
              </a:rPr>
              <a:t>di cui furono pronunciate solo le prim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69 fu</a:t>
            </a:r>
            <a:r>
              <a:rPr b="0" lang="it-IT" sz="1800" spc="-1" strike="noStrike">
                <a:solidFill>
                  <a:srgbClr val="0070c0"/>
                </a:solidFill>
                <a:latin typeface="Times New Roman"/>
                <a:ea typeface="Times New Roman"/>
              </a:rPr>
              <a:t> edile </a:t>
            </a:r>
            <a:r>
              <a:rPr b="0" lang="it-IT" sz="1800" spc="-1" strike="noStrike">
                <a:solidFill>
                  <a:srgbClr val="000000"/>
                </a:solidFill>
                <a:latin typeface="Times New Roman"/>
                <a:ea typeface="Times New Roman"/>
              </a:rPr>
              <a:t>anche grazie all’appoggio di Pompe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66 </a:t>
            </a:r>
            <a:r>
              <a:rPr b="0" lang="it-IT" sz="1800" spc="-1" strike="noStrike">
                <a:solidFill>
                  <a:srgbClr val="0070c0"/>
                </a:solidFill>
                <a:latin typeface="Times New Roman"/>
                <a:ea typeface="Times New Roman"/>
              </a:rPr>
              <a:t>pretore</a:t>
            </a:r>
            <a:r>
              <a:rPr b="0" lang="it-IT" sz="1800" spc="-1" strike="noStrike">
                <a:solidFill>
                  <a:srgbClr val="000000"/>
                </a:solidFill>
                <a:latin typeface="Times New Roman"/>
                <a:ea typeface="Times New Roman"/>
              </a:rPr>
              <a:t> e diede il suo </a:t>
            </a:r>
            <a:r>
              <a:rPr b="0" lang="it-IT" sz="1800" spc="-1" strike="noStrike">
                <a:solidFill>
                  <a:srgbClr val="ff0000"/>
                </a:solidFill>
                <a:latin typeface="Times New Roman"/>
                <a:ea typeface="Times New Roman"/>
              </a:rPr>
              <a:t>appoggio alla proposta di concedere a Pompeo </a:t>
            </a:r>
            <a:r>
              <a:rPr b="0" lang="it-IT" sz="1800" spc="-1" strike="noStrike">
                <a:solidFill>
                  <a:srgbClr val="000000"/>
                </a:solidFill>
                <a:latin typeface="Times New Roman"/>
                <a:ea typeface="Times New Roman"/>
              </a:rPr>
              <a:t>poteri straordinari per la lotta contro il re del Ponto , Mitridate , facendo così gli interessi degli </a:t>
            </a:r>
            <a:r>
              <a:rPr b="0" i="1" lang="it-IT" sz="1800" spc="-1" strike="noStrike">
                <a:solidFill>
                  <a:srgbClr val="000000"/>
                </a:solidFill>
                <a:latin typeface="Times New Roman"/>
                <a:ea typeface="Times New Roman"/>
              </a:rPr>
              <a:t>equites</a:t>
            </a:r>
            <a:r>
              <a:rPr b="0" lang="it-IT" sz="1800" spc="-1" strike="noStrike">
                <a:solidFill>
                  <a:srgbClr val="000000"/>
                </a:solidFill>
                <a:latin typeface="Times New Roman"/>
                <a:ea typeface="Times New Roman"/>
              </a:rPr>
              <a:t> ( lui stesso era di famiglia equestre ) che venivano ostacolati nel loro lavoro di esattori delle imposte da Mitridate </a:t>
            </a:r>
            <a:r>
              <a:rPr b="1" lang="it-IT" sz="1800" spc="-1" strike="noStrike">
                <a:solidFill>
                  <a:srgbClr val="0070c0"/>
                </a:solidFill>
                <a:latin typeface="Times New Roman"/>
                <a:ea typeface="Times New Roman"/>
              </a:rPr>
              <a:t> " Pro lege Manlia " </a:t>
            </a:r>
            <a:r>
              <a:rPr b="0" lang="it-IT" sz="1800" spc="-1" strike="noStrike">
                <a:solidFill>
                  <a:srgbClr val="000000"/>
                </a:solidFill>
                <a:latin typeface="Times New Roman"/>
                <a:ea typeface="Times New Roman"/>
              </a:rPr>
              <a:t>in favore della legge proposta dal tribuno Manilio che prevedeva , come detto , la connessione a Pompeo di poteri straordinari su tutto l' Oriente , e la " De imperio Gnaei Pomp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
          <p:cNvSpPr/>
          <p:nvPr/>
        </p:nvSpPr>
        <p:spPr>
          <a:xfrm>
            <a:off x="-13245480" y="-720"/>
            <a:ext cx="35635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el 69 fu edile , nel 66 pretore e diede il suo appoggio alla proposta di concedere a Pompeo poteri straordinari per la lotta contro il re del Ponto , Mitridate , facendo così gli interessi degli </a:t>
            </a:r>
            <a:r>
              <a:rPr b="0" i="1" lang="it-IT" sz="1200" spc="-1" strike="noStrike">
                <a:solidFill>
                  <a:srgbClr val="000000"/>
                </a:solidFill>
                <a:latin typeface="Times New Roman"/>
                <a:ea typeface="Calibri"/>
              </a:rPr>
              <a:t>equites</a:t>
            </a:r>
            <a:r>
              <a:rPr b="0" lang="it-IT" sz="1200" spc="-1" strike="noStrike">
                <a:solidFill>
                  <a:srgbClr val="000000"/>
                </a:solidFill>
                <a:latin typeface="Times New Roman"/>
                <a:ea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 ( in un secondo tempo ripudiata da Cicerone stesso ) nella quale appunto prendeva le difese degli equites e che può essere considerata il suo punto di massimo avvicinamento alla politica dei </a:t>
            </a:r>
            <a:r>
              <a:rPr b="0" i="1" lang="it-IT" sz="1200" spc="-1" strike="noStrike">
                <a:solidFill>
                  <a:srgbClr val="000000"/>
                </a:solidFill>
                <a:latin typeface="Times New Roman"/>
                <a:ea typeface="Calibri"/>
              </a:rPr>
              <a:t>populares</a:t>
            </a:r>
            <a:r>
              <a:rPr b="0" lang="it-IT" sz="1200" spc="-1" strike="noStrike">
                <a:solidFill>
                  <a:srgbClr val="000000"/>
                </a:solidFill>
                <a:latin typeface="Times New Roman"/>
                <a:ea typeface="Calibri"/>
              </a:rPr>
              <a:t> , la fazione a lui avversa ( Cicerone era uno degli </a:t>
            </a:r>
            <a:r>
              <a:rPr b="0" i="1" lang="it-IT" sz="1200" spc="-1" strike="noStrike">
                <a:solidFill>
                  <a:srgbClr val="000000"/>
                </a:solidFill>
                <a:latin typeface="Times New Roman"/>
                <a:ea typeface="Calibri"/>
              </a:rPr>
              <a:t>optimates</a:t>
            </a:r>
            <a:r>
              <a:rPr b="0" lang="it-IT" sz="1200" spc="-1" strike="noStrike">
                <a:solidFill>
                  <a:srgbClr val="000000"/>
                </a:solidFill>
                <a:latin typeface="Times New Roman"/>
                <a:ea typeface="Calibri"/>
              </a:rPr>
              <a:t> ) . </a:t>
            </a:r>
            <a:endParaRPr b="0" lang="en-US" sz="1200" spc="-1" strike="noStrike">
              <a:solidFill>
                <a:srgbClr val="000000"/>
              </a:solidFill>
              <a:latin typeface="Arial"/>
            </a:endParaRPr>
          </a:p>
        </p:txBody>
      </p:sp>
      <p:grpSp>
        <p:nvGrpSpPr>
          <p:cNvPr id="59" name="Gruppo 18"/>
          <p:cNvGrpSpPr/>
          <p:nvPr/>
        </p:nvGrpSpPr>
        <p:grpSpPr>
          <a:xfrm>
            <a:off x="4116240" y="731880"/>
            <a:ext cx="4876920" cy="5116320"/>
            <a:chOff x="4116240" y="731880"/>
            <a:chExt cx="4876920" cy="5116320"/>
          </a:xfrm>
        </p:grpSpPr>
        <p:sp>
          <p:nvSpPr>
            <p:cNvPr id="60" name="6e6163a6-e78f-4bbd-afaf-f4f8d585c6d1"/>
            <p:cNvSpPr/>
            <p:nvPr/>
          </p:nvSpPr>
          <p:spPr>
            <a:xfrm>
              <a:off x="7331760" y="583956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4465" y="4464"/>
                  </a:lnTo>
                  <a:lnTo>
                    <a:pt x="8930" y="8929"/>
                  </a:lnTo>
                </a:path>
              </a:pathLst>
            </a:custGeom>
            <a:noFill/>
            <a:ln w="17640">
              <a:solidFill>
                <a:srgbClr val="ff0000"/>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61" name="038ad430-8d1b-4ee2-8cc4-d88bd4168ce0"/>
            <p:cNvSpPr/>
            <p:nvPr/>
          </p:nvSpPr>
          <p:spPr>
            <a:xfrm>
              <a:off x="4116240" y="927000"/>
              <a:ext cx="224640" cy="236520"/>
            </a:xfrm>
            <a:custGeom>
              <a:avLst/>
              <a:gdLst>
                <a:gd name="textAreaLeft" fmla="*/ 0 w 224640"/>
                <a:gd name="textAreaRight" fmla="*/ 225000 w 224640"/>
                <a:gd name="textAreaTop" fmla="*/ 0 h 236520"/>
                <a:gd name="textAreaBottom" fmla="*/ 236880 h 236520"/>
              </a:gdLst>
              <a:ahLst/>
              <a:rect l="textAreaLeft" t="textAreaTop" r="textAreaRight" b="textAreaBottom"/>
              <a:pathLst>
                <a:path w="224916" h="236637">
                  <a:moveTo>
                    <a:pt x="98785" y="1675"/>
                  </a:moveTo>
                  <a:lnTo>
                    <a:pt x="95436" y="558"/>
                  </a:lnTo>
                  <a:lnTo>
                    <a:pt x="89855" y="1675"/>
                  </a:lnTo>
                  <a:lnTo>
                    <a:pt x="85948" y="10046"/>
                  </a:lnTo>
                  <a:lnTo>
                    <a:pt x="80925" y="19534"/>
                  </a:lnTo>
                  <a:lnTo>
                    <a:pt x="73112" y="27347"/>
                  </a:lnTo>
                  <a:lnTo>
                    <a:pt x="63066" y="37393"/>
                  </a:lnTo>
                  <a:lnTo>
                    <a:pt x="50229" y="53578"/>
                  </a:lnTo>
                  <a:lnTo>
                    <a:pt x="36277" y="73112"/>
                  </a:lnTo>
                  <a:lnTo>
                    <a:pt x="21766" y="95994"/>
                  </a:lnTo>
                  <a:lnTo>
                    <a:pt x="9488" y="117760"/>
                  </a:lnTo>
                  <a:lnTo>
                    <a:pt x="3348" y="132271"/>
                  </a:lnTo>
                  <a:lnTo>
                    <a:pt x="558" y="144550"/>
                  </a:lnTo>
                  <a:lnTo>
                    <a:pt x="0" y="158502"/>
                  </a:lnTo>
                  <a:lnTo>
                    <a:pt x="558" y="171339"/>
                  </a:lnTo>
                  <a:lnTo>
                    <a:pt x="0" y="181384"/>
                  </a:lnTo>
                  <a:lnTo>
                    <a:pt x="558" y="189198"/>
                  </a:lnTo>
                  <a:lnTo>
                    <a:pt x="9488" y="207057"/>
                  </a:lnTo>
                  <a:lnTo>
                    <a:pt x="17859" y="216545"/>
                  </a:lnTo>
                  <a:lnTo>
                    <a:pt x="27347" y="224917"/>
                  </a:lnTo>
                  <a:lnTo>
                    <a:pt x="35719" y="230498"/>
                  </a:lnTo>
                  <a:lnTo>
                    <a:pt x="45206" y="233846"/>
                  </a:lnTo>
                  <a:lnTo>
                    <a:pt x="56368" y="234404"/>
                  </a:lnTo>
                  <a:lnTo>
                    <a:pt x="63066" y="233846"/>
                  </a:lnTo>
                  <a:lnTo>
                    <a:pt x="71995" y="233846"/>
                  </a:lnTo>
                  <a:lnTo>
                    <a:pt x="85390" y="234963"/>
                  </a:lnTo>
                  <a:lnTo>
                    <a:pt x="101575" y="236079"/>
                  </a:lnTo>
                  <a:lnTo>
                    <a:pt x="118876" y="236637"/>
                  </a:lnTo>
                  <a:lnTo>
                    <a:pt x="134503" y="233846"/>
                  </a:lnTo>
                  <a:lnTo>
                    <a:pt x="149014" y="227707"/>
                  </a:lnTo>
                  <a:lnTo>
                    <a:pt x="163525" y="218778"/>
                  </a:lnTo>
                  <a:lnTo>
                    <a:pt x="188081" y="198128"/>
                  </a:lnTo>
                  <a:lnTo>
                    <a:pt x="204266" y="179710"/>
                  </a:lnTo>
                  <a:lnTo>
                    <a:pt x="214870" y="162409"/>
                  </a:lnTo>
                  <a:lnTo>
                    <a:pt x="221010" y="149014"/>
                  </a:lnTo>
                  <a:lnTo>
                    <a:pt x="223800" y="135620"/>
                  </a:lnTo>
                  <a:lnTo>
                    <a:pt x="224358" y="117202"/>
                  </a:lnTo>
                  <a:lnTo>
                    <a:pt x="223800" y="99901"/>
                  </a:lnTo>
                  <a:lnTo>
                    <a:pt x="224916" y="90413"/>
                  </a:lnTo>
                  <a:lnTo>
                    <a:pt x="223800" y="82042"/>
                  </a:lnTo>
                  <a:lnTo>
                    <a:pt x="216545" y="69205"/>
                  </a:lnTo>
                  <a:lnTo>
                    <a:pt x="205941" y="55253"/>
                  </a:lnTo>
                  <a:lnTo>
                    <a:pt x="192546" y="41300"/>
                  </a:lnTo>
                  <a:lnTo>
                    <a:pt x="179152" y="28464"/>
                  </a:lnTo>
                  <a:lnTo>
                    <a:pt x="169664" y="18418"/>
                  </a:lnTo>
                  <a:lnTo>
                    <a:pt x="161292" y="10604"/>
                  </a:lnTo>
                  <a:lnTo>
                    <a:pt x="153479" y="5023"/>
                  </a:lnTo>
                  <a:lnTo>
                    <a:pt x="143433" y="1675"/>
                  </a:lnTo>
                  <a:lnTo>
                    <a:pt x="126132" y="0"/>
                  </a:lnTo>
                  <a:lnTo>
                    <a:pt x="107714" y="1675"/>
                  </a:lnTo>
                  <a:lnTo>
                    <a:pt x="92087" y="10604"/>
                  </a:lnTo>
                  <a:lnTo>
                    <a:pt x="80925" y="1953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2" name="42082854-0d58-40b3-9015-bb7791bc41b3"/>
            <p:cNvSpPr/>
            <p:nvPr/>
          </p:nvSpPr>
          <p:spPr>
            <a:xfrm>
              <a:off x="4366080" y="731880"/>
              <a:ext cx="357480" cy="387720"/>
            </a:xfrm>
            <a:custGeom>
              <a:avLst/>
              <a:gdLst>
                <a:gd name="textAreaLeft" fmla="*/ 0 w 357480"/>
                <a:gd name="textAreaRight" fmla="*/ 357840 w 357480"/>
                <a:gd name="textAreaTop" fmla="*/ 0 h 387720"/>
                <a:gd name="textAreaBottom" fmla="*/ 388080 h 387720"/>
              </a:gdLst>
              <a:ahLst/>
              <a:rect l="textAreaLeft" t="textAreaTop" r="textAreaRight" b="textAreaBottom"/>
              <a:pathLst>
                <a:path w="357746" h="387884">
                  <a:moveTo>
                    <a:pt x="71996" y="9488"/>
                  </a:moveTo>
                  <a:lnTo>
                    <a:pt x="74228" y="7256"/>
                  </a:lnTo>
                  <a:lnTo>
                    <a:pt x="77019" y="2791"/>
                  </a:lnTo>
                  <a:lnTo>
                    <a:pt x="79809" y="0"/>
                  </a:lnTo>
                  <a:lnTo>
                    <a:pt x="80925" y="558"/>
                  </a:lnTo>
                  <a:lnTo>
                    <a:pt x="80367" y="6139"/>
                  </a:lnTo>
                  <a:lnTo>
                    <a:pt x="78135" y="15627"/>
                  </a:lnTo>
                  <a:lnTo>
                    <a:pt x="71996" y="36277"/>
                  </a:lnTo>
                  <a:lnTo>
                    <a:pt x="63624" y="51904"/>
                  </a:lnTo>
                  <a:lnTo>
                    <a:pt x="59159" y="60834"/>
                  </a:lnTo>
                  <a:lnTo>
                    <a:pt x="54136" y="71996"/>
                  </a:lnTo>
                  <a:lnTo>
                    <a:pt x="49671" y="88181"/>
                  </a:lnTo>
                  <a:lnTo>
                    <a:pt x="44649" y="107157"/>
                  </a:lnTo>
                  <a:lnTo>
                    <a:pt x="40184" y="126690"/>
                  </a:lnTo>
                  <a:lnTo>
                    <a:pt x="36277" y="143433"/>
                  </a:lnTo>
                  <a:lnTo>
                    <a:pt x="33486" y="156270"/>
                  </a:lnTo>
                  <a:lnTo>
                    <a:pt x="31812" y="166874"/>
                  </a:lnTo>
                  <a:lnTo>
                    <a:pt x="27347" y="188082"/>
                  </a:lnTo>
                  <a:lnTo>
                    <a:pt x="18418" y="215987"/>
                  </a:lnTo>
                  <a:lnTo>
                    <a:pt x="9488" y="241660"/>
                  </a:lnTo>
                  <a:lnTo>
                    <a:pt x="3907" y="261194"/>
                  </a:lnTo>
                  <a:lnTo>
                    <a:pt x="558" y="277379"/>
                  </a:lnTo>
                  <a:lnTo>
                    <a:pt x="558" y="304168"/>
                  </a:lnTo>
                  <a:lnTo>
                    <a:pt x="0" y="313097"/>
                  </a:lnTo>
                  <a:lnTo>
                    <a:pt x="558" y="322027"/>
                  </a:lnTo>
                  <a:lnTo>
                    <a:pt x="3907" y="336538"/>
                  </a:lnTo>
                  <a:lnTo>
                    <a:pt x="9488" y="348816"/>
                  </a:lnTo>
                  <a:lnTo>
                    <a:pt x="17301" y="354397"/>
                  </a:lnTo>
                  <a:lnTo>
                    <a:pt x="27347" y="357746"/>
                  </a:lnTo>
                  <a:lnTo>
                    <a:pt x="37393" y="363327"/>
                  </a:lnTo>
                  <a:lnTo>
                    <a:pt x="44090" y="365559"/>
                  </a:lnTo>
                  <a:lnTo>
                    <a:pt x="54136" y="366676"/>
                  </a:lnTo>
                  <a:lnTo>
                    <a:pt x="69763" y="367792"/>
                  </a:lnTo>
                  <a:lnTo>
                    <a:pt x="89297" y="368908"/>
                  </a:lnTo>
                  <a:lnTo>
                    <a:pt x="109389" y="368908"/>
                  </a:lnTo>
                  <a:lnTo>
                    <a:pt x="125574" y="366676"/>
                  </a:lnTo>
                  <a:lnTo>
                    <a:pt x="137294" y="362211"/>
                  </a:lnTo>
                  <a:lnTo>
                    <a:pt x="145666" y="355513"/>
                  </a:lnTo>
                  <a:lnTo>
                    <a:pt x="161293" y="339887"/>
                  </a:lnTo>
                  <a:lnTo>
                    <a:pt x="180268" y="322027"/>
                  </a:lnTo>
                  <a:lnTo>
                    <a:pt x="197011" y="304168"/>
                  </a:lnTo>
                  <a:lnTo>
                    <a:pt x="223800" y="277379"/>
                  </a:lnTo>
                  <a:lnTo>
                    <a:pt x="234404" y="263426"/>
                  </a:lnTo>
                  <a:lnTo>
                    <a:pt x="241660" y="250590"/>
                  </a:lnTo>
                  <a:lnTo>
                    <a:pt x="242776" y="241102"/>
                  </a:lnTo>
                  <a:lnTo>
                    <a:pt x="241660" y="232730"/>
                  </a:lnTo>
                  <a:lnTo>
                    <a:pt x="246125" y="224917"/>
                  </a:lnTo>
                  <a:lnTo>
                    <a:pt x="250589" y="214871"/>
                  </a:lnTo>
                  <a:lnTo>
                    <a:pt x="252264" y="200918"/>
                  </a:lnTo>
                  <a:lnTo>
                    <a:pt x="250589" y="188082"/>
                  </a:lnTo>
                  <a:lnTo>
                    <a:pt x="242776" y="181385"/>
                  </a:lnTo>
                  <a:lnTo>
                    <a:pt x="232730" y="179152"/>
                  </a:lnTo>
                  <a:lnTo>
                    <a:pt x="223800" y="180826"/>
                  </a:lnTo>
                  <a:lnTo>
                    <a:pt x="214871" y="188082"/>
                  </a:lnTo>
                  <a:lnTo>
                    <a:pt x="205383" y="202593"/>
                  </a:lnTo>
                  <a:lnTo>
                    <a:pt x="197011" y="223801"/>
                  </a:lnTo>
                  <a:lnTo>
                    <a:pt x="193663" y="238311"/>
                  </a:lnTo>
                  <a:lnTo>
                    <a:pt x="190872" y="254496"/>
                  </a:lnTo>
                  <a:lnTo>
                    <a:pt x="188640" y="271240"/>
                  </a:lnTo>
                  <a:lnTo>
                    <a:pt x="188082" y="286308"/>
                  </a:lnTo>
                  <a:lnTo>
                    <a:pt x="191988" y="310307"/>
                  </a:lnTo>
                  <a:lnTo>
                    <a:pt x="197011" y="330957"/>
                  </a:lnTo>
                  <a:lnTo>
                    <a:pt x="196453" y="350491"/>
                  </a:lnTo>
                  <a:lnTo>
                    <a:pt x="197011" y="366676"/>
                  </a:lnTo>
                  <a:lnTo>
                    <a:pt x="202034" y="377838"/>
                  </a:lnTo>
                  <a:lnTo>
                    <a:pt x="207057" y="381744"/>
                  </a:lnTo>
                  <a:lnTo>
                    <a:pt x="214871" y="384535"/>
                  </a:lnTo>
                  <a:lnTo>
                    <a:pt x="228265" y="386767"/>
                  </a:lnTo>
                  <a:lnTo>
                    <a:pt x="245008" y="387884"/>
                  </a:lnTo>
                  <a:lnTo>
                    <a:pt x="262868" y="387325"/>
                  </a:lnTo>
                  <a:lnTo>
                    <a:pt x="277379" y="384535"/>
                  </a:lnTo>
                  <a:lnTo>
                    <a:pt x="288541" y="378396"/>
                  </a:lnTo>
                  <a:lnTo>
                    <a:pt x="296912" y="369466"/>
                  </a:lnTo>
                  <a:lnTo>
                    <a:pt x="313097" y="348816"/>
                  </a:lnTo>
                  <a:lnTo>
                    <a:pt x="332631" y="329841"/>
                  </a:lnTo>
                  <a:lnTo>
                    <a:pt x="348816" y="313097"/>
                  </a:lnTo>
                  <a:lnTo>
                    <a:pt x="356071" y="301935"/>
                  </a:lnTo>
                  <a:lnTo>
                    <a:pt x="357746" y="295238"/>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3" name="7a3b362d-a0ad-4eed-b04f-34ef1fef7551"/>
            <p:cNvSpPr/>
            <p:nvPr/>
          </p:nvSpPr>
          <p:spPr>
            <a:xfrm>
              <a:off x="5062320" y="908640"/>
              <a:ext cx="465480" cy="341280"/>
            </a:xfrm>
            <a:custGeom>
              <a:avLst/>
              <a:gdLst>
                <a:gd name="textAreaLeft" fmla="*/ 0 w 465480"/>
                <a:gd name="textAreaRight" fmla="*/ 465840 w 465480"/>
                <a:gd name="textAreaTop" fmla="*/ 0 h 341280"/>
                <a:gd name="textAreaBottom" fmla="*/ 341640 h 341280"/>
              </a:gdLst>
              <a:ahLst/>
              <a:rect l="textAreaLeft" t="textAreaTop" r="textAreaRight" b="textAreaBottom"/>
              <a:pathLst>
                <a:path w="465460" h="341560">
                  <a:moveTo>
                    <a:pt x="1116" y="145107"/>
                  </a:moveTo>
                  <a:lnTo>
                    <a:pt x="0" y="141758"/>
                  </a:lnTo>
                  <a:lnTo>
                    <a:pt x="1116" y="136177"/>
                  </a:lnTo>
                  <a:lnTo>
                    <a:pt x="9487" y="132829"/>
                  </a:lnTo>
                  <a:lnTo>
                    <a:pt x="18975" y="127248"/>
                  </a:lnTo>
                  <a:lnTo>
                    <a:pt x="27905" y="115528"/>
                  </a:lnTo>
                  <a:lnTo>
                    <a:pt x="36835" y="100459"/>
                  </a:lnTo>
                  <a:lnTo>
                    <a:pt x="47997" y="82041"/>
                  </a:lnTo>
                  <a:lnTo>
                    <a:pt x="53020" y="72553"/>
                  </a:lnTo>
                  <a:lnTo>
                    <a:pt x="54694" y="64740"/>
                  </a:lnTo>
                  <a:lnTo>
                    <a:pt x="52462" y="59159"/>
                  </a:lnTo>
                  <a:lnTo>
                    <a:pt x="47439" y="54694"/>
                  </a:lnTo>
                  <a:lnTo>
                    <a:pt x="36835" y="46881"/>
                  </a:lnTo>
                  <a:lnTo>
                    <a:pt x="32370" y="37393"/>
                  </a:lnTo>
                  <a:lnTo>
                    <a:pt x="27905" y="29021"/>
                  </a:lnTo>
                  <a:lnTo>
                    <a:pt x="22324" y="26231"/>
                  </a:lnTo>
                  <a:lnTo>
                    <a:pt x="15068" y="23440"/>
                  </a:lnTo>
                  <a:lnTo>
                    <a:pt x="10046" y="21766"/>
                  </a:lnTo>
                  <a:lnTo>
                    <a:pt x="10046" y="20092"/>
                  </a:lnTo>
                  <a:lnTo>
                    <a:pt x="17859" y="20092"/>
                  </a:lnTo>
                  <a:lnTo>
                    <a:pt x="31254" y="20092"/>
                  </a:lnTo>
                  <a:lnTo>
                    <a:pt x="63624" y="20092"/>
                  </a:lnTo>
                  <a:lnTo>
                    <a:pt x="81483" y="18975"/>
                  </a:lnTo>
                  <a:lnTo>
                    <a:pt x="101017" y="16743"/>
                  </a:lnTo>
                  <a:lnTo>
                    <a:pt x="119992" y="13952"/>
                  </a:lnTo>
                  <a:lnTo>
                    <a:pt x="135061" y="11162"/>
                  </a:lnTo>
                  <a:lnTo>
                    <a:pt x="145107" y="8929"/>
                  </a:lnTo>
                  <a:lnTo>
                    <a:pt x="151804" y="6139"/>
                  </a:lnTo>
                  <a:lnTo>
                    <a:pt x="161850" y="2232"/>
                  </a:lnTo>
                  <a:lnTo>
                    <a:pt x="173570" y="0"/>
                  </a:lnTo>
                  <a:lnTo>
                    <a:pt x="178035" y="0"/>
                  </a:lnTo>
                  <a:lnTo>
                    <a:pt x="179710" y="2232"/>
                  </a:lnTo>
                  <a:lnTo>
                    <a:pt x="178035" y="7255"/>
                  </a:lnTo>
                  <a:lnTo>
                    <a:pt x="173570" y="13952"/>
                  </a:lnTo>
                  <a:lnTo>
                    <a:pt x="161850" y="29021"/>
                  </a:lnTo>
                  <a:lnTo>
                    <a:pt x="148456" y="42416"/>
                  </a:lnTo>
                  <a:lnTo>
                    <a:pt x="135061" y="55810"/>
                  </a:lnTo>
                  <a:lnTo>
                    <a:pt x="125015" y="66414"/>
                  </a:lnTo>
                  <a:lnTo>
                    <a:pt x="121108" y="73112"/>
                  </a:lnTo>
                  <a:lnTo>
                    <a:pt x="117202" y="82599"/>
                  </a:lnTo>
                  <a:lnTo>
                    <a:pt x="114411" y="98784"/>
                  </a:lnTo>
                  <a:lnTo>
                    <a:pt x="111621" y="119434"/>
                  </a:lnTo>
                  <a:lnTo>
                    <a:pt x="109946" y="138968"/>
                  </a:lnTo>
                  <a:lnTo>
                    <a:pt x="108272" y="154037"/>
                  </a:lnTo>
                  <a:lnTo>
                    <a:pt x="107714" y="161850"/>
                  </a:lnTo>
                  <a:lnTo>
                    <a:pt x="107714" y="165199"/>
                  </a:lnTo>
                  <a:lnTo>
                    <a:pt x="107714" y="167431"/>
                  </a:lnTo>
                  <a:lnTo>
                    <a:pt x="108272" y="171896"/>
                  </a:lnTo>
                  <a:lnTo>
                    <a:pt x="109946" y="180268"/>
                  </a:lnTo>
                  <a:lnTo>
                    <a:pt x="111621" y="190314"/>
                  </a:lnTo>
                  <a:lnTo>
                    <a:pt x="114411" y="200360"/>
                  </a:lnTo>
                  <a:lnTo>
                    <a:pt x="117202" y="207615"/>
                  </a:lnTo>
                  <a:lnTo>
                    <a:pt x="120550" y="212080"/>
                  </a:lnTo>
                  <a:lnTo>
                    <a:pt x="124457" y="213754"/>
                  </a:lnTo>
                  <a:lnTo>
                    <a:pt x="135061" y="216545"/>
                  </a:lnTo>
                  <a:lnTo>
                    <a:pt x="150688" y="222684"/>
                  </a:lnTo>
                  <a:lnTo>
                    <a:pt x="170780" y="225474"/>
                  </a:lnTo>
                  <a:lnTo>
                    <a:pt x="197569" y="219335"/>
                  </a:lnTo>
                  <a:lnTo>
                    <a:pt x="212080" y="213754"/>
                  </a:lnTo>
                  <a:lnTo>
                    <a:pt x="224358" y="207615"/>
                  </a:lnTo>
                  <a:lnTo>
                    <a:pt x="243334" y="195337"/>
                  </a:lnTo>
                  <a:lnTo>
                    <a:pt x="260077" y="180826"/>
                  </a:lnTo>
                  <a:lnTo>
                    <a:pt x="279052" y="164083"/>
                  </a:lnTo>
                  <a:lnTo>
                    <a:pt x="295796" y="145107"/>
                  </a:lnTo>
                  <a:lnTo>
                    <a:pt x="310864" y="126690"/>
                  </a:lnTo>
                  <a:lnTo>
                    <a:pt x="322585" y="109388"/>
                  </a:lnTo>
                  <a:lnTo>
                    <a:pt x="328166" y="95436"/>
                  </a:lnTo>
                  <a:lnTo>
                    <a:pt x="331514" y="82599"/>
                  </a:lnTo>
                  <a:lnTo>
                    <a:pt x="337653" y="73112"/>
                  </a:lnTo>
                  <a:lnTo>
                    <a:pt x="340444" y="64740"/>
                  </a:lnTo>
                  <a:lnTo>
                    <a:pt x="334305" y="54136"/>
                  </a:lnTo>
                  <a:lnTo>
                    <a:pt x="322585" y="46881"/>
                  </a:lnTo>
                  <a:lnTo>
                    <a:pt x="309190" y="49113"/>
                  </a:lnTo>
                  <a:lnTo>
                    <a:pt x="295796" y="55810"/>
                  </a:lnTo>
                  <a:lnTo>
                    <a:pt x="286308" y="61391"/>
                  </a:lnTo>
                  <a:lnTo>
                    <a:pt x="282401" y="65856"/>
                  </a:lnTo>
                  <a:lnTo>
                    <a:pt x="277936" y="73670"/>
                  </a:lnTo>
                  <a:lnTo>
                    <a:pt x="272913" y="87064"/>
                  </a:lnTo>
                  <a:lnTo>
                    <a:pt x="267332" y="103807"/>
                  </a:lnTo>
                  <a:lnTo>
                    <a:pt x="262867" y="121667"/>
                  </a:lnTo>
                  <a:lnTo>
                    <a:pt x="260077" y="136177"/>
                  </a:lnTo>
                  <a:lnTo>
                    <a:pt x="262867" y="156827"/>
                  </a:lnTo>
                  <a:lnTo>
                    <a:pt x="269006" y="171896"/>
                  </a:lnTo>
                  <a:lnTo>
                    <a:pt x="272913" y="186407"/>
                  </a:lnTo>
                  <a:lnTo>
                    <a:pt x="277936" y="198685"/>
                  </a:lnTo>
                  <a:lnTo>
                    <a:pt x="295796" y="216545"/>
                  </a:lnTo>
                  <a:lnTo>
                    <a:pt x="307516" y="223242"/>
                  </a:lnTo>
                  <a:lnTo>
                    <a:pt x="322585" y="225474"/>
                  </a:lnTo>
                  <a:lnTo>
                    <a:pt x="344351" y="219335"/>
                  </a:lnTo>
                  <a:lnTo>
                    <a:pt x="367233" y="207615"/>
                  </a:lnTo>
                  <a:lnTo>
                    <a:pt x="386209" y="190872"/>
                  </a:lnTo>
                  <a:lnTo>
                    <a:pt x="402952" y="171896"/>
                  </a:lnTo>
                  <a:lnTo>
                    <a:pt x="416904" y="154037"/>
                  </a:lnTo>
                  <a:lnTo>
                    <a:pt x="429741" y="136177"/>
                  </a:lnTo>
                  <a:lnTo>
                    <a:pt x="444810" y="117760"/>
                  </a:lnTo>
                  <a:lnTo>
                    <a:pt x="456530" y="100459"/>
                  </a:lnTo>
                  <a:lnTo>
                    <a:pt x="458204" y="93203"/>
                  </a:lnTo>
                  <a:lnTo>
                    <a:pt x="457646" y="86506"/>
                  </a:lnTo>
                  <a:lnTo>
                    <a:pt x="456530" y="73670"/>
                  </a:lnTo>
                  <a:lnTo>
                    <a:pt x="461553" y="61949"/>
                  </a:lnTo>
                  <a:lnTo>
                    <a:pt x="464343" y="57485"/>
                  </a:lnTo>
                  <a:lnTo>
                    <a:pt x="465460" y="55810"/>
                  </a:lnTo>
                  <a:lnTo>
                    <a:pt x="462111" y="58601"/>
                  </a:lnTo>
                  <a:lnTo>
                    <a:pt x="459320" y="64182"/>
                  </a:lnTo>
                  <a:lnTo>
                    <a:pt x="456530" y="73670"/>
                  </a:lnTo>
                  <a:lnTo>
                    <a:pt x="454297" y="90413"/>
                  </a:lnTo>
                  <a:lnTo>
                    <a:pt x="452065" y="111621"/>
                  </a:lnTo>
                  <a:lnTo>
                    <a:pt x="449833" y="134503"/>
                  </a:lnTo>
                  <a:lnTo>
                    <a:pt x="447600" y="154037"/>
                  </a:lnTo>
                  <a:lnTo>
                    <a:pt x="442577" y="182500"/>
                  </a:lnTo>
                  <a:lnTo>
                    <a:pt x="438671" y="207615"/>
                  </a:lnTo>
                  <a:lnTo>
                    <a:pt x="438671" y="234962"/>
                  </a:lnTo>
                  <a:lnTo>
                    <a:pt x="438671" y="261193"/>
                  </a:lnTo>
                  <a:lnTo>
                    <a:pt x="434206" y="286308"/>
                  </a:lnTo>
                  <a:lnTo>
                    <a:pt x="429741" y="305842"/>
                  </a:lnTo>
                  <a:lnTo>
                    <a:pt x="429183" y="316446"/>
                  </a:lnTo>
                  <a:lnTo>
                    <a:pt x="429741" y="323701"/>
                  </a:lnTo>
                  <a:lnTo>
                    <a:pt x="429741" y="333747"/>
                  </a:lnTo>
                  <a:lnTo>
                    <a:pt x="429741" y="341560"/>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4" name="148c013e-a808-4c92-8c76-afbb97b9f880"/>
            <p:cNvSpPr/>
            <p:nvPr/>
          </p:nvSpPr>
          <p:spPr>
            <a:xfrm>
              <a:off x="5545440" y="928800"/>
              <a:ext cx="153360" cy="170640"/>
            </a:xfrm>
            <a:custGeom>
              <a:avLst/>
              <a:gdLst>
                <a:gd name="textAreaLeft" fmla="*/ 0 w 153360"/>
                <a:gd name="textAreaRight" fmla="*/ 153720 w 153360"/>
                <a:gd name="textAreaTop" fmla="*/ 0 h 170640"/>
                <a:gd name="textAreaBottom" fmla="*/ 171000 h 170640"/>
              </a:gdLst>
              <a:ahLst/>
              <a:rect l="textAreaLeft" t="textAreaTop" r="textAreaRight" b="textAreaBottom"/>
              <a:pathLst>
                <a:path w="153479" h="170780">
                  <a:moveTo>
                    <a:pt x="0" y="17859"/>
                  </a:moveTo>
                  <a:lnTo>
                    <a:pt x="3349" y="18417"/>
                  </a:lnTo>
                  <a:lnTo>
                    <a:pt x="8930" y="17859"/>
                  </a:lnTo>
                  <a:lnTo>
                    <a:pt x="17301" y="13394"/>
                  </a:lnTo>
                  <a:lnTo>
                    <a:pt x="26789" y="8929"/>
                  </a:lnTo>
                  <a:lnTo>
                    <a:pt x="34044" y="8929"/>
                  </a:lnTo>
                  <a:lnTo>
                    <a:pt x="44648" y="8929"/>
                  </a:lnTo>
                  <a:lnTo>
                    <a:pt x="65298" y="3906"/>
                  </a:lnTo>
                  <a:lnTo>
                    <a:pt x="77577" y="558"/>
                  </a:lnTo>
                  <a:lnTo>
                    <a:pt x="89297" y="0"/>
                  </a:lnTo>
                  <a:lnTo>
                    <a:pt x="113295" y="6697"/>
                  </a:lnTo>
                  <a:lnTo>
                    <a:pt x="125016" y="12278"/>
                  </a:lnTo>
                  <a:lnTo>
                    <a:pt x="133945" y="17859"/>
                  </a:lnTo>
                  <a:lnTo>
                    <a:pt x="145665" y="30695"/>
                  </a:lnTo>
                  <a:lnTo>
                    <a:pt x="151805" y="44648"/>
                  </a:lnTo>
                  <a:lnTo>
                    <a:pt x="153479" y="57484"/>
                  </a:lnTo>
                  <a:lnTo>
                    <a:pt x="151805" y="71437"/>
                  </a:lnTo>
                  <a:lnTo>
                    <a:pt x="149014" y="89296"/>
                  </a:lnTo>
                  <a:lnTo>
                    <a:pt x="142875" y="107156"/>
                  </a:lnTo>
                  <a:lnTo>
                    <a:pt x="130597" y="121108"/>
                  </a:lnTo>
                  <a:lnTo>
                    <a:pt x="116086" y="133945"/>
                  </a:lnTo>
                  <a:lnTo>
                    <a:pt x="102691" y="148456"/>
                  </a:lnTo>
                  <a:lnTo>
                    <a:pt x="89297" y="160734"/>
                  </a:lnTo>
                  <a:lnTo>
                    <a:pt x="76460" y="166873"/>
                  </a:lnTo>
                  <a:lnTo>
                    <a:pt x="62508" y="169664"/>
                  </a:lnTo>
                  <a:lnTo>
                    <a:pt x="44090" y="170780"/>
                  </a:lnTo>
                  <a:lnTo>
                    <a:pt x="26789" y="169664"/>
                  </a:lnTo>
                  <a:lnTo>
                    <a:pt x="15627" y="165199"/>
                  </a:lnTo>
                  <a:lnTo>
                    <a:pt x="8930" y="16073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5" name="ac6ad9ed-9a5c-435e-9062-56f8dbdb9af0"/>
            <p:cNvSpPr/>
            <p:nvPr/>
          </p:nvSpPr>
          <p:spPr>
            <a:xfrm>
              <a:off x="5758200" y="839520"/>
              <a:ext cx="931320" cy="294480"/>
            </a:xfrm>
            <a:custGeom>
              <a:avLst/>
              <a:gdLst>
                <a:gd name="textAreaLeft" fmla="*/ 0 w 931320"/>
                <a:gd name="textAreaRight" fmla="*/ 931680 w 931320"/>
                <a:gd name="textAreaTop" fmla="*/ 0 h 294480"/>
                <a:gd name="textAreaBottom" fmla="*/ 294840 h 294480"/>
              </a:gdLst>
              <a:ahLst/>
              <a:rect l="textAreaLeft" t="textAreaTop" r="textAreaRight" b="textAreaBottom"/>
              <a:pathLst>
                <a:path w="931478" h="294679">
                  <a:moveTo>
                    <a:pt x="1674" y="169664"/>
                  </a:moveTo>
                  <a:lnTo>
                    <a:pt x="0" y="174687"/>
                  </a:lnTo>
                  <a:lnTo>
                    <a:pt x="1674" y="178593"/>
                  </a:lnTo>
                  <a:lnTo>
                    <a:pt x="6697" y="177477"/>
                  </a:lnTo>
                  <a:lnTo>
                    <a:pt x="13953" y="175245"/>
                  </a:lnTo>
                  <a:lnTo>
                    <a:pt x="28464" y="169664"/>
                  </a:lnTo>
                  <a:lnTo>
                    <a:pt x="38509" y="165757"/>
                  </a:lnTo>
                  <a:lnTo>
                    <a:pt x="46323" y="160734"/>
                  </a:lnTo>
                  <a:lnTo>
                    <a:pt x="50788" y="151804"/>
                  </a:lnTo>
                  <a:lnTo>
                    <a:pt x="55253" y="142875"/>
                  </a:lnTo>
                  <a:lnTo>
                    <a:pt x="64182" y="138968"/>
                  </a:lnTo>
                  <a:lnTo>
                    <a:pt x="73112" y="133945"/>
                  </a:lnTo>
                  <a:lnTo>
                    <a:pt x="78693" y="121667"/>
                  </a:lnTo>
                  <a:lnTo>
                    <a:pt x="82042" y="107156"/>
                  </a:lnTo>
                  <a:lnTo>
                    <a:pt x="84274" y="96552"/>
                  </a:lnTo>
                  <a:lnTo>
                    <a:pt x="82042" y="89297"/>
                  </a:lnTo>
                  <a:lnTo>
                    <a:pt x="77019" y="88180"/>
                  </a:lnTo>
                  <a:lnTo>
                    <a:pt x="69763" y="87622"/>
                  </a:lnTo>
                  <a:lnTo>
                    <a:pt x="55253" y="89297"/>
                  </a:lnTo>
                  <a:lnTo>
                    <a:pt x="46323" y="92645"/>
                  </a:lnTo>
                  <a:lnTo>
                    <a:pt x="37393" y="98226"/>
                  </a:lnTo>
                  <a:lnTo>
                    <a:pt x="23441" y="106040"/>
                  </a:lnTo>
                  <a:lnTo>
                    <a:pt x="10604" y="116086"/>
                  </a:lnTo>
                  <a:lnTo>
                    <a:pt x="4465" y="127248"/>
                  </a:lnTo>
                  <a:lnTo>
                    <a:pt x="2791" y="133945"/>
                  </a:lnTo>
                  <a:lnTo>
                    <a:pt x="1674" y="142875"/>
                  </a:lnTo>
                  <a:lnTo>
                    <a:pt x="1116" y="157385"/>
                  </a:lnTo>
                  <a:lnTo>
                    <a:pt x="1116" y="174687"/>
                  </a:lnTo>
                  <a:lnTo>
                    <a:pt x="1116" y="191988"/>
                  </a:lnTo>
                  <a:lnTo>
                    <a:pt x="1674" y="205382"/>
                  </a:lnTo>
                  <a:lnTo>
                    <a:pt x="3349" y="212638"/>
                  </a:lnTo>
                  <a:lnTo>
                    <a:pt x="5023" y="216545"/>
                  </a:lnTo>
                  <a:lnTo>
                    <a:pt x="7814" y="219335"/>
                  </a:lnTo>
                  <a:lnTo>
                    <a:pt x="10604" y="223242"/>
                  </a:lnTo>
                  <a:lnTo>
                    <a:pt x="18418" y="237753"/>
                  </a:lnTo>
                  <a:lnTo>
                    <a:pt x="28464" y="250031"/>
                  </a:lnTo>
                  <a:lnTo>
                    <a:pt x="41300" y="256728"/>
                  </a:lnTo>
                  <a:lnTo>
                    <a:pt x="55253" y="258961"/>
                  </a:lnTo>
                  <a:lnTo>
                    <a:pt x="66973" y="256728"/>
                  </a:lnTo>
                  <a:lnTo>
                    <a:pt x="82042" y="250031"/>
                  </a:lnTo>
                  <a:lnTo>
                    <a:pt x="93762" y="245008"/>
                  </a:lnTo>
                  <a:lnTo>
                    <a:pt x="108273" y="238311"/>
                  </a:lnTo>
                  <a:lnTo>
                    <a:pt x="122783" y="231055"/>
                  </a:lnTo>
                  <a:lnTo>
                    <a:pt x="135620" y="223242"/>
                  </a:lnTo>
                  <a:lnTo>
                    <a:pt x="155712" y="206499"/>
                  </a:lnTo>
                  <a:lnTo>
                    <a:pt x="171339" y="187523"/>
                  </a:lnTo>
                  <a:lnTo>
                    <a:pt x="181384" y="169664"/>
                  </a:lnTo>
                  <a:lnTo>
                    <a:pt x="189198" y="151804"/>
                  </a:lnTo>
                  <a:lnTo>
                    <a:pt x="198686" y="133387"/>
                  </a:lnTo>
                  <a:lnTo>
                    <a:pt x="207057" y="116086"/>
                  </a:lnTo>
                  <a:lnTo>
                    <a:pt x="212638" y="102691"/>
                  </a:lnTo>
                  <a:lnTo>
                    <a:pt x="215987" y="89297"/>
                  </a:lnTo>
                  <a:lnTo>
                    <a:pt x="215987" y="72553"/>
                  </a:lnTo>
                  <a:lnTo>
                    <a:pt x="215987" y="53578"/>
                  </a:lnTo>
                  <a:lnTo>
                    <a:pt x="220452" y="34602"/>
                  </a:lnTo>
                  <a:lnTo>
                    <a:pt x="224917" y="17859"/>
                  </a:lnTo>
                  <a:lnTo>
                    <a:pt x="225475" y="5023"/>
                  </a:lnTo>
                  <a:lnTo>
                    <a:pt x="224917" y="1116"/>
                  </a:lnTo>
                  <a:lnTo>
                    <a:pt x="224917" y="0"/>
                  </a:lnTo>
                  <a:lnTo>
                    <a:pt x="226033" y="6697"/>
                  </a:lnTo>
                  <a:lnTo>
                    <a:pt x="226591" y="15068"/>
                  </a:lnTo>
                  <a:lnTo>
                    <a:pt x="224917" y="26789"/>
                  </a:lnTo>
                  <a:lnTo>
                    <a:pt x="221568" y="45764"/>
                  </a:lnTo>
                  <a:lnTo>
                    <a:pt x="215987" y="69763"/>
                  </a:lnTo>
                  <a:lnTo>
                    <a:pt x="210964" y="94878"/>
                  </a:lnTo>
                  <a:lnTo>
                    <a:pt x="207057" y="116086"/>
                  </a:lnTo>
                  <a:lnTo>
                    <a:pt x="205941" y="132271"/>
                  </a:lnTo>
                  <a:lnTo>
                    <a:pt x="205941" y="145107"/>
                  </a:lnTo>
                  <a:lnTo>
                    <a:pt x="207057" y="169664"/>
                  </a:lnTo>
                  <a:lnTo>
                    <a:pt x="207057" y="198127"/>
                  </a:lnTo>
                  <a:lnTo>
                    <a:pt x="207057" y="223242"/>
                  </a:lnTo>
                  <a:lnTo>
                    <a:pt x="205383" y="239985"/>
                  </a:lnTo>
                  <a:lnTo>
                    <a:pt x="207057" y="250031"/>
                  </a:lnTo>
                  <a:lnTo>
                    <a:pt x="212080" y="252821"/>
                  </a:lnTo>
                  <a:lnTo>
                    <a:pt x="219894" y="253380"/>
                  </a:lnTo>
                  <a:lnTo>
                    <a:pt x="227707" y="252821"/>
                  </a:lnTo>
                  <a:lnTo>
                    <a:pt x="233846" y="250031"/>
                  </a:lnTo>
                  <a:lnTo>
                    <a:pt x="237195" y="245008"/>
                  </a:lnTo>
                  <a:lnTo>
                    <a:pt x="239427" y="237753"/>
                  </a:lnTo>
                  <a:lnTo>
                    <a:pt x="242776" y="223242"/>
                  </a:lnTo>
                  <a:lnTo>
                    <a:pt x="247241" y="214312"/>
                  </a:lnTo>
                  <a:lnTo>
                    <a:pt x="251706" y="205382"/>
                  </a:lnTo>
                  <a:lnTo>
                    <a:pt x="256171" y="191988"/>
                  </a:lnTo>
                  <a:lnTo>
                    <a:pt x="260635" y="178593"/>
                  </a:lnTo>
                  <a:lnTo>
                    <a:pt x="266216" y="166873"/>
                  </a:lnTo>
                  <a:lnTo>
                    <a:pt x="268449" y="162408"/>
                  </a:lnTo>
                  <a:lnTo>
                    <a:pt x="269565" y="160734"/>
                  </a:lnTo>
                  <a:lnTo>
                    <a:pt x="269565" y="166315"/>
                  </a:lnTo>
                  <a:lnTo>
                    <a:pt x="269565" y="178593"/>
                  </a:lnTo>
                  <a:lnTo>
                    <a:pt x="272356" y="196453"/>
                  </a:lnTo>
                  <a:lnTo>
                    <a:pt x="278495" y="214312"/>
                  </a:lnTo>
                  <a:lnTo>
                    <a:pt x="290773" y="226032"/>
                  </a:lnTo>
                  <a:lnTo>
                    <a:pt x="305284" y="232172"/>
                  </a:lnTo>
                  <a:lnTo>
                    <a:pt x="319236" y="229381"/>
                  </a:lnTo>
                  <a:lnTo>
                    <a:pt x="332073" y="223242"/>
                  </a:lnTo>
                  <a:lnTo>
                    <a:pt x="342119" y="219335"/>
                  </a:lnTo>
                  <a:lnTo>
                    <a:pt x="349932" y="214312"/>
                  </a:lnTo>
                  <a:lnTo>
                    <a:pt x="354955" y="206499"/>
                  </a:lnTo>
                  <a:lnTo>
                    <a:pt x="358862" y="196453"/>
                  </a:lnTo>
                  <a:lnTo>
                    <a:pt x="363327" y="183616"/>
                  </a:lnTo>
                  <a:lnTo>
                    <a:pt x="367792" y="169664"/>
                  </a:lnTo>
                  <a:lnTo>
                    <a:pt x="370582" y="161292"/>
                  </a:lnTo>
                  <a:lnTo>
                    <a:pt x="373931" y="151804"/>
                  </a:lnTo>
                  <a:lnTo>
                    <a:pt x="376721" y="144549"/>
                  </a:lnTo>
                  <a:lnTo>
                    <a:pt x="376721" y="142875"/>
                  </a:lnTo>
                  <a:lnTo>
                    <a:pt x="373931" y="149572"/>
                  </a:lnTo>
                  <a:lnTo>
                    <a:pt x="368908" y="161850"/>
                  </a:lnTo>
                  <a:lnTo>
                    <a:pt x="362769" y="175803"/>
                  </a:lnTo>
                  <a:lnTo>
                    <a:pt x="358862" y="187523"/>
                  </a:lnTo>
                  <a:lnTo>
                    <a:pt x="357746" y="202034"/>
                  </a:lnTo>
                  <a:lnTo>
                    <a:pt x="358862" y="214312"/>
                  </a:lnTo>
                  <a:lnTo>
                    <a:pt x="358304" y="232730"/>
                  </a:lnTo>
                  <a:lnTo>
                    <a:pt x="358862" y="250031"/>
                  </a:lnTo>
                  <a:lnTo>
                    <a:pt x="362769" y="260077"/>
                  </a:lnTo>
                  <a:lnTo>
                    <a:pt x="367792" y="267890"/>
                  </a:lnTo>
                  <a:lnTo>
                    <a:pt x="371698" y="277378"/>
                  </a:lnTo>
                  <a:lnTo>
                    <a:pt x="376721" y="285750"/>
                  </a:lnTo>
                  <a:lnTo>
                    <a:pt x="385093" y="291889"/>
                  </a:lnTo>
                  <a:lnTo>
                    <a:pt x="394581" y="294679"/>
                  </a:lnTo>
                  <a:lnTo>
                    <a:pt x="402952" y="292447"/>
                  </a:lnTo>
                  <a:lnTo>
                    <a:pt x="412440" y="285750"/>
                  </a:lnTo>
                  <a:lnTo>
                    <a:pt x="425276" y="275146"/>
                  </a:lnTo>
                  <a:lnTo>
                    <a:pt x="439229" y="258961"/>
                  </a:lnTo>
                  <a:lnTo>
                    <a:pt x="453182" y="237194"/>
                  </a:lnTo>
                  <a:lnTo>
                    <a:pt x="466018" y="214312"/>
                  </a:lnTo>
                  <a:lnTo>
                    <a:pt x="476064" y="194778"/>
                  </a:lnTo>
                  <a:lnTo>
                    <a:pt x="483878" y="178593"/>
                  </a:lnTo>
                  <a:lnTo>
                    <a:pt x="488342" y="168547"/>
                  </a:lnTo>
                  <a:lnTo>
                    <a:pt x="492807" y="160734"/>
                  </a:lnTo>
                  <a:lnTo>
                    <a:pt x="501179" y="151246"/>
                  </a:lnTo>
                  <a:lnTo>
                    <a:pt x="510667" y="142875"/>
                  </a:lnTo>
                  <a:lnTo>
                    <a:pt x="519596" y="135619"/>
                  </a:lnTo>
                  <a:lnTo>
                    <a:pt x="524061" y="133387"/>
                  </a:lnTo>
                  <a:lnTo>
                    <a:pt x="528526" y="133945"/>
                  </a:lnTo>
                  <a:lnTo>
                    <a:pt x="533549" y="138410"/>
                  </a:lnTo>
                  <a:lnTo>
                    <a:pt x="538572" y="145107"/>
                  </a:lnTo>
                  <a:lnTo>
                    <a:pt x="546385" y="160734"/>
                  </a:lnTo>
                  <a:lnTo>
                    <a:pt x="547502" y="174129"/>
                  </a:lnTo>
                  <a:lnTo>
                    <a:pt x="546385" y="187523"/>
                  </a:lnTo>
                  <a:lnTo>
                    <a:pt x="546385" y="214312"/>
                  </a:lnTo>
                  <a:lnTo>
                    <a:pt x="546385" y="228265"/>
                  </a:lnTo>
                  <a:lnTo>
                    <a:pt x="546385" y="241101"/>
                  </a:lnTo>
                  <a:lnTo>
                    <a:pt x="546385" y="253380"/>
                  </a:lnTo>
                  <a:lnTo>
                    <a:pt x="546385" y="257844"/>
                  </a:lnTo>
                  <a:lnTo>
                    <a:pt x="546385" y="258961"/>
                  </a:lnTo>
                  <a:lnTo>
                    <a:pt x="546385" y="255612"/>
                  </a:lnTo>
                  <a:lnTo>
                    <a:pt x="546385" y="248357"/>
                  </a:lnTo>
                  <a:lnTo>
                    <a:pt x="546385" y="239427"/>
                  </a:lnTo>
                  <a:lnTo>
                    <a:pt x="546385" y="232172"/>
                  </a:lnTo>
                  <a:lnTo>
                    <a:pt x="545827" y="224358"/>
                  </a:lnTo>
                  <a:lnTo>
                    <a:pt x="545827" y="220451"/>
                  </a:lnTo>
                  <a:lnTo>
                    <a:pt x="546385" y="214312"/>
                  </a:lnTo>
                  <a:lnTo>
                    <a:pt x="548060" y="204824"/>
                  </a:lnTo>
                  <a:lnTo>
                    <a:pt x="550292" y="191988"/>
                  </a:lnTo>
                  <a:lnTo>
                    <a:pt x="553083" y="179710"/>
                  </a:lnTo>
                  <a:lnTo>
                    <a:pt x="555315" y="169664"/>
                  </a:lnTo>
                  <a:lnTo>
                    <a:pt x="559222" y="159060"/>
                  </a:lnTo>
                  <a:lnTo>
                    <a:pt x="564245" y="151804"/>
                  </a:lnTo>
                  <a:lnTo>
                    <a:pt x="572616" y="142317"/>
                  </a:lnTo>
                  <a:lnTo>
                    <a:pt x="582104" y="133945"/>
                  </a:lnTo>
                  <a:lnTo>
                    <a:pt x="591592" y="131713"/>
                  </a:lnTo>
                  <a:lnTo>
                    <a:pt x="599964" y="133945"/>
                  </a:lnTo>
                  <a:lnTo>
                    <a:pt x="604428" y="142317"/>
                  </a:lnTo>
                  <a:lnTo>
                    <a:pt x="608893" y="151804"/>
                  </a:lnTo>
                  <a:lnTo>
                    <a:pt x="616707" y="159060"/>
                  </a:lnTo>
                  <a:lnTo>
                    <a:pt x="626753" y="169664"/>
                  </a:lnTo>
                  <a:lnTo>
                    <a:pt x="633450" y="179710"/>
                  </a:lnTo>
                  <a:lnTo>
                    <a:pt x="641263" y="191430"/>
                  </a:lnTo>
                  <a:lnTo>
                    <a:pt x="647961" y="203708"/>
                  </a:lnTo>
                  <a:lnTo>
                    <a:pt x="653542" y="214312"/>
                  </a:lnTo>
                  <a:lnTo>
                    <a:pt x="658565" y="228823"/>
                  </a:lnTo>
                  <a:lnTo>
                    <a:pt x="662471" y="241101"/>
                  </a:lnTo>
                  <a:lnTo>
                    <a:pt x="670843" y="256170"/>
                  </a:lnTo>
                  <a:lnTo>
                    <a:pt x="680331" y="267890"/>
                  </a:lnTo>
                  <a:lnTo>
                    <a:pt x="689260" y="270123"/>
                  </a:lnTo>
                  <a:lnTo>
                    <a:pt x="698190" y="267890"/>
                  </a:lnTo>
                  <a:lnTo>
                    <a:pt x="716049" y="258961"/>
                  </a:lnTo>
                  <a:lnTo>
                    <a:pt x="733909" y="241101"/>
                  </a:lnTo>
                  <a:lnTo>
                    <a:pt x="742839" y="227707"/>
                  </a:lnTo>
                  <a:lnTo>
                    <a:pt x="751768" y="214312"/>
                  </a:lnTo>
                  <a:lnTo>
                    <a:pt x="761256" y="204824"/>
                  </a:lnTo>
                  <a:lnTo>
                    <a:pt x="769628" y="196453"/>
                  </a:lnTo>
                  <a:lnTo>
                    <a:pt x="775209" y="185291"/>
                  </a:lnTo>
                  <a:lnTo>
                    <a:pt x="777441" y="180826"/>
                  </a:lnTo>
                  <a:lnTo>
                    <a:pt x="778557" y="178593"/>
                  </a:lnTo>
                  <a:lnTo>
                    <a:pt x="779115" y="180826"/>
                  </a:lnTo>
                  <a:lnTo>
                    <a:pt x="779115" y="185291"/>
                  </a:lnTo>
                  <a:lnTo>
                    <a:pt x="778557" y="196453"/>
                  </a:lnTo>
                  <a:lnTo>
                    <a:pt x="778557" y="214312"/>
                  </a:lnTo>
                  <a:lnTo>
                    <a:pt x="778557" y="232172"/>
                  </a:lnTo>
                  <a:lnTo>
                    <a:pt x="782464" y="241101"/>
                  </a:lnTo>
                  <a:lnTo>
                    <a:pt x="787487" y="250031"/>
                  </a:lnTo>
                  <a:lnTo>
                    <a:pt x="791394" y="259519"/>
                  </a:lnTo>
                  <a:lnTo>
                    <a:pt x="796417" y="267890"/>
                  </a:lnTo>
                  <a:lnTo>
                    <a:pt x="803672" y="272913"/>
                  </a:lnTo>
                  <a:lnTo>
                    <a:pt x="814276" y="276820"/>
                  </a:lnTo>
                  <a:lnTo>
                    <a:pt x="832135" y="282959"/>
                  </a:lnTo>
                  <a:lnTo>
                    <a:pt x="849995" y="285750"/>
                  </a:lnTo>
                  <a:lnTo>
                    <a:pt x="855576" y="283517"/>
                  </a:lnTo>
                  <a:lnTo>
                    <a:pt x="859483" y="278494"/>
                  </a:lnTo>
                  <a:lnTo>
                    <a:pt x="867854" y="267890"/>
                  </a:lnTo>
                  <a:lnTo>
                    <a:pt x="880691" y="261751"/>
                  </a:lnTo>
                  <a:lnTo>
                    <a:pt x="887946" y="257286"/>
                  </a:lnTo>
                  <a:lnTo>
                    <a:pt x="894643" y="250031"/>
                  </a:lnTo>
                  <a:lnTo>
                    <a:pt x="901899" y="238311"/>
                  </a:lnTo>
                  <a:lnTo>
                    <a:pt x="909154" y="223242"/>
                  </a:lnTo>
                  <a:lnTo>
                    <a:pt x="916409" y="208173"/>
                  </a:lnTo>
                  <a:lnTo>
                    <a:pt x="921432" y="196453"/>
                  </a:lnTo>
                  <a:lnTo>
                    <a:pt x="925339" y="189755"/>
                  </a:lnTo>
                  <a:lnTo>
                    <a:pt x="927571" y="185849"/>
                  </a:lnTo>
                  <a:lnTo>
                    <a:pt x="929246" y="183058"/>
                  </a:lnTo>
                  <a:lnTo>
                    <a:pt x="930362" y="178593"/>
                  </a:lnTo>
                  <a:lnTo>
                    <a:pt x="931478" y="165199"/>
                  </a:lnTo>
                  <a:lnTo>
                    <a:pt x="930362" y="151804"/>
                  </a:lnTo>
                  <a:lnTo>
                    <a:pt x="927013" y="142317"/>
                  </a:lnTo>
                  <a:lnTo>
                    <a:pt x="921432" y="133945"/>
                  </a:lnTo>
                  <a:lnTo>
                    <a:pt x="913619" y="124457"/>
                  </a:lnTo>
                  <a:lnTo>
                    <a:pt x="903573" y="116086"/>
                  </a:lnTo>
                  <a:lnTo>
                    <a:pt x="890178" y="110505"/>
                  </a:lnTo>
                  <a:lnTo>
                    <a:pt x="876784" y="107156"/>
                  </a:lnTo>
                  <a:lnTo>
                    <a:pt x="867854" y="105482"/>
                  </a:lnTo>
                  <a:lnTo>
                    <a:pt x="858924" y="107156"/>
                  </a:lnTo>
                  <a:lnTo>
                    <a:pt x="845530" y="114411"/>
                  </a:lnTo>
                  <a:lnTo>
                    <a:pt x="832135" y="125015"/>
                  </a:lnTo>
                  <a:lnTo>
                    <a:pt x="821531" y="139526"/>
                  </a:lnTo>
                  <a:lnTo>
                    <a:pt x="817625" y="146781"/>
                  </a:lnTo>
                  <a:lnTo>
                    <a:pt x="814276" y="15180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6" name="6a99b6c4-af38-4d3f-bbb8-d2278a8fc4ea"/>
            <p:cNvSpPr/>
            <p:nvPr/>
          </p:nvSpPr>
          <p:spPr>
            <a:xfrm>
              <a:off x="6679080" y="758880"/>
              <a:ext cx="491400" cy="410400"/>
            </a:xfrm>
            <a:custGeom>
              <a:avLst/>
              <a:gdLst>
                <a:gd name="textAreaLeft" fmla="*/ 0 w 491400"/>
                <a:gd name="textAreaRight" fmla="*/ 491760 w 491400"/>
                <a:gd name="textAreaTop" fmla="*/ 0 h 410400"/>
                <a:gd name="textAreaBottom" fmla="*/ 410760 h 410400"/>
              </a:gdLst>
              <a:ahLst/>
              <a:rect l="textAreaLeft" t="textAreaTop" r="textAreaRight" b="textAreaBottom"/>
              <a:pathLst>
                <a:path w="491691" h="410766">
                  <a:moveTo>
                    <a:pt x="27347" y="0"/>
                  </a:moveTo>
                  <a:lnTo>
                    <a:pt x="22882" y="6698"/>
                  </a:lnTo>
                  <a:lnTo>
                    <a:pt x="18418" y="17860"/>
                  </a:lnTo>
                  <a:lnTo>
                    <a:pt x="18418" y="33487"/>
                  </a:lnTo>
                  <a:lnTo>
                    <a:pt x="18418" y="53579"/>
                  </a:lnTo>
                  <a:lnTo>
                    <a:pt x="15069" y="78693"/>
                  </a:lnTo>
                  <a:lnTo>
                    <a:pt x="9488" y="107157"/>
                  </a:lnTo>
                  <a:lnTo>
                    <a:pt x="4465" y="138411"/>
                  </a:lnTo>
                  <a:lnTo>
                    <a:pt x="558" y="169665"/>
                  </a:lnTo>
                  <a:lnTo>
                    <a:pt x="0" y="197012"/>
                  </a:lnTo>
                  <a:lnTo>
                    <a:pt x="558" y="223243"/>
                  </a:lnTo>
                  <a:lnTo>
                    <a:pt x="4465" y="250590"/>
                  </a:lnTo>
                  <a:lnTo>
                    <a:pt x="9488" y="276821"/>
                  </a:lnTo>
                  <a:lnTo>
                    <a:pt x="13395" y="301935"/>
                  </a:lnTo>
                  <a:lnTo>
                    <a:pt x="18418" y="321469"/>
                  </a:lnTo>
                  <a:lnTo>
                    <a:pt x="26789" y="332631"/>
                  </a:lnTo>
                  <a:lnTo>
                    <a:pt x="36277" y="339329"/>
                  </a:lnTo>
                  <a:lnTo>
                    <a:pt x="54136" y="348258"/>
                  </a:lnTo>
                  <a:lnTo>
                    <a:pt x="62508" y="349933"/>
                  </a:lnTo>
                  <a:lnTo>
                    <a:pt x="71996" y="348258"/>
                  </a:lnTo>
                  <a:lnTo>
                    <a:pt x="85390" y="341003"/>
                  </a:lnTo>
                  <a:lnTo>
                    <a:pt x="98785" y="330399"/>
                  </a:lnTo>
                  <a:lnTo>
                    <a:pt x="116644" y="303610"/>
                  </a:lnTo>
                  <a:lnTo>
                    <a:pt x="121667" y="286867"/>
                  </a:lnTo>
                  <a:lnTo>
                    <a:pt x="125574" y="267891"/>
                  </a:lnTo>
                  <a:lnTo>
                    <a:pt x="131155" y="248915"/>
                  </a:lnTo>
                  <a:lnTo>
                    <a:pt x="134504" y="232172"/>
                  </a:lnTo>
                  <a:lnTo>
                    <a:pt x="135062" y="219336"/>
                  </a:lnTo>
                  <a:lnTo>
                    <a:pt x="134504" y="215429"/>
                  </a:lnTo>
                  <a:lnTo>
                    <a:pt x="134504" y="214313"/>
                  </a:lnTo>
                  <a:lnTo>
                    <a:pt x="134504" y="217103"/>
                  </a:lnTo>
                  <a:lnTo>
                    <a:pt x="135062" y="223243"/>
                  </a:lnTo>
                  <a:lnTo>
                    <a:pt x="134504" y="241102"/>
                  </a:lnTo>
                  <a:lnTo>
                    <a:pt x="132829" y="252822"/>
                  </a:lnTo>
                  <a:lnTo>
                    <a:pt x="129481" y="267333"/>
                  </a:lnTo>
                  <a:lnTo>
                    <a:pt x="126690" y="281844"/>
                  </a:lnTo>
                  <a:lnTo>
                    <a:pt x="125574" y="294680"/>
                  </a:lnTo>
                  <a:lnTo>
                    <a:pt x="128364" y="314772"/>
                  </a:lnTo>
                  <a:lnTo>
                    <a:pt x="134504" y="330399"/>
                  </a:lnTo>
                  <a:lnTo>
                    <a:pt x="142317" y="341003"/>
                  </a:lnTo>
                  <a:lnTo>
                    <a:pt x="152363" y="348258"/>
                  </a:lnTo>
                  <a:lnTo>
                    <a:pt x="179152" y="357188"/>
                  </a:lnTo>
                  <a:lnTo>
                    <a:pt x="192547" y="358862"/>
                  </a:lnTo>
                  <a:lnTo>
                    <a:pt x="205941" y="357188"/>
                  </a:lnTo>
                  <a:lnTo>
                    <a:pt x="218777" y="350491"/>
                  </a:lnTo>
                  <a:lnTo>
                    <a:pt x="232730" y="339329"/>
                  </a:lnTo>
                  <a:lnTo>
                    <a:pt x="250031" y="323702"/>
                  </a:lnTo>
                  <a:lnTo>
                    <a:pt x="268449" y="303610"/>
                  </a:lnTo>
                  <a:lnTo>
                    <a:pt x="277937" y="291331"/>
                  </a:lnTo>
                  <a:lnTo>
                    <a:pt x="287424" y="276821"/>
                  </a:lnTo>
                  <a:lnTo>
                    <a:pt x="304168" y="250032"/>
                  </a:lnTo>
                  <a:lnTo>
                    <a:pt x="314772" y="229940"/>
                  </a:lnTo>
                  <a:lnTo>
                    <a:pt x="322027" y="214313"/>
                  </a:lnTo>
                  <a:lnTo>
                    <a:pt x="327608" y="204267"/>
                  </a:lnTo>
                  <a:lnTo>
                    <a:pt x="330957" y="196454"/>
                  </a:lnTo>
                  <a:lnTo>
                    <a:pt x="330399" y="185291"/>
                  </a:lnTo>
                  <a:lnTo>
                    <a:pt x="329840" y="180827"/>
                  </a:lnTo>
                  <a:lnTo>
                    <a:pt x="330957" y="178594"/>
                  </a:lnTo>
                  <a:lnTo>
                    <a:pt x="337654" y="183059"/>
                  </a:lnTo>
                  <a:lnTo>
                    <a:pt x="348816" y="196454"/>
                  </a:lnTo>
                  <a:lnTo>
                    <a:pt x="356071" y="207616"/>
                  </a:lnTo>
                  <a:lnTo>
                    <a:pt x="363885" y="221010"/>
                  </a:lnTo>
                  <a:lnTo>
                    <a:pt x="384535" y="250032"/>
                  </a:lnTo>
                  <a:lnTo>
                    <a:pt x="399604" y="263984"/>
                  </a:lnTo>
                  <a:lnTo>
                    <a:pt x="416905" y="277937"/>
                  </a:lnTo>
                  <a:lnTo>
                    <a:pt x="433648" y="291890"/>
                  </a:lnTo>
                  <a:lnTo>
                    <a:pt x="447043" y="303610"/>
                  </a:lnTo>
                  <a:lnTo>
                    <a:pt x="463786" y="323144"/>
                  </a:lnTo>
                  <a:lnTo>
                    <a:pt x="473832" y="339329"/>
                  </a:lnTo>
                  <a:lnTo>
                    <a:pt x="479413" y="353839"/>
                  </a:lnTo>
                  <a:lnTo>
                    <a:pt x="482761" y="366118"/>
                  </a:lnTo>
                  <a:lnTo>
                    <a:pt x="488342" y="376164"/>
                  </a:lnTo>
                  <a:lnTo>
                    <a:pt x="491691" y="383977"/>
                  </a:lnTo>
                  <a:lnTo>
                    <a:pt x="489459" y="393465"/>
                  </a:lnTo>
                  <a:lnTo>
                    <a:pt x="482761" y="401836"/>
                  </a:lnTo>
                  <a:lnTo>
                    <a:pt x="476622" y="405185"/>
                  </a:lnTo>
                  <a:lnTo>
                    <a:pt x="468809" y="407417"/>
                  </a:lnTo>
                  <a:lnTo>
                    <a:pt x="460995" y="409650"/>
                  </a:lnTo>
                  <a:lnTo>
                    <a:pt x="455972" y="410766"/>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7" name="dfebc70e-26de-448c-9643-c13fedd3b5bc"/>
            <p:cNvSpPr/>
            <p:nvPr/>
          </p:nvSpPr>
          <p:spPr>
            <a:xfrm>
              <a:off x="5902920" y="901440"/>
              <a:ext cx="276840" cy="9720"/>
            </a:xfrm>
            <a:custGeom>
              <a:avLst/>
              <a:gdLst>
                <a:gd name="textAreaLeft" fmla="*/ 0 w 276840"/>
                <a:gd name="textAreaRight" fmla="*/ 277200 w 276840"/>
                <a:gd name="textAreaTop" fmla="*/ 0 h 9720"/>
                <a:gd name="textAreaBottom" fmla="*/ 10080 h 9720"/>
              </a:gdLst>
              <a:ahLst/>
              <a:rect l="textAreaLeft" t="textAreaTop" r="textAreaRight" b="textAreaBottom"/>
              <a:pathLst>
                <a:path w="276821" h="10046">
                  <a:moveTo>
                    <a:pt x="0" y="558"/>
                  </a:moveTo>
                  <a:lnTo>
                    <a:pt x="8930" y="558"/>
                  </a:lnTo>
                  <a:lnTo>
                    <a:pt x="26790" y="558"/>
                  </a:lnTo>
                  <a:lnTo>
                    <a:pt x="37952" y="0"/>
                  </a:lnTo>
                  <a:lnTo>
                    <a:pt x="53579" y="558"/>
                  </a:lnTo>
                  <a:lnTo>
                    <a:pt x="65299" y="2233"/>
                  </a:lnTo>
                  <a:lnTo>
                    <a:pt x="79810" y="5023"/>
                  </a:lnTo>
                  <a:lnTo>
                    <a:pt x="94320" y="7814"/>
                  </a:lnTo>
                  <a:lnTo>
                    <a:pt x="107157" y="9488"/>
                  </a:lnTo>
                  <a:lnTo>
                    <a:pt x="116644" y="10046"/>
                  </a:lnTo>
                  <a:lnTo>
                    <a:pt x="123900" y="10046"/>
                  </a:lnTo>
                  <a:lnTo>
                    <a:pt x="131713" y="9488"/>
                  </a:lnTo>
                  <a:lnTo>
                    <a:pt x="142875" y="9488"/>
                  </a:lnTo>
                  <a:lnTo>
                    <a:pt x="159060" y="9488"/>
                  </a:lnTo>
                  <a:lnTo>
                    <a:pt x="179152" y="10046"/>
                  </a:lnTo>
                  <a:lnTo>
                    <a:pt x="198686" y="10046"/>
                  </a:lnTo>
                  <a:lnTo>
                    <a:pt x="214313" y="9488"/>
                  </a:lnTo>
                  <a:lnTo>
                    <a:pt x="224359" y="7814"/>
                  </a:lnTo>
                  <a:lnTo>
                    <a:pt x="231056" y="5023"/>
                  </a:lnTo>
                  <a:lnTo>
                    <a:pt x="241102" y="558"/>
                  </a:lnTo>
                  <a:lnTo>
                    <a:pt x="251148" y="0"/>
                  </a:lnTo>
                  <a:lnTo>
                    <a:pt x="258961" y="558"/>
                  </a:lnTo>
                  <a:lnTo>
                    <a:pt x="269007" y="558"/>
                  </a:lnTo>
                  <a:lnTo>
                    <a:pt x="276821" y="558"/>
                  </a:lnTo>
                </a:path>
              </a:pathLst>
            </a:custGeom>
            <a:noFill/>
            <a:ln w="17640">
              <a:solidFill>
                <a:srgbClr val="ff0000"/>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68" name="76f4120f-a701-4b7f-978b-a2916d15c636"/>
            <p:cNvSpPr/>
            <p:nvPr/>
          </p:nvSpPr>
          <p:spPr>
            <a:xfrm>
              <a:off x="7474680" y="982440"/>
              <a:ext cx="9360" cy="357120"/>
            </a:xfrm>
            <a:custGeom>
              <a:avLst/>
              <a:gdLst>
                <a:gd name="textAreaLeft" fmla="*/ 0 w 9360"/>
                <a:gd name="textAreaRight" fmla="*/ 9720 w 9360"/>
                <a:gd name="textAreaTop" fmla="*/ 0 h 357120"/>
                <a:gd name="textAreaBottom" fmla="*/ 357480 h 357120"/>
              </a:gdLst>
              <a:ahLst/>
              <a:rect l="textAreaLeft" t="textAreaTop" r="textAreaRight" b="textAreaBottom"/>
              <a:pathLst>
                <a:path w="9488" h="357187">
                  <a:moveTo>
                    <a:pt x="0" y="0"/>
                  </a:moveTo>
                  <a:lnTo>
                    <a:pt x="4465" y="7255"/>
                  </a:lnTo>
                  <a:lnTo>
                    <a:pt x="8930" y="17859"/>
                  </a:lnTo>
                  <a:lnTo>
                    <a:pt x="9488" y="27905"/>
                  </a:lnTo>
                  <a:lnTo>
                    <a:pt x="8930" y="34602"/>
                  </a:lnTo>
                  <a:lnTo>
                    <a:pt x="8930" y="44648"/>
                  </a:lnTo>
                  <a:lnTo>
                    <a:pt x="8930" y="59717"/>
                  </a:lnTo>
                  <a:lnTo>
                    <a:pt x="8930" y="78134"/>
                  </a:lnTo>
                  <a:lnTo>
                    <a:pt x="8930" y="97668"/>
                  </a:lnTo>
                  <a:lnTo>
                    <a:pt x="8930" y="116086"/>
                  </a:lnTo>
                  <a:lnTo>
                    <a:pt x="8930" y="178593"/>
                  </a:lnTo>
                  <a:lnTo>
                    <a:pt x="8930" y="205941"/>
                  </a:lnTo>
                  <a:lnTo>
                    <a:pt x="8930" y="232172"/>
                  </a:lnTo>
                  <a:lnTo>
                    <a:pt x="8930" y="259519"/>
                  </a:lnTo>
                  <a:lnTo>
                    <a:pt x="8930" y="285750"/>
                  </a:lnTo>
                  <a:lnTo>
                    <a:pt x="8930" y="309748"/>
                  </a:lnTo>
                  <a:lnTo>
                    <a:pt x="8930" y="330398"/>
                  </a:lnTo>
                  <a:lnTo>
                    <a:pt x="8930" y="346583"/>
                  </a:lnTo>
                  <a:lnTo>
                    <a:pt x="8930" y="357187"/>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9" name="8f35f43b-f7b4-4a01-80d0-17822c1ba179"/>
            <p:cNvSpPr/>
            <p:nvPr/>
          </p:nvSpPr>
          <p:spPr>
            <a:xfrm>
              <a:off x="7492320" y="1000080"/>
              <a:ext cx="125280" cy="142560"/>
            </a:xfrm>
            <a:custGeom>
              <a:avLst/>
              <a:gdLst>
                <a:gd name="textAreaLeft" fmla="*/ 0 w 125280"/>
                <a:gd name="textAreaRight" fmla="*/ 125640 w 125280"/>
                <a:gd name="textAreaTop" fmla="*/ 0 h 142560"/>
                <a:gd name="textAreaBottom" fmla="*/ 142920 h 142560"/>
              </a:gdLst>
              <a:ahLst/>
              <a:rect l="textAreaLeft" t="textAreaTop" r="textAreaRight" b="textAreaBottom"/>
              <a:pathLst>
                <a:path w="125574" h="142875">
                  <a:moveTo>
                    <a:pt x="0" y="26789"/>
                  </a:moveTo>
                  <a:lnTo>
                    <a:pt x="3348" y="22324"/>
                  </a:lnTo>
                  <a:lnTo>
                    <a:pt x="8930" y="17859"/>
                  </a:lnTo>
                  <a:lnTo>
                    <a:pt x="17301" y="17859"/>
                  </a:lnTo>
                  <a:lnTo>
                    <a:pt x="26789" y="17859"/>
                  </a:lnTo>
                  <a:lnTo>
                    <a:pt x="35719" y="14511"/>
                  </a:lnTo>
                  <a:lnTo>
                    <a:pt x="44648" y="8930"/>
                  </a:lnTo>
                  <a:lnTo>
                    <a:pt x="53578" y="3349"/>
                  </a:lnTo>
                  <a:lnTo>
                    <a:pt x="62508" y="0"/>
                  </a:lnTo>
                  <a:lnTo>
                    <a:pt x="71437" y="3907"/>
                  </a:lnTo>
                  <a:lnTo>
                    <a:pt x="80367" y="8930"/>
                  </a:lnTo>
                  <a:lnTo>
                    <a:pt x="89297" y="8930"/>
                  </a:lnTo>
                  <a:lnTo>
                    <a:pt x="98226" y="8930"/>
                  </a:lnTo>
                  <a:lnTo>
                    <a:pt x="107714" y="12278"/>
                  </a:lnTo>
                  <a:lnTo>
                    <a:pt x="116086" y="17859"/>
                  </a:lnTo>
                  <a:lnTo>
                    <a:pt x="121667" y="26231"/>
                  </a:lnTo>
                  <a:lnTo>
                    <a:pt x="125015" y="35719"/>
                  </a:lnTo>
                  <a:lnTo>
                    <a:pt x="125574" y="44090"/>
                  </a:lnTo>
                  <a:lnTo>
                    <a:pt x="125015" y="53578"/>
                  </a:lnTo>
                  <a:lnTo>
                    <a:pt x="125574" y="66973"/>
                  </a:lnTo>
                  <a:lnTo>
                    <a:pt x="125015" y="80367"/>
                  </a:lnTo>
                  <a:lnTo>
                    <a:pt x="121667" y="90413"/>
                  </a:lnTo>
                  <a:lnTo>
                    <a:pt x="116086" y="98227"/>
                  </a:lnTo>
                  <a:lnTo>
                    <a:pt x="107714" y="107156"/>
                  </a:lnTo>
                  <a:lnTo>
                    <a:pt x="98226" y="116086"/>
                  </a:lnTo>
                  <a:lnTo>
                    <a:pt x="89297" y="125574"/>
                  </a:lnTo>
                  <a:lnTo>
                    <a:pt x="80367" y="133945"/>
                  </a:lnTo>
                  <a:lnTo>
                    <a:pt x="71437" y="140084"/>
                  </a:lnTo>
                  <a:lnTo>
                    <a:pt x="62508" y="142875"/>
                  </a:lnTo>
                  <a:lnTo>
                    <a:pt x="54694" y="138968"/>
                  </a:lnTo>
                  <a:lnTo>
                    <a:pt x="44648" y="133945"/>
                  </a:lnTo>
                  <a:lnTo>
                    <a:pt x="30138" y="133387"/>
                  </a:lnTo>
                  <a:lnTo>
                    <a:pt x="22882" y="133945"/>
                  </a:lnTo>
                  <a:lnTo>
                    <a:pt x="17859" y="133945"/>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0" name="aa28f61c-dc7e-468a-a806-84127d316058"/>
            <p:cNvSpPr/>
            <p:nvPr/>
          </p:nvSpPr>
          <p:spPr>
            <a:xfrm>
              <a:off x="7724520" y="955440"/>
              <a:ext cx="151560" cy="198000"/>
            </a:xfrm>
            <a:custGeom>
              <a:avLst/>
              <a:gdLst>
                <a:gd name="textAreaLeft" fmla="*/ 0 w 151560"/>
                <a:gd name="textAreaRight" fmla="*/ 151920 w 151560"/>
                <a:gd name="textAreaTop" fmla="*/ 0 h 198000"/>
                <a:gd name="textAreaBottom" fmla="*/ 198360 h 198000"/>
              </a:gdLst>
              <a:ahLst/>
              <a:rect l="textAreaLeft" t="textAreaTop" r="textAreaRight" b="textAreaBottom"/>
              <a:pathLst>
                <a:path w="151804" h="198127">
                  <a:moveTo>
                    <a:pt x="0" y="89296"/>
                  </a:moveTo>
                  <a:lnTo>
                    <a:pt x="2790" y="89296"/>
                  </a:lnTo>
                  <a:lnTo>
                    <a:pt x="8929" y="89296"/>
                  </a:lnTo>
                  <a:lnTo>
                    <a:pt x="21208" y="89855"/>
                  </a:lnTo>
                  <a:lnTo>
                    <a:pt x="35718" y="89296"/>
                  </a:lnTo>
                  <a:lnTo>
                    <a:pt x="49671" y="85948"/>
                  </a:lnTo>
                  <a:lnTo>
                    <a:pt x="62508" y="80367"/>
                  </a:lnTo>
                  <a:lnTo>
                    <a:pt x="72553" y="75902"/>
                  </a:lnTo>
                  <a:lnTo>
                    <a:pt x="80367" y="71437"/>
                  </a:lnTo>
                  <a:lnTo>
                    <a:pt x="89855" y="67530"/>
                  </a:lnTo>
                  <a:lnTo>
                    <a:pt x="98226" y="62507"/>
                  </a:lnTo>
                  <a:lnTo>
                    <a:pt x="103807" y="54136"/>
                  </a:lnTo>
                  <a:lnTo>
                    <a:pt x="107156" y="44648"/>
                  </a:lnTo>
                  <a:lnTo>
                    <a:pt x="107156" y="26789"/>
                  </a:lnTo>
                  <a:lnTo>
                    <a:pt x="103807" y="17301"/>
                  </a:lnTo>
                  <a:lnTo>
                    <a:pt x="98226" y="8929"/>
                  </a:lnTo>
                  <a:lnTo>
                    <a:pt x="90413" y="2790"/>
                  </a:lnTo>
                  <a:lnTo>
                    <a:pt x="80367" y="0"/>
                  </a:lnTo>
                  <a:lnTo>
                    <a:pt x="66414" y="2790"/>
                  </a:lnTo>
                  <a:lnTo>
                    <a:pt x="53578" y="8929"/>
                  </a:lnTo>
                  <a:lnTo>
                    <a:pt x="50787" y="11720"/>
                  </a:lnTo>
                  <a:lnTo>
                    <a:pt x="50229" y="14510"/>
                  </a:lnTo>
                  <a:lnTo>
                    <a:pt x="48555" y="18975"/>
                  </a:lnTo>
                  <a:lnTo>
                    <a:pt x="44648" y="26789"/>
                  </a:lnTo>
                  <a:lnTo>
                    <a:pt x="36835" y="40183"/>
                  </a:lnTo>
                  <a:lnTo>
                    <a:pt x="26231" y="56926"/>
                  </a:lnTo>
                  <a:lnTo>
                    <a:pt x="16185" y="74786"/>
                  </a:lnTo>
                  <a:lnTo>
                    <a:pt x="8929" y="89296"/>
                  </a:lnTo>
                  <a:lnTo>
                    <a:pt x="6697" y="100459"/>
                  </a:lnTo>
                  <a:lnTo>
                    <a:pt x="6697" y="108830"/>
                  </a:lnTo>
                  <a:lnTo>
                    <a:pt x="8929" y="125015"/>
                  </a:lnTo>
                  <a:lnTo>
                    <a:pt x="12836" y="143991"/>
                  </a:lnTo>
                  <a:lnTo>
                    <a:pt x="17859" y="160734"/>
                  </a:lnTo>
                  <a:lnTo>
                    <a:pt x="21766" y="175803"/>
                  </a:lnTo>
                  <a:lnTo>
                    <a:pt x="26789" y="187523"/>
                  </a:lnTo>
                  <a:lnTo>
                    <a:pt x="37393" y="193662"/>
                  </a:lnTo>
                  <a:lnTo>
                    <a:pt x="53578" y="196453"/>
                  </a:lnTo>
                  <a:lnTo>
                    <a:pt x="65298" y="197569"/>
                  </a:lnTo>
                  <a:lnTo>
                    <a:pt x="79251" y="198127"/>
                  </a:lnTo>
                  <a:lnTo>
                    <a:pt x="107156" y="196453"/>
                  </a:lnTo>
                  <a:lnTo>
                    <a:pt x="132829" y="187523"/>
                  </a:lnTo>
                  <a:lnTo>
                    <a:pt x="143991" y="182500"/>
                  </a:lnTo>
                  <a:lnTo>
                    <a:pt x="151804" y="178593"/>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1" name="f6d110c9-f55c-4150-94d7-cc7c17b9798d"/>
            <p:cNvSpPr/>
            <p:nvPr/>
          </p:nvSpPr>
          <p:spPr>
            <a:xfrm>
              <a:off x="7938360" y="982440"/>
              <a:ext cx="1054800" cy="240840"/>
            </a:xfrm>
            <a:custGeom>
              <a:avLst/>
              <a:gdLst>
                <a:gd name="textAreaLeft" fmla="*/ 0 w 1054800"/>
                <a:gd name="textAreaRight" fmla="*/ 1055160 w 1054800"/>
                <a:gd name="textAreaTop" fmla="*/ 0 h 240840"/>
                <a:gd name="textAreaBottom" fmla="*/ 241200 h 240840"/>
              </a:gdLst>
              <a:ahLst/>
              <a:rect l="textAreaLeft" t="textAreaTop" r="textAreaRight" b="textAreaBottom"/>
              <a:pathLst>
                <a:path w="1054819" h="241101">
                  <a:moveTo>
                    <a:pt x="63066" y="62507"/>
                  </a:moveTo>
                  <a:lnTo>
                    <a:pt x="67531" y="54694"/>
                  </a:lnTo>
                  <a:lnTo>
                    <a:pt x="71996" y="44648"/>
                  </a:lnTo>
                  <a:lnTo>
                    <a:pt x="71996" y="26789"/>
                  </a:lnTo>
                  <a:lnTo>
                    <a:pt x="68647" y="17301"/>
                  </a:lnTo>
                  <a:lnTo>
                    <a:pt x="63066" y="8929"/>
                  </a:lnTo>
                  <a:lnTo>
                    <a:pt x="55253" y="2790"/>
                  </a:lnTo>
                  <a:lnTo>
                    <a:pt x="45207" y="0"/>
                  </a:lnTo>
                  <a:lnTo>
                    <a:pt x="31254" y="2790"/>
                  </a:lnTo>
                  <a:lnTo>
                    <a:pt x="18418" y="8929"/>
                  </a:lnTo>
                  <a:lnTo>
                    <a:pt x="13395" y="16185"/>
                  </a:lnTo>
                  <a:lnTo>
                    <a:pt x="9488" y="26789"/>
                  </a:lnTo>
                  <a:lnTo>
                    <a:pt x="4465" y="44090"/>
                  </a:lnTo>
                  <a:lnTo>
                    <a:pt x="558" y="62507"/>
                  </a:lnTo>
                  <a:lnTo>
                    <a:pt x="0" y="76460"/>
                  </a:lnTo>
                  <a:lnTo>
                    <a:pt x="558" y="89297"/>
                  </a:lnTo>
                  <a:lnTo>
                    <a:pt x="2791" y="101575"/>
                  </a:lnTo>
                  <a:lnTo>
                    <a:pt x="9488" y="116086"/>
                  </a:lnTo>
                  <a:lnTo>
                    <a:pt x="16743" y="127248"/>
                  </a:lnTo>
                  <a:lnTo>
                    <a:pt x="26789" y="139526"/>
                  </a:lnTo>
                  <a:lnTo>
                    <a:pt x="36277" y="151804"/>
                  </a:lnTo>
                  <a:lnTo>
                    <a:pt x="45207" y="160734"/>
                  </a:lnTo>
                  <a:lnTo>
                    <a:pt x="58601" y="168547"/>
                  </a:lnTo>
                  <a:lnTo>
                    <a:pt x="71996" y="169664"/>
                  </a:lnTo>
                  <a:lnTo>
                    <a:pt x="89855" y="166873"/>
                  </a:lnTo>
                  <a:lnTo>
                    <a:pt x="107714" y="160734"/>
                  </a:lnTo>
                  <a:lnTo>
                    <a:pt x="121667" y="152921"/>
                  </a:lnTo>
                  <a:lnTo>
                    <a:pt x="134504" y="142875"/>
                  </a:lnTo>
                  <a:lnTo>
                    <a:pt x="147898" y="130038"/>
                  </a:lnTo>
                  <a:lnTo>
                    <a:pt x="161293" y="116086"/>
                  </a:lnTo>
                  <a:lnTo>
                    <a:pt x="175803" y="102691"/>
                  </a:lnTo>
                  <a:lnTo>
                    <a:pt x="188082" y="89297"/>
                  </a:lnTo>
                  <a:lnTo>
                    <a:pt x="193663" y="75344"/>
                  </a:lnTo>
                  <a:lnTo>
                    <a:pt x="197011" y="62507"/>
                  </a:lnTo>
                  <a:lnTo>
                    <a:pt x="202592" y="49671"/>
                  </a:lnTo>
                  <a:lnTo>
                    <a:pt x="204825" y="45206"/>
                  </a:lnTo>
                  <a:lnTo>
                    <a:pt x="205941" y="44648"/>
                  </a:lnTo>
                  <a:lnTo>
                    <a:pt x="206499" y="50229"/>
                  </a:lnTo>
                  <a:lnTo>
                    <a:pt x="206499" y="60275"/>
                  </a:lnTo>
                  <a:lnTo>
                    <a:pt x="205941" y="70879"/>
                  </a:lnTo>
                  <a:lnTo>
                    <a:pt x="205941" y="80367"/>
                  </a:lnTo>
                  <a:lnTo>
                    <a:pt x="205383" y="94319"/>
                  </a:lnTo>
                  <a:lnTo>
                    <a:pt x="205941" y="107156"/>
                  </a:lnTo>
                  <a:lnTo>
                    <a:pt x="210406" y="121109"/>
                  </a:lnTo>
                  <a:lnTo>
                    <a:pt x="214871" y="133945"/>
                  </a:lnTo>
                  <a:lnTo>
                    <a:pt x="214313" y="143991"/>
                  </a:lnTo>
                  <a:lnTo>
                    <a:pt x="214871" y="151804"/>
                  </a:lnTo>
                  <a:lnTo>
                    <a:pt x="222126" y="162966"/>
                  </a:lnTo>
                  <a:lnTo>
                    <a:pt x="227149" y="167989"/>
                  </a:lnTo>
                  <a:lnTo>
                    <a:pt x="232730" y="169664"/>
                  </a:lnTo>
                  <a:lnTo>
                    <a:pt x="239427" y="167989"/>
                  </a:lnTo>
                  <a:lnTo>
                    <a:pt x="247241" y="163525"/>
                  </a:lnTo>
                  <a:lnTo>
                    <a:pt x="259519" y="151804"/>
                  </a:lnTo>
                  <a:lnTo>
                    <a:pt x="265100" y="138410"/>
                  </a:lnTo>
                  <a:lnTo>
                    <a:pt x="268449" y="125015"/>
                  </a:lnTo>
                  <a:lnTo>
                    <a:pt x="272914" y="116086"/>
                  </a:lnTo>
                  <a:lnTo>
                    <a:pt x="277379" y="107156"/>
                  </a:lnTo>
                  <a:lnTo>
                    <a:pt x="281843" y="94319"/>
                  </a:lnTo>
                  <a:lnTo>
                    <a:pt x="286308" y="80367"/>
                  </a:lnTo>
                  <a:lnTo>
                    <a:pt x="291889" y="66414"/>
                  </a:lnTo>
                  <a:lnTo>
                    <a:pt x="295238" y="53578"/>
                  </a:lnTo>
                  <a:lnTo>
                    <a:pt x="296354" y="41858"/>
                  </a:lnTo>
                  <a:lnTo>
                    <a:pt x="296354" y="37393"/>
                  </a:lnTo>
                  <a:lnTo>
                    <a:pt x="295238" y="35718"/>
                  </a:lnTo>
                  <a:lnTo>
                    <a:pt x="291889" y="40741"/>
                  </a:lnTo>
                  <a:lnTo>
                    <a:pt x="286308" y="53578"/>
                  </a:lnTo>
                  <a:lnTo>
                    <a:pt x="284076" y="63624"/>
                  </a:lnTo>
                  <a:lnTo>
                    <a:pt x="281285" y="75344"/>
                  </a:lnTo>
                  <a:lnTo>
                    <a:pt x="279053" y="87622"/>
                  </a:lnTo>
                  <a:lnTo>
                    <a:pt x="277379" y="98226"/>
                  </a:lnTo>
                  <a:lnTo>
                    <a:pt x="276820" y="112737"/>
                  </a:lnTo>
                  <a:lnTo>
                    <a:pt x="277379" y="125015"/>
                  </a:lnTo>
                  <a:lnTo>
                    <a:pt x="280727" y="138968"/>
                  </a:lnTo>
                  <a:lnTo>
                    <a:pt x="286308" y="151804"/>
                  </a:lnTo>
                  <a:lnTo>
                    <a:pt x="304168" y="169664"/>
                  </a:lnTo>
                  <a:lnTo>
                    <a:pt x="317562" y="175803"/>
                  </a:lnTo>
                  <a:lnTo>
                    <a:pt x="330957" y="178593"/>
                  </a:lnTo>
                  <a:lnTo>
                    <a:pt x="341003" y="175803"/>
                  </a:lnTo>
                  <a:lnTo>
                    <a:pt x="348816" y="169664"/>
                  </a:lnTo>
                  <a:lnTo>
                    <a:pt x="357188" y="162966"/>
                  </a:lnTo>
                  <a:lnTo>
                    <a:pt x="366675" y="151804"/>
                  </a:lnTo>
                  <a:lnTo>
                    <a:pt x="373373" y="142317"/>
                  </a:lnTo>
                  <a:lnTo>
                    <a:pt x="380070" y="130596"/>
                  </a:lnTo>
                  <a:lnTo>
                    <a:pt x="387325" y="117760"/>
                  </a:lnTo>
                  <a:lnTo>
                    <a:pt x="393464" y="107156"/>
                  </a:lnTo>
                  <a:lnTo>
                    <a:pt x="403510" y="92645"/>
                  </a:lnTo>
                  <a:lnTo>
                    <a:pt x="411324" y="80367"/>
                  </a:lnTo>
                  <a:lnTo>
                    <a:pt x="420812" y="66414"/>
                  </a:lnTo>
                  <a:lnTo>
                    <a:pt x="429183" y="53578"/>
                  </a:lnTo>
                  <a:lnTo>
                    <a:pt x="433648" y="43532"/>
                  </a:lnTo>
                  <a:lnTo>
                    <a:pt x="438113" y="35718"/>
                  </a:lnTo>
                  <a:lnTo>
                    <a:pt x="446484" y="28463"/>
                  </a:lnTo>
                  <a:lnTo>
                    <a:pt x="451507" y="26231"/>
                  </a:lnTo>
                  <a:lnTo>
                    <a:pt x="455972" y="26789"/>
                  </a:lnTo>
                  <a:lnTo>
                    <a:pt x="460995" y="31254"/>
                  </a:lnTo>
                  <a:lnTo>
                    <a:pt x="466018" y="38509"/>
                  </a:lnTo>
                  <a:lnTo>
                    <a:pt x="473832" y="53578"/>
                  </a:lnTo>
                  <a:lnTo>
                    <a:pt x="474948" y="63624"/>
                  </a:lnTo>
                  <a:lnTo>
                    <a:pt x="473832" y="71437"/>
                  </a:lnTo>
                  <a:lnTo>
                    <a:pt x="473832" y="89297"/>
                  </a:lnTo>
                  <a:lnTo>
                    <a:pt x="478296" y="97668"/>
                  </a:lnTo>
                  <a:lnTo>
                    <a:pt x="482761" y="107156"/>
                  </a:lnTo>
                  <a:lnTo>
                    <a:pt x="483319" y="120550"/>
                  </a:lnTo>
                  <a:lnTo>
                    <a:pt x="482761" y="133945"/>
                  </a:lnTo>
                  <a:lnTo>
                    <a:pt x="482761" y="146223"/>
                  </a:lnTo>
                  <a:lnTo>
                    <a:pt x="482761" y="150688"/>
                  </a:lnTo>
                  <a:lnTo>
                    <a:pt x="482761" y="151804"/>
                  </a:lnTo>
                  <a:lnTo>
                    <a:pt x="482761" y="148456"/>
                  </a:lnTo>
                  <a:lnTo>
                    <a:pt x="482203" y="141200"/>
                  </a:lnTo>
                  <a:lnTo>
                    <a:pt x="482203" y="132271"/>
                  </a:lnTo>
                  <a:lnTo>
                    <a:pt x="482761" y="125015"/>
                  </a:lnTo>
                  <a:lnTo>
                    <a:pt x="486668" y="116644"/>
                  </a:lnTo>
                  <a:lnTo>
                    <a:pt x="491691" y="107156"/>
                  </a:lnTo>
                  <a:lnTo>
                    <a:pt x="496156" y="89297"/>
                  </a:lnTo>
                  <a:lnTo>
                    <a:pt x="500621" y="71437"/>
                  </a:lnTo>
                  <a:lnTo>
                    <a:pt x="504527" y="61391"/>
                  </a:lnTo>
                  <a:lnTo>
                    <a:pt x="509550" y="53578"/>
                  </a:lnTo>
                  <a:lnTo>
                    <a:pt x="517364" y="44090"/>
                  </a:lnTo>
                  <a:lnTo>
                    <a:pt x="527410" y="35718"/>
                  </a:lnTo>
                  <a:lnTo>
                    <a:pt x="540804" y="33486"/>
                  </a:lnTo>
                  <a:lnTo>
                    <a:pt x="554199" y="35718"/>
                  </a:lnTo>
                  <a:lnTo>
                    <a:pt x="564245" y="44090"/>
                  </a:lnTo>
                  <a:lnTo>
                    <a:pt x="572058" y="53578"/>
                  </a:lnTo>
                  <a:lnTo>
                    <a:pt x="577081" y="61949"/>
                  </a:lnTo>
                  <a:lnTo>
                    <a:pt x="580988" y="71437"/>
                  </a:lnTo>
                  <a:lnTo>
                    <a:pt x="586569" y="84832"/>
                  </a:lnTo>
                  <a:lnTo>
                    <a:pt x="589918" y="98226"/>
                  </a:lnTo>
                  <a:lnTo>
                    <a:pt x="589918" y="107156"/>
                  </a:lnTo>
                  <a:lnTo>
                    <a:pt x="589918" y="116086"/>
                  </a:lnTo>
                  <a:lnTo>
                    <a:pt x="594382" y="129480"/>
                  </a:lnTo>
                  <a:lnTo>
                    <a:pt x="598847" y="142875"/>
                  </a:lnTo>
                  <a:lnTo>
                    <a:pt x="597731" y="152921"/>
                  </a:lnTo>
                  <a:lnTo>
                    <a:pt x="597173" y="156827"/>
                  </a:lnTo>
                  <a:lnTo>
                    <a:pt x="598847" y="160734"/>
                  </a:lnTo>
                  <a:lnTo>
                    <a:pt x="610567" y="171896"/>
                  </a:lnTo>
                  <a:lnTo>
                    <a:pt x="618381" y="176919"/>
                  </a:lnTo>
                  <a:lnTo>
                    <a:pt x="625636" y="178593"/>
                  </a:lnTo>
                  <a:lnTo>
                    <a:pt x="632334" y="176919"/>
                  </a:lnTo>
                  <a:lnTo>
                    <a:pt x="638473" y="172454"/>
                  </a:lnTo>
                  <a:lnTo>
                    <a:pt x="652425" y="160734"/>
                  </a:lnTo>
                  <a:lnTo>
                    <a:pt x="671401" y="147339"/>
                  </a:lnTo>
                  <a:lnTo>
                    <a:pt x="680889" y="140642"/>
                  </a:lnTo>
                  <a:lnTo>
                    <a:pt x="688144" y="133945"/>
                  </a:lnTo>
                  <a:lnTo>
                    <a:pt x="692609" y="128922"/>
                  </a:lnTo>
                  <a:lnTo>
                    <a:pt x="694283" y="125015"/>
                  </a:lnTo>
                  <a:lnTo>
                    <a:pt x="697074" y="116086"/>
                  </a:lnTo>
                  <a:lnTo>
                    <a:pt x="701539" y="102691"/>
                  </a:lnTo>
                  <a:lnTo>
                    <a:pt x="706004" y="89297"/>
                  </a:lnTo>
                  <a:lnTo>
                    <a:pt x="711585" y="79809"/>
                  </a:lnTo>
                  <a:lnTo>
                    <a:pt x="714933" y="71437"/>
                  </a:lnTo>
                  <a:lnTo>
                    <a:pt x="715491" y="60275"/>
                  </a:lnTo>
                  <a:lnTo>
                    <a:pt x="714933" y="55252"/>
                  </a:lnTo>
                  <a:lnTo>
                    <a:pt x="714933" y="53578"/>
                  </a:lnTo>
                  <a:lnTo>
                    <a:pt x="714933" y="57484"/>
                  </a:lnTo>
                  <a:lnTo>
                    <a:pt x="714933" y="64740"/>
                  </a:lnTo>
                  <a:lnTo>
                    <a:pt x="714933" y="73111"/>
                  </a:lnTo>
                  <a:lnTo>
                    <a:pt x="714933" y="80367"/>
                  </a:lnTo>
                  <a:lnTo>
                    <a:pt x="714375" y="90413"/>
                  </a:lnTo>
                  <a:lnTo>
                    <a:pt x="714933" y="98226"/>
                  </a:lnTo>
                  <a:lnTo>
                    <a:pt x="719398" y="106598"/>
                  </a:lnTo>
                  <a:lnTo>
                    <a:pt x="723863" y="116086"/>
                  </a:lnTo>
                  <a:lnTo>
                    <a:pt x="723863" y="129480"/>
                  </a:lnTo>
                  <a:lnTo>
                    <a:pt x="723863" y="142875"/>
                  </a:lnTo>
                  <a:lnTo>
                    <a:pt x="727212" y="152921"/>
                  </a:lnTo>
                  <a:lnTo>
                    <a:pt x="732793" y="160734"/>
                  </a:lnTo>
                  <a:lnTo>
                    <a:pt x="741164" y="170780"/>
                  </a:lnTo>
                  <a:lnTo>
                    <a:pt x="750652" y="178593"/>
                  </a:lnTo>
                  <a:lnTo>
                    <a:pt x="759024" y="180268"/>
                  </a:lnTo>
                  <a:lnTo>
                    <a:pt x="768511" y="178593"/>
                  </a:lnTo>
                  <a:lnTo>
                    <a:pt x="781906" y="175245"/>
                  </a:lnTo>
                  <a:lnTo>
                    <a:pt x="795300" y="169664"/>
                  </a:lnTo>
                  <a:lnTo>
                    <a:pt x="805346" y="161292"/>
                  </a:lnTo>
                  <a:lnTo>
                    <a:pt x="813160" y="151804"/>
                  </a:lnTo>
                  <a:lnTo>
                    <a:pt x="818183" y="142875"/>
                  </a:lnTo>
                  <a:lnTo>
                    <a:pt x="822089" y="133945"/>
                  </a:lnTo>
                  <a:lnTo>
                    <a:pt x="831019" y="116086"/>
                  </a:lnTo>
                  <a:lnTo>
                    <a:pt x="839949" y="98226"/>
                  </a:lnTo>
                  <a:lnTo>
                    <a:pt x="845530" y="87064"/>
                  </a:lnTo>
                  <a:lnTo>
                    <a:pt x="847762" y="82599"/>
                  </a:lnTo>
                  <a:lnTo>
                    <a:pt x="848879" y="80367"/>
                  </a:lnTo>
                  <a:lnTo>
                    <a:pt x="849437" y="82599"/>
                  </a:lnTo>
                  <a:lnTo>
                    <a:pt x="849437" y="87064"/>
                  </a:lnTo>
                  <a:lnTo>
                    <a:pt x="848879" y="98226"/>
                  </a:lnTo>
                  <a:lnTo>
                    <a:pt x="848320" y="105482"/>
                  </a:lnTo>
                  <a:lnTo>
                    <a:pt x="848879" y="116086"/>
                  </a:lnTo>
                  <a:lnTo>
                    <a:pt x="850553" y="126131"/>
                  </a:lnTo>
                  <a:lnTo>
                    <a:pt x="852785" y="138410"/>
                  </a:lnTo>
                  <a:lnTo>
                    <a:pt x="855576" y="151246"/>
                  </a:lnTo>
                  <a:lnTo>
                    <a:pt x="857808" y="160734"/>
                  </a:lnTo>
                  <a:lnTo>
                    <a:pt x="861715" y="171896"/>
                  </a:lnTo>
                  <a:lnTo>
                    <a:pt x="866738" y="178593"/>
                  </a:lnTo>
                  <a:lnTo>
                    <a:pt x="873435" y="184733"/>
                  </a:lnTo>
                  <a:lnTo>
                    <a:pt x="884597" y="187523"/>
                  </a:lnTo>
                  <a:lnTo>
                    <a:pt x="894643" y="186965"/>
                  </a:lnTo>
                  <a:lnTo>
                    <a:pt x="907480" y="185291"/>
                  </a:lnTo>
                  <a:lnTo>
                    <a:pt x="919758" y="182500"/>
                  </a:lnTo>
                  <a:lnTo>
                    <a:pt x="929246" y="178593"/>
                  </a:lnTo>
                  <a:lnTo>
                    <a:pt x="933711" y="173570"/>
                  </a:lnTo>
                  <a:lnTo>
                    <a:pt x="935385" y="166315"/>
                  </a:lnTo>
                  <a:lnTo>
                    <a:pt x="938175" y="151804"/>
                  </a:lnTo>
                  <a:lnTo>
                    <a:pt x="947105" y="138410"/>
                  </a:lnTo>
                  <a:lnTo>
                    <a:pt x="956035" y="125015"/>
                  </a:lnTo>
                  <a:lnTo>
                    <a:pt x="964964" y="98226"/>
                  </a:lnTo>
                  <a:lnTo>
                    <a:pt x="964406" y="84274"/>
                  </a:lnTo>
                  <a:lnTo>
                    <a:pt x="964964" y="71437"/>
                  </a:lnTo>
                  <a:lnTo>
                    <a:pt x="971662" y="59159"/>
                  </a:lnTo>
                  <a:lnTo>
                    <a:pt x="976685" y="54694"/>
                  </a:lnTo>
                  <a:lnTo>
                    <a:pt x="982824" y="53578"/>
                  </a:lnTo>
                  <a:lnTo>
                    <a:pt x="991195" y="57484"/>
                  </a:lnTo>
                  <a:lnTo>
                    <a:pt x="1001241" y="64182"/>
                  </a:lnTo>
                  <a:lnTo>
                    <a:pt x="1011287" y="72553"/>
                  </a:lnTo>
                  <a:lnTo>
                    <a:pt x="1018543" y="80367"/>
                  </a:lnTo>
                  <a:lnTo>
                    <a:pt x="1022449" y="86506"/>
                  </a:lnTo>
                  <a:lnTo>
                    <a:pt x="1024124" y="92087"/>
                  </a:lnTo>
                  <a:lnTo>
                    <a:pt x="1024682" y="98784"/>
                  </a:lnTo>
                  <a:lnTo>
                    <a:pt x="1027472" y="107156"/>
                  </a:lnTo>
                  <a:lnTo>
                    <a:pt x="1033611" y="119434"/>
                  </a:lnTo>
                  <a:lnTo>
                    <a:pt x="1041983" y="134503"/>
                  </a:lnTo>
                  <a:lnTo>
                    <a:pt x="1049796" y="149572"/>
                  </a:lnTo>
                  <a:lnTo>
                    <a:pt x="1054261" y="160734"/>
                  </a:lnTo>
                  <a:lnTo>
                    <a:pt x="1054819" y="167431"/>
                  </a:lnTo>
                  <a:lnTo>
                    <a:pt x="1052587" y="171338"/>
                  </a:lnTo>
                  <a:lnTo>
                    <a:pt x="1045332" y="178593"/>
                  </a:lnTo>
                  <a:lnTo>
                    <a:pt x="1038076" y="191988"/>
                  </a:lnTo>
                  <a:lnTo>
                    <a:pt x="1027472" y="205382"/>
                  </a:lnTo>
                  <a:lnTo>
                    <a:pt x="1009613" y="215428"/>
                  </a:lnTo>
                  <a:lnTo>
                    <a:pt x="991754" y="223242"/>
                  </a:lnTo>
                  <a:lnTo>
                    <a:pt x="980591" y="233288"/>
                  </a:lnTo>
                  <a:lnTo>
                    <a:pt x="973894" y="241101"/>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2" name="f8fcad1b-845e-4a59-8b40-dacf87e29e46"/>
            <p:cNvSpPr/>
            <p:nvPr/>
          </p:nvSpPr>
          <p:spPr>
            <a:xfrm>
              <a:off x="8662320" y="91980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30">
                  <a:moveTo>
                    <a:pt x="0" y="0"/>
                  </a:moveTo>
                  <a:lnTo>
                    <a:pt x="4465" y="4465"/>
                  </a:lnTo>
                  <a:lnTo>
                    <a:pt x="8930" y="8930"/>
                  </a:lnTo>
                </a:path>
              </a:pathLst>
            </a:custGeom>
            <a:noFill/>
            <a:ln w="17640">
              <a:solidFill>
                <a:srgbClr val="ff0000"/>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73" name="f231bbae-c030-47ec-a943-93349cc623f5"/>
            <p:cNvSpPr/>
            <p:nvPr/>
          </p:nvSpPr>
          <p:spPr>
            <a:xfrm>
              <a:off x="8805240" y="937440"/>
              <a:ext cx="8640" cy="360"/>
            </a:xfrm>
            <a:custGeom>
              <a:avLst/>
              <a:gdLst/>
              <a:ahLst/>
              <a:rect l="l" t="t" r="r" b="b"/>
              <a:pathLst>
                <a:path w="8930" h="0">
                  <a:moveTo>
                    <a:pt x="8930" y="0"/>
                  </a:moveTo>
                  <a:lnTo>
                    <a:pt x="4465" y="0"/>
                  </a:lnTo>
                  <a:lnTo>
                    <a:pt x="0" y="0"/>
                  </a:lnTo>
                </a:path>
              </a:pathLst>
            </a:custGeom>
            <a:noFill/>
            <a:ln w="17640">
              <a:solidFill>
                <a:srgbClr val="ff0000"/>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a:t>
            </a:r>
            <a:r>
              <a:rPr b="1" lang="it-IT" sz="2000" spc="-1" strike="noStrike">
                <a:solidFill>
                  <a:srgbClr val="00b0f0"/>
                </a:solidFill>
                <a:latin typeface="Times New Roman"/>
                <a:ea typeface="Calibri"/>
              </a:rPr>
              <a:t>63</a:t>
            </a:r>
            <a:r>
              <a:rPr b="0" lang="it-IT" sz="2000" spc="-1" strike="noStrike">
                <a:solidFill>
                  <a:srgbClr val="000000"/>
                </a:solidFill>
                <a:latin typeface="Times New Roman"/>
                <a:ea typeface="Calibri"/>
              </a:rPr>
              <a:t> fu eletto</a:t>
            </a:r>
            <a:r>
              <a:rPr b="1" lang="it-IT" sz="2000" spc="-1" strike="noStrike">
                <a:solidFill>
                  <a:srgbClr val="00b0f0"/>
                </a:solidFill>
                <a:latin typeface="Times New Roman"/>
                <a:ea typeface="Calibri"/>
              </a:rPr>
              <a:t> console </a:t>
            </a:r>
            <a:r>
              <a:rPr b="0" lang="it-IT" sz="2000" spc="-1" strike="noStrike">
                <a:solidFill>
                  <a:srgbClr val="000000"/>
                </a:solidFill>
                <a:latin typeface="Times New Roman"/>
                <a:ea typeface="Calibri"/>
              </a:rPr>
              <a:t>e soffocò in modo duro la congiura di Catil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 </a:t>
            </a:r>
            <a:r>
              <a:rPr b="1" i="1" lang="it-IT" sz="2000" spc="-1" strike="noStrike">
                <a:solidFill>
                  <a:srgbClr val="00b0f0"/>
                </a:solidFill>
                <a:latin typeface="Times New Roman"/>
                <a:ea typeface="Calibri"/>
              </a:rPr>
              <a:t>Catilinarie</a:t>
            </a:r>
            <a:r>
              <a:rPr b="0" lang="it-IT" sz="2000" spc="-1" strike="noStrike">
                <a:solidFill>
                  <a:srgbClr val="000000"/>
                </a:solidFill>
                <a:latin typeface="Times New Roman"/>
                <a:ea typeface="Calibri"/>
              </a:rPr>
              <a:t> , cariche di </a:t>
            </a:r>
            <a:r>
              <a:rPr b="0" i="1" lang="it-IT" sz="2000" spc="-1" strike="noStrike">
                <a:solidFill>
                  <a:srgbClr val="000000"/>
                </a:solidFill>
                <a:latin typeface="Times New Roman"/>
                <a:ea typeface="Calibri"/>
              </a:rPr>
              <a:t>pathos</a:t>
            </a:r>
            <a:r>
              <a:rPr b="0" lang="it-IT" sz="2000" spc="-1" strike="noStrike">
                <a:solidFill>
                  <a:srgbClr val="000000"/>
                </a:solidFill>
                <a:latin typeface="Times New Roman"/>
                <a:ea typeface="Calibri"/>
              </a:rPr>
              <a:t> , il suo capolavoro consol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Calibri"/>
              </a:rPr>
              <a:t>( Quo usque tandem abutere , Catilina , patientia nostra ? </a:t>
            </a:r>
            <a:r>
              <a:rPr b="0" lang="it-IT" sz="2000" spc="-1" strike="noStrike">
                <a:solidFill>
                  <a:srgbClr val="000000"/>
                </a:solidFill>
                <a:latin typeface="Times New Roman"/>
                <a:ea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0  primo triunvirato, il suo astro iniziò a decad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8, per  l' accusa  da parte del tribuno Clo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i aver messo a morte senza processo i complici di Cati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ovette recarsi in esilio e la sua casa venne rasa al suolo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7 viene richiamato a Roma , grazie anche a Milone, vi rientrò trionfalmente </a:t>
            </a:r>
            <a:r>
              <a:rPr b="1" i="1" lang="it-IT" sz="2000" spc="-1" strike="noStrike">
                <a:solidFill>
                  <a:srgbClr val="00b0f0"/>
                </a:solidFill>
                <a:latin typeface="Times New Roman"/>
                <a:ea typeface="Calibri"/>
              </a:rPr>
              <a:t>Pro domo su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Immagine 5" descr=""/>
          <p:cNvPicPr/>
          <p:nvPr/>
        </p:nvPicPr>
        <p:blipFill>
          <a:blip r:embed="rId1"/>
          <a:stretch/>
        </p:blipFill>
        <p:spPr>
          <a:xfrm>
            <a:off x="682560" y="542880"/>
            <a:ext cx="8137440" cy="5479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itolo 3"/>
          <p:cNvSpPr/>
          <p:nvPr/>
        </p:nvSpPr>
        <p:spPr>
          <a:xfrm>
            <a:off x="692280" y="48564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Immagine 5" descr=""/>
          <p:cNvPicPr/>
          <p:nvPr/>
        </p:nvPicPr>
        <p:blipFill>
          <a:blip r:embed="rId1"/>
          <a:stretch/>
        </p:blipFill>
        <p:spPr>
          <a:xfrm>
            <a:off x="469800" y="255600"/>
            <a:ext cx="8429760" cy="613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Le orazioni</a:t>
            </a:r>
            <a:endParaRPr b="0" lang="en-US" sz="2800" spc="-1" strike="noStrike">
              <a:solidFill>
                <a:srgbClr val="000000"/>
              </a:solidFill>
              <a:latin typeface="Calibri"/>
            </a:endParaRPr>
          </a:p>
        </p:txBody>
      </p:sp>
      <p:sp>
        <p:nvSpPr>
          <p:cNvPr id="85" name=""/>
          <p:cNvSpPr txBox="1"/>
          <p:nvPr/>
        </p:nvSpPr>
        <p:spPr>
          <a:xfrm>
            <a:off x="468360" y="836640"/>
            <a:ext cx="8229600" cy="6021360"/>
          </a:xfrm>
          <a:prstGeom prst="rect">
            <a:avLst/>
          </a:prstGeom>
          <a:noFill/>
          <a:ln w="28440">
            <a:solidFill>
              <a:srgbClr val="558ed5"/>
            </a:solidFill>
            <a:miter/>
          </a:ln>
        </p:spPr>
        <p:txBody>
          <a:bodyPr anchor="t">
            <a:normAutofit fontScale="96000"/>
          </a:bodyPr>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Gli esordi</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Sexto Roscio Armerino (80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occasione il </a:t>
            </a:r>
            <a:r>
              <a:rPr b="1" lang="it-IT" sz="1600" spc="-1" strike="noStrike">
                <a:solidFill>
                  <a:srgbClr val="000000"/>
                </a:solidFill>
                <a:latin typeface="Symbol"/>
                <a:ea typeface="Symbol"/>
              </a:rPr>
              <a:t></a:t>
            </a:r>
            <a:r>
              <a:rPr b="1" lang="it-IT" sz="1600" spc="-1" strike="noStrike">
                <a:solidFill>
                  <a:srgbClr val="000000"/>
                </a:solidFill>
                <a:latin typeface="Times New Roman"/>
                <a:ea typeface="Times New Roman"/>
              </a:rPr>
              <a:t>òs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Verrine   7 (70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Cicerone  all’apice del successo:</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Catilinarie 4 (63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Il ritorno trionfale  dall’esilio:</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domo sua (57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A proposito di Clodia…</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Caelio (56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orazione perfetta mai pronunciata:</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Milone (52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Gli ultimi fuochi:</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Filippiche 14 (44-43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endParaRPr b="0" lang="en-US" sz="1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0:14:40Z</dcterms:created>
  <dc:creator>pussia</dc:creator>
  <dc:description/>
  <dc:language>en-US</dc:language>
  <cp:lastModifiedBy>pussia</cp:lastModifiedBy>
  <dcterms:modified xsi:type="dcterms:W3CDTF">2012-10-04T20:43:40Z</dcterms:modified>
  <cp:revision>21</cp:revision>
  <dc:subject/>
  <dc:title>Marco Tullio Cicerone   Dopo il giudizio negativo del Momsen (“superficiale” “giornalista nel senso peggiore del termine” “poco lungimirante” ,in Storia di Roma antica, 1973)  La critica ha corretto il tiro  Oggi si tende ad individuare le complesse sfaccettature della sua personalità intellettuale  Sebastiano Timpanaro: da homo novus vuole “portare energie fresche e una maggiore onestà amministrativa a un regime che bisognava a tutti i costi difendere” base di consenso alla classe dirigente. Per stabilire un terreno di intesa fra la classe di governo e i settori della sociatà che la sostengono</dc:title>
</cp:coreProperties>
</file>